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1F9-D77E-4931-977F-52C60C97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47C9-C6F4-4551-853D-E94F32D9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52CAF-2FFE-46FB-A039-2CFA09581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3C26CE-4048-4666-974F-4084A892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3093D2-A448-4B50-97BD-18140FBA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7FCB-84E1-4217-B018-B269DA8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0D2BA-B60C-4FCA-AA09-1E81F409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67131-24F6-416F-A400-9BA8F77B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A591-DD28-4E2A-803B-E5A5C77E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667EC-91EB-4472-88B2-DDE9A48B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07706-0540-48BB-92B7-3431AA27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AF5F4-0F43-47F9-BECB-4C60F939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394-6984-47EF-B889-5AB91AE4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4FC68-02C9-4510-8FC6-2A192420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2992B-294C-4435-A965-24CD22B6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02A83-AB72-4A43-B473-86F48268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DB400-BF74-4C3F-9E1E-9A75BBA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E1FB5-64A1-4DB8-8B71-DB4E5C79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8CF88-4A68-484B-A1A5-E79BE1F2E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99340-35D1-4CBE-BF24-0AFE47F5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DC68B-EFB1-4355-8FF3-48EB5EFE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95B70-DE06-4DFF-91F3-5E16F31D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4398C-C56C-4A8D-92DE-BD2096F8E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F611-F14F-4E09-9E84-9D196B80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A59C0-FDA6-471B-AE86-6E02F3C2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28E18-C9A4-4E56-A931-2A13AFA9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8571C-CEBC-4833-992F-B539AFBF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5A2AD2-475C-403C-AEA9-5CFA939A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D9181-82BC-40D1-BE57-67948420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9109B-AA6A-409A-9232-69C4B16D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AA6CF-7658-4215-B161-32A0FE1C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46B12-DE61-4A02-A6BE-01EE1093E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33AAA-F5B6-4A56-A9FC-E4F6AA7C6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DB9FA-A108-419F-98BD-DCEB9D7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1FDFC-AF43-42C8-8E08-9F620827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38927-4A20-4FA1-81CB-6842D270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7C5BB-EB2D-4077-9244-EC761578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878C6-EEFD-4E45-B4EE-8670F23F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833E-AF3A-47DE-9482-D8464B40D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28D348-B05A-4DAF-A58A-914F05B86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C2D61-E9EF-4FE3-BF2C-1C4BED4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04C22-B3F5-4901-B1EB-8D08CC35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E8D3C-F75E-4CDB-95AE-4BCDE69B3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6CC30-1234-42FE-B7F6-1A49D7F1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5AE10B-6254-4613-ABD5-4E625A81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7EC6-B6E1-4A41-9C12-8D99B879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DB538E-8D71-4C1A-B6FA-DAC60B70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06CAB-B15A-4F4E-BB4B-AC3DE012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73CF7-ACDB-488A-ABE8-DDEFFBA3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2162A-4A5A-4495-A362-DAAF5822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3EE96-C277-4012-9A82-5C3E73DA0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6FEDC-AF46-45EA-A1D1-A0975605F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06782-38B9-44D1-B025-B70850AF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301AE1-E9AA-400E-B4EE-CF047870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1F8B8-7EA3-43CA-9BCE-CC87FF5B6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6E0FE-F17A-47F2-AED0-389A83E4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5356-28F5-415B-B7C6-D47605E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05273-CA13-45CB-9B6B-D175C07B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CB614-48E5-497F-A27E-56F2E309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7E5F1B-0C20-477B-8C42-84A13A4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FE97E4-B286-413B-B463-4D53AA3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FCE56F-9F38-48ED-95EB-9E3F140F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9B03F2-85BE-4A79-B386-07BB4686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41EEE-C00F-4D3A-80A7-54D9AC3FE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443F6-C00A-4EC2-B802-3B85D9FD9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E7B61-2C4D-4E90-A31D-238D3FB4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DA332-61EB-4CEB-AB8B-B1CA8E8B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3022-B87C-4280-8B20-C1928CC1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CE59E-9DCE-4908-8938-88ADB13C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23C73-2023-4DA1-8EC2-2A6BC0F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848A04-10A8-420E-AFAE-192EB601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9E0B28-985B-4EBC-B589-E8D4AD4E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555713-357C-4CC4-9589-F85DF3370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771800-AC8A-465B-BC3E-D9E6876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73C13-9691-4B24-B11A-2FE1484A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E253B-3A1F-4897-AEF2-109BCDDA6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10822-21DA-4FF5-BF17-1C5432A16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81A2D3-762D-47D5-BB9C-2F6233B9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3092-4307-4F2A-9E33-609FC65A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B7CCC1-A6ED-4064-86DE-76982139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19ED4-E4D9-45C5-A0B5-DDE70FDF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88D85-2E29-4142-9D8A-DBE56EF4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02561F-8942-4388-927D-472EF13C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6B0424-2CDF-47E4-AFC4-E56C5AA8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7A0BF9-B96B-43D3-AE69-EBF29EC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8463D-B72D-4593-A8AC-C1CF4EAA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9CD70-A787-4E4C-A85C-D05AFA5E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34749-BF96-472F-AE24-6812ACC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1B517E-A14A-45B4-A39D-2EDDB0C7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643F-237A-4810-814E-B6521E3B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EEE466-16E3-43DF-8719-FA092F9D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D79F50-A0E5-4BA7-AB31-BC3282D1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B771E-C911-4F8B-82CE-04A7C82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AE740E-0496-469B-9CFB-1C499D7F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1A83E-E1C9-4252-A0AF-406E7A2F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A9E5A1-A5F7-4DDE-BB8F-84F1010F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92D80B-6049-40A9-A749-15AEEBA3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B5909-7A24-4B20-858C-3782F3F4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D7C445-7E68-4DFB-8C14-46C3ECD8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7544DF-39BD-44B1-A422-1E9DCE1F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1C1-C373-4CA2-8A06-8C6C1909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E2A38F-8DE5-47C6-A0A3-0FDB928C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F54BB3-3D31-4277-A611-96B2703E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61D2C1-F0E4-40E4-A09C-28E5223E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88818E-96F4-4BE2-8F80-7DE431413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5F9A5-352B-4348-AFE6-FA43BFD4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EDC0BF-62A9-40AB-86AC-E5BBB7D1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1E94D8-A0FD-4669-8FD7-291EC734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7E6582-B155-4C1C-A664-D8C1C4756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DB44ED-F621-46F5-96B1-CA496FB9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DFEC32-21DD-4009-9B9C-284E9D6F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F5C-BD5E-4BCB-930A-5E4DE01C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A03F-6E99-4C7A-8A43-E4C2A646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5AD73-0556-4E4A-9A9D-36B7069E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4BBE16-5AC0-4FBB-9453-287EEE69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DAB1A7-9F49-4404-9F39-F5A272FF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E8D32-39F9-4AE2-8383-05BB1BE1B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406913-F4A5-4CE3-84FC-6AC7CF9C4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96FA5-268D-4A11-8A32-4B349A3B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C3E0D2-FAA3-4C88-8730-8988EA77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B56EDC-449C-4DE1-BFB9-D61AE2FC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3485B0-7D42-4E9E-A0FE-806F058C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4620C-C4D9-447D-8AAD-DB6DCF67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74DD-4EDF-4144-9421-A966B4F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A6EA2A-5585-49CD-AD75-C9B36042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9BB15D-41F2-49AB-8AFB-FBD1A167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F3C94D-7247-4403-9ADD-72F2EDF6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18481-B3D5-4A07-84D5-68501960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B18F8B-7AC2-47A7-8372-C586637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A662D5-9DA6-44FE-9722-0D95290F9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87201-2646-401F-BD41-6C37E0A5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52A6B5-547A-40AE-B555-6E08EA9E3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CC4D7-770F-412E-A52B-D18FE83F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4DEB0-F600-433C-A9BE-87CE80E2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DA37-537C-4047-AD9E-1AAAD33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32DA6D-2F0C-4A0E-8728-550F8C3C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475A1-FD7B-4664-B63D-AE28E271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5D0FBC-85FF-4124-9B23-A18AE7A94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D824B-5512-4644-A0ED-FD42D858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41A97B-A7B7-469D-8795-86FD1E00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914143-E786-4FBC-86AE-4D97D2E9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2CB9EC-3C7B-4BCD-98FF-FE296613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07D122-C370-420B-ABFA-47FFDBAB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339E0-55EE-4833-820C-883533AA6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DFEB29-FA14-4E22-B123-8B1931477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C0B4-3D21-4090-AA3E-FB2A9E42F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9518A0-60BA-402C-8D31-E67AF186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F1E6F-ADC2-4C57-91AA-B888B611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2E046C-A584-4140-A887-AECD8106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C51901-4E11-49A2-A0ED-355579E2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D36B99-3C75-4A26-8677-0F991D29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EA592A-E39C-4B87-9114-CAD6814E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730377-93B2-4753-A1CC-0518B0B5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6DEBE-F137-41E4-880B-AF63D0CA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66414E-14F9-46FF-B546-5AC769A0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9A3D3E-CAB1-443A-A633-7A166D27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ED82-E5C5-4107-B21E-D52542F5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FEE13-A94A-4FC8-91F9-FA0D6C24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D667E-4FFE-4484-8C53-CFA284F9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E8B15-1387-4826-9DA4-6DDEBFAA1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2037E4-063A-4486-BD87-9C55B53C5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F6C38-9A1A-41D2-A988-45F7387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70A4E9-1288-4893-9D8A-2B492298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A2CDC-8907-4B40-9881-31E9F269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713F7D-F30D-4E33-B704-1B4AB003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B2EB4B-4B7F-4CFA-AA27-7FB81321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904A3E-B581-4E4E-B6D4-5E547ED6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D9EB0-B5BE-42E1-915D-32A2E3F0E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A1DBF6-AA21-47E5-9DC4-F59FBFF0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2314B-2C62-4439-BAEC-F63EB8F28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D249B3-CA9B-4D1D-8A78-6FA3C6209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D533C-A769-47BF-9FB5-98B4FFAC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023B-D89B-4EF2-804B-CD020764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A2C26-D6B6-4360-BFF8-7D47CE52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1BF8-86D5-4877-BF29-2D3E2A7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8A21-2975-4F77-B976-BC98242C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A774-109C-42BA-8A28-A4DBA901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9FC3-54BC-46D7-8F3B-540402A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E9170-4385-4D6F-A18C-F345B7B1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10A00-66BF-42CD-8E53-BDB3BEB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24D67-042B-4526-91A7-BBDEAA69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96E63-ED97-46D3-8F37-82C81F17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19246-A33A-4D4B-A326-8142E583E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BE92E-328F-40B8-B2F4-9E38503B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104E-5169-4472-B36F-C7506EE9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FF2B6-6C60-4E97-9FDA-A3CFD89A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1385-C7A9-45A1-8FD5-8607980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129C-DF0B-4EE9-858E-A4828976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048C99-F252-4EF8-9457-CEF2BE8D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E67C0-A629-421C-9024-5B8C5226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D2DB-A248-4BE9-A781-B3BFF3A0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A2528-7805-45D5-A7D3-39213274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35652-DED8-4E10-892D-6CE4F0E6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72433-9C6C-4A90-B561-FC61EDE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6FAA8-E2BF-4426-B172-03FC7BFE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87A23-DBA2-43BF-A3DB-C86A85A43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13E1F-FF51-4585-816E-29B2D498E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A0B-6A3C-4472-B582-DE9F441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4C613-2119-4E2C-827B-29C38B2A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E8E36-D24E-48A2-89DE-BB3890A6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659DB-4317-4819-AA3A-0287893B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17687-A0BA-4C23-9061-7C14122B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EBE6-5B71-40AF-B2F7-A9EB2A76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7B62D-9748-4308-A62B-CA05162D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974C4-0172-432E-A9CB-5BE94EA3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1D4ED-FF5C-4FF7-A426-C4C44EA2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768D3-2A7A-4FE0-8D0B-A720F762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B0504-38A0-4BDC-BAE7-CC3EBE69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E56D-70BA-4E2D-9A00-18D5B42E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60E1D-B12A-47DF-9AFC-33A7EF7FE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B20F4-8DA2-426A-A766-C45C50297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4605-4FCD-4EB8-93D0-5FE816F3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1DA85-8511-45DE-B30F-95767ABA4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4F0A-8502-4E37-83D7-50EC5BEC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37C7-5680-4AB9-9E75-9A340A0D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7AAC5-8575-45C6-BCFA-FECA38CD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DB760-E0A1-4FEC-ADCC-4F13833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563A6-AABB-416E-9E6A-1A34117C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D1215-920B-4675-B71A-DCDF1532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B75-02E9-4C50-AEDB-5C1CA0F9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E8FF5-623A-428D-AEB5-87CAB4B31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10B13-C827-4AB0-8F61-A7D23E74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5449F-6ADF-4B0B-AFF3-CAD4C64A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6B73C-20A6-4198-A035-4E3113AD6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D4EB9-B4BD-4EFB-8BD4-3487B4D6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7CEAC-B577-4C79-89A7-15B048D28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6C260-BAEC-4184-885C-59749DA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C229F-9B03-48A1-8C6E-C68263B9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1F0E4-5994-425B-B4E9-AFA1F463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F033C-15D9-49C6-95D1-330F944C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5E10-0ACB-4C13-91B3-2FFE6A43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C41F2-1E46-45B4-B674-EC349752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48CF3-C1F2-4B2D-8764-0ECD63FE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46809-00CF-43B1-9DF1-1FCBDD76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C847-74D5-4002-9EB0-1E1DC9579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E27A6-55FE-4170-9795-21A6B51A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42B2F8-87CF-47FE-9720-43905307B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87176D-0BFC-4D45-A419-3C35CEEF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12CBE-4B82-48BB-9A98-5A1CBA15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EBA9-A68D-4F85-B5E0-98742996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8F720-6B2D-4BDA-BEC9-FF6F3081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5C1-6C08-4629-A7B4-93B65457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A193-CBBD-483B-885A-EBB4C56F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3CDCF9-2D76-46B0-8727-49E2204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093A9-7AC4-4C91-8E83-A0B8FB58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BF511-6970-4BCD-B07B-4F1B0832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5628A-194A-422C-AB6E-F96C9B90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09970-813E-41A9-AC1E-EA44701B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3A633-78CB-4BB9-ADAF-4A5F7BD9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15EDD-3DBA-4115-B752-4FAC10BE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2EAD4-036B-4809-8E5D-7F587D7A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2502B-F45A-4D29-966D-8A483F276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30F4-B4D9-4226-8BDE-8D1935EE8B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A0C8-6D31-4B3E-B4B9-3EC610660B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002B-0D13-4B65-893B-852C1E2BCA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21BB-83FA-4190-A875-188B91E2C9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4139-31C4-49C9-80D7-1F8470B0D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F0D-549B-470C-9706-EBE4EE97CF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6F7-2E8E-49A3-9A1E-BDD8BEDC2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44EE-2E70-4CBF-988B-AF657A119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81AE-79C9-4304-BAEC-9912C60EC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C0B7-D13C-4B09-9776-1623DA9FB8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A02C-70ED-44D0-A7A9-B275893F9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1FE-32D1-486B-906F-0E29E56A26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80E2C-2ACE-40BC-8458-41BB5E7F4F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77B4-54D1-410C-8678-DC549D149F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A88E-C199-4B4D-AB0A-110D1FBDAD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ABB-5997-4216-A626-C8FFDA5F6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B920-410A-4968-A961-EBCB346CBF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6847-642E-4D47-97EE-BA65C02D0D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5B86-B612-4DA8-B9B8-5E007393D1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D4C2-47BB-4C06-96B0-A2440B4D02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A5A6-2190-45F8-BA38-4BAB6E8902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C62B-3F49-4296-BBAB-5A48308E17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5884-9538-4E42-B70F-2A4B50D769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2615-B66A-44C8-87F3-30AF872B1D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4A5-2662-46F7-933E-0085D8EBE4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18AF-A03E-4038-974E-3D453902BF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B5DA-7339-40A2-90A0-7E71EC261F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E935-A427-4F23-8FB9-71D5793630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6EB-BF70-4970-BEED-94DB181FFA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1837-34D2-409A-89A0-F37AE75DD9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31EF-5DC9-4552-A11D-5FD69F8058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7443-A195-46C7-800A-D5A59E0D77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31DE-2EF7-45F5-8289-3F405AEC22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AB36-CC5B-486E-B4AC-A043AB752B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8B87-57A0-450A-93EC-CED8EDEFD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F821-B070-4C62-A8F8-289E991495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4DB5-6976-46C9-B0F3-3A4B832DFB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74BF8-1B9B-4792-A725-0F8A82D1FB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81A3-3297-44D3-B32D-A207FB7635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18B-CB08-41F0-89BC-320623DB7D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33280" y="3057480"/>
            <a:ext cx="86774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69633" descr=""/>
          <p:cNvPicPr/>
          <p:nvPr/>
        </p:nvPicPr>
        <p:blipFill>
          <a:blip r:embed="rId1"/>
          <a:stretch/>
        </p:blipFill>
        <p:spPr>
          <a:xfrm>
            <a:off x="309600" y="185760"/>
            <a:ext cx="8524800" cy="6486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900000" y="326880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604836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684360" y="4797360"/>
            <a:ext cx="6048360" cy="44784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826920" y="5473800"/>
            <a:ext cx="799308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1243080"/>
            <a:ext cx="8544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47640" y="1257480"/>
            <a:ext cx="7848720" cy="4343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4356000" y="211788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7343640" y="2103480"/>
            <a:ext cx="68436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724360" y="2852640"/>
            <a:ext cx="68436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627280" y="357336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971640" y="4292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4427640" y="434988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1476360" y="501336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4067280" y="505620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04800" y="947880"/>
            <a:ext cx="7934400" cy="49622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3492360" y="1773360"/>
            <a:ext cx="180036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372360" y="1773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3995640" y="2492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971640" y="3213000"/>
            <a:ext cx="1512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6012000" y="3213000"/>
            <a:ext cx="208908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2124000" y="393372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6804000" y="472428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9"/>
          <a:stretch/>
        </p:blipFill>
        <p:spPr>
          <a:xfrm>
            <a:off x="2987640" y="5445000"/>
            <a:ext cx="144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7352" descr=""/>
          <p:cNvPicPr/>
          <p:nvPr/>
        </p:nvPicPr>
        <p:blipFill>
          <a:blip r:embed="rId1"/>
          <a:stretch/>
        </p:blipFill>
        <p:spPr>
          <a:xfrm>
            <a:off x="638280" y="1990800"/>
            <a:ext cx="7867440" cy="28764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116000" y="427824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343080" y="709560"/>
            <a:ext cx="8458200" cy="57438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1258920" y="380376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590544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4"/>
          <a:stretch/>
        </p:blipFill>
        <p:spPr>
          <a:xfrm>
            <a:off x="826920" y="5300640"/>
            <a:ext cx="590580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5"/>
          <a:stretch/>
        </p:blipFill>
        <p:spPr>
          <a:xfrm>
            <a:off x="826920" y="6006960"/>
            <a:ext cx="792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5300" descr=""/>
          <p:cNvPicPr/>
          <p:nvPr/>
        </p:nvPicPr>
        <p:blipFill>
          <a:blip r:embed="rId1"/>
          <a:stretch/>
        </p:blipFill>
        <p:spPr>
          <a:xfrm>
            <a:off x="361800" y="1685880"/>
            <a:ext cx="84204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566640" y="1305000"/>
            <a:ext cx="8010720" cy="424800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648036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11280" y="2205000"/>
            <a:ext cx="6480000" cy="4478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755640" y="2924280"/>
            <a:ext cx="648036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826920" y="3645000"/>
            <a:ext cx="648036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6"/>
          <a:stretch/>
        </p:blipFill>
        <p:spPr>
          <a:xfrm>
            <a:off x="539640" y="4321080"/>
            <a:ext cx="813600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图片 52231" descr=""/>
          <p:cNvPicPr/>
          <p:nvPr/>
        </p:nvPicPr>
        <p:blipFill>
          <a:blip r:embed="rId1"/>
          <a:stretch/>
        </p:blipFill>
        <p:spPr>
          <a:xfrm>
            <a:off x="295200" y="585720"/>
            <a:ext cx="8553600" cy="58676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2"/>
          <a:stretch/>
        </p:blipFill>
        <p:spPr>
          <a:xfrm>
            <a:off x="971640" y="377352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3"/>
          <a:stretch/>
        </p:blipFill>
        <p:spPr>
          <a:xfrm>
            <a:off x="755640" y="450864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4"/>
          <a:stretch/>
        </p:blipFill>
        <p:spPr>
          <a:xfrm>
            <a:off x="755640" y="5229360"/>
            <a:ext cx="67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5"/>
          <a:stretch/>
        </p:blipFill>
        <p:spPr>
          <a:xfrm>
            <a:off x="755640" y="5950080"/>
            <a:ext cx="676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1:44:1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