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B31-3B8B-476C-9A84-0B7F0FB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FCC-07CF-491F-9161-4A22E4A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3EBFA-264D-487C-93FB-14E7B9D8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7C848-BFBE-41F3-80D6-3475F26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06307-323D-41CD-A636-1269196B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654BC-64B8-41BD-8A7D-36FA2B0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0BF8-8061-4382-A2B4-B28A4F34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94BC8-07C4-4476-B874-5BE7A9F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576F9-9CC9-4A3A-86B4-51C628E9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83E23-A048-42B9-A0B6-340E87F4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2518B-5A95-4B7D-B38F-B4C7806F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9679F-0DDF-455A-B086-41A75FA6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189-1426-41DF-A426-E7D6378A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E76AC-2EF0-45E9-8F07-62415947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77785-BC3A-4A68-AA40-341DB30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0C838-A530-4E78-B6AE-952270A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F923F-2DFA-403B-BA1B-3D4C28D6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34680-067C-4203-9144-01DCAAE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39696-50BE-41DA-8C6F-A8FF24B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41419-2C81-45E4-B560-4C9368CF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2921C-BAC2-4AA3-B8D6-B9E518F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E3A5F-3F8B-4CA1-88D6-2BDC098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616E7-89E4-4229-A29A-255F8B7F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017-0C32-4357-B1D2-7CFF6CF0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B5C14-CD04-45BB-8A26-20A7AB34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D339-C009-4943-9C5A-B57C95DC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B531-2130-4AD6-9E98-23324FC1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1D822-B3D2-4FD3-B329-87333DD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1B08-726E-416E-BAFB-05165CF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0B916-57A8-4A81-863B-D4AD599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00D32-D87A-4C2E-BF53-A9C0D823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2785-9739-4945-99B7-1BB7B59B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77498-6AC3-466A-B00A-2AD645B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1EAEC-D6DB-468B-9AE8-225FC847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3887-CF07-40C6-81CB-73C84D24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9494D-E94E-468C-98C3-024CCB01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967ED-2882-4539-93F3-DBF944F0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FE4D9-F575-431B-A17F-1BA59C57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52674-681B-4BF2-B750-E5ECA8CE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98611-9AFE-4FF0-A9F1-5C8E3B7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0C295-6FD7-4020-B7B9-FA75522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DBB16-916C-4422-9031-4E1A3774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AE13B-68D6-4986-B27F-23C2125D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CE25F-7E37-4C68-83E7-F41E153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1F1B3-DFEB-44E9-BA0D-DB75886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045F-6473-472B-8325-EF491426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8E0CA-9557-474E-841C-CD89719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0036F-3915-404F-B30F-C0405B5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5888B-AF9C-4E00-A4D5-F5677E2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CDFC8-EDA5-472B-88AD-73DDE2B1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9BC5C-396F-41D8-91B7-1A585CD5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AFB46-5BB4-4EC8-86D0-9B52D7F6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99A11-7DF9-4732-AE5E-7C7766F9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35EC3-34E0-4F95-81F0-A781C731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8FFE8-C4F3-4D22-9D1A-510E9881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1D9A7-7CC0-463E-9DEC-429E4560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8331-9E04-4CEF-A864-37EC92F8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C2D4E-3890-4DE3-88F7-FA47D21D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63AD5-8975-45F5-9136-53BCF27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C04A8-89A0-4662-B083-117C59A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9B4A8-6D94-4084-B895-DF3B027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D8813-005F-474B-BC93-058ABEC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62373-73E1-4DA8-8DC8-811FD534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8B72A-44F2-4282-A886-E553BA94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1307D-37A3-4325-94A7-62B9EB46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4464A-A302-43E5-8405-2799CFC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537EF-F07A-453A-9997-EBD25CB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EC5-1719-4E86-9798-8DC353AE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95953-63BB-4A77-AF34-C1AB56E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5851D-93B5-4902-9BE7-BF42B5B7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2F513-5272-405E-90AA-D6928DA5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D9D72-5D22-4EAA-8985-A93E258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9E5B8-DD58-42B4-8085-C9FBAD2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2A6CD-4A98-4A9D-8FD0-E7E5F10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A26AF-0D63-4F2C-81D2-B4597BD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EF2C9-BB3A-466E-BA8C-A1B2A49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C7633-8A2A-4493-912C-0F50E995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E2C9F-883E-460B-82C9-70CB8EF0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5FEF-DCD3-43E3-AC47-7BBA7AC1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C9A81-98D9-4215-9673-CE82D28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96536-F56D-42F1-B8AE-E664F50E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D5CD6-A991-4A2B-A2EB-D511AF1E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E14CD-A080-49AA-8CF0-31E24E3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412DF-4E0E-441C-9A19-56750004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704C5-5CC2-4753-9E9F-3CD25B9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DDDB8-E18A-40FB-9F9A-EEFFD71B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975D4-A086-4D6A-9498-3EC6249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282DE-A1C6-4547-AC83-EA80844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0E5E9-9773-4FF0-8F1A-E8B2B8E1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EF65-EEF4-49DF-8745-699A52A1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D1F8C-7765-4DC4-9233-57E2FC59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C2F00-B7C6-46B7-A887-1E7CB736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C6AF3-B0F7-40A7-A220-6F23634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76146-2F05-4A01-B2BC-349FA89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BC781-3D0D-4986-A345-EEA6439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A1172-FD35-4E0A-B95C-3D3B2502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D2F3E-CD8E-4191-B626-15793109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6EAAA-B53C-402D-ACD5-8DBB658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DCBA0-0DA6-48F5-9BBF-0C804C5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6226D-353D-4364-8180-74563ED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750-FA50-4629-9B32-31E7A49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892B0-E607-4A5F-9C54-91C05FF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66C67-0DD3-4AC3-8ACD-C5C17CC0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DAE62-F4E6-4649-AF2E-7BCD118C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8AC49-2451-4C99-B382-6DED947B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A7778-C81C-421E-8171-50AA47A5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F9A36-DED0-459A-95C9-C6E8DFA4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3A98A-6D2E-4321-A989-3F50124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C8C0B-4D6C-48D0-A05B-76758A9E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EEF73-FFC6-4F09-97C7-5B3DA05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2ED43-AC16-434B-8239-417DE6D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571-81AC-4924-8C52-427FA10C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7521-05E0-4C56-B0B3-CCC9D3DE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A055A-4581-43D3-B5C9-F695022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56635-E459-40FB-96FC-6400D9A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E4561-1AD3-4796-9226-26FEE026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47298-B6CC-499E-8EAC-A648D5AD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5C423-363B-4E09-9260-41CF3BE7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00C9D-8933-4420-8BA8-870884EC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445EC-3DA7-42F1-A986-FD31842A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B223A-25A0-45DB-9FF8-B1A77B1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46F1C-BD9C-4E3E-BE42-D17DF8F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C851D-99AB-4FB2-858D-9D8103F6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2FD9-05D4-464F-935F-EAF51A9B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3B6D3-D260-4FDC-93CE-AF8158F7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DEDAD4-5397-4793-B57A-F652537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DA878-D96F-44AE-83DE-084AA1C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2808F-10A0-4B18-88B7-25FAFF4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C715E-FD93-4B1F-B767-A2498018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F5CE1-4615-4821-BFB0-96788404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10656-F893-4B77-8A24-0FD6C053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C02B5-2AB9-442C-AF25-8ECE9520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BDAD1-603A-4689-A983-D5ABF7CC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FED22-2AEA-427B-B241-60475A3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8A16-7680-4E88-A658-F9F729D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69692-7A5E-455C-A430-7646596B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08899-F076-4DC4-BD27-C0D1697C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745216-3BAB-4719-9C51-B4F17DE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2362E-DF6E-469D-898D-704F770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14AC6-76D9-4A45-A4C4-8129955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24A80-6DA8-48F2-943E-92D89DC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88658-9EAE-42B8-8190-2763AC4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0762D-8285-4864-9017-7BDFFCA6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759C7-4A98-4268-89B6-FF45C665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A282E-D9B5-4899-A1AD-0DF2D3FD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34D-D743-4BD8-B173-78C4FA6F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9E34E-2012-4C26-820D-E9FD7B3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9B415-2032-4658-A997-C3F17E6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E04B0-6920-4984-A696-9C88D052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52ADA-6604-4ED8-BA41-D2DF2BB0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B02B0-3258-4F14-A790-3C855F4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58BECA-2EB9-4E06-90FE-4F93183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08371-91D4-46D3-AC02-9BA8DAB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F846A-F34D-40D4-87E7-FF89444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800C70-D884-42BA-9678-35EC4D9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89152C-5B95-4545-ABC0-5391074E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37C-27A2-4258-9DE4-55D344CC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24C23-3C03-465C-8F0E-01B4BFDF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E45F0-250C-4945-B94B-A459B810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3589D-94B8-428F-8814-939F67E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470F83-7C83-45BE-A2F1-8407E4A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A0FF0-EC49-4002-BC60-ADE06B43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93548-366E-4B14-8342-B7F43641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36740-FA90-4718-A50D-B366D78D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059F2-1CF0-4C36-8D13-9A0A0B7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06E4B-D303-4253-BCF2-812AAAB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C38FA4-9643-4A94-B8F1-8B7C17B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E094-91F6-4DCC-A3A4-B6BC83A6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12884-D70B-4EF9-AB56-DEAB64F3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20D66-D0A1-44FB-A00E-036CB8FE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729C3-CBB0-4AD9-981C-EA82BC60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F29EE-3B98-409B-93D1-66E90ACB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516919-D84D-49A6-BA8A-5180EC78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79E62-5B0F-4491-86C1-74D27AA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B8394-67CE-4FF9-967B-706DFDC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9FD408-AA82-4E3B-AD62-B98C9326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FA8E58-4C2D-415C-9DBD-83907444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E7807-A0A5-4454-A553-7220731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B163-3266-47EC-A6FA-EF2C729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54082B-C6A9-4495-B4C4-1B01482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8346C-C56C-4054-8D49-4A94F88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44530-8349-4311-96C3-ABA9B6EE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AB965-80A9-46C1-A5DD-47227A37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96175F-0513-41B4-9951-36DCB3B1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43AAB-0400-4DC4-9E4E-D945FFE1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D74A1-24E2-4F1F-BD54-EBBA0EDD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15FC2-0506-41CF-B9F3-97ED5298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08AAE-D230-431B-9805-281B72C8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1901E-AF20-4625-BBF8-B688D6E2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5143-5193-431E-844C-64A9533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950171-BB2B-4F41-8B94-A5A94F3B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A5F78-BB5E-4419-A66D-9AF7233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7E82EA-C44F-49B4-A57E-4DA7B51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2A02F8-40F3-4C16-A9E8-08DF5BB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2F7AC-CF0F-46B2-AA94-26E493C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6B63D-174E-4C4C-BD8D-D71DE271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7E9E9-AABC-4A6A-97D1-9EE56F37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F912-87B3-4DAB-A74D-946829B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6871-A62D-4100-858D-2C8F5CF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166-F115-4C6C-B9AC-46F6D2F9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9A4E-181E-4C61-8A80-067631F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F16B-3F7D-4732-B707-CEAC195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FB2D-F6C3-4FCB-A0CA-23D1A710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A0C7-990A-40D9-9067-4EF6119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FCD9-A0C4-4B1E-BD25-D710DF0A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878D-505A-4D4C-8F5E-98C7C495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E7F1-7730-4A0C-9E61-32B98643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153C-DCCE-4DFD-9BDA-4E2D3E6C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A7A0-03DF-4AFF-80FD-2A1FED66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FCB9-6487-4F05-A962-97B469A5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419-C119-4639-ADC8-C81062EC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91E8-3760-43DA-AB1B-55CA92CC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6232-1B8D-4104-A24F-F1EAA128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F666-0749-477B-8DD0-1EC8CFB7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E06E-77C6-4D1B-AF13-BB16705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AD38-5904-486D-B5CF-8E3BFC4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798E-AE97-48FD-92D4-E09276C5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5EEA-BB45-4672-99D0-0CEC59C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04C1-3863-4A28-9D51-A1E6AA11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7817-D03D-408A-90BB-4A80B0B4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40EE-CBEC-4F36-B068-19501447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89E-4C32-439B-B4B1-091B8B8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F5540-778A-4B5E-B50F-6719344B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8F7B-0182-4021-B548-5A86A92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024C-3CE4-4D11-98DA-0050665E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0226-D2D6-4EE5-AC62-75C7D5DA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1398-8460-4C48-8696-89941A2B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6E47-319F-4ADC-AE39-A16673D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9AE7-33EE-45A1-A0AF-A9B50C1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C8FD-8DB8-4C32-8793-44D2B3C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7AF5-5839-4BA5-9784-21A24C0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D0A2-7FC2-4228-848D-D7C86BE3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184-68AB-49D1-9E8E-E2258DD9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C064-577B-4DA1-A184-8A405165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FB40-F55F-48F7-B42B-E6D4F879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467C-3B99-402E-A29F-09741395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0E11-2AC9-44BC-A2AE-DC370C6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BDE5-B49D-48CF-8AF9-F4AD411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AC6A8-8F83-4458-BF97-B174E8EB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35E59-E3B8-45A7-A233-C90D50AC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5FD9-93D4-4060-8901-CAC988A7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1D50-CBDE-43A7-B92B-DA204E1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3D0D-2891-4104-B052-BB68F9DC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146-F284-4203-AAE1-E065264A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620C-4B5F-4CCC-9D4C-9FC0942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53572-CEC0-4395-875F-8B8DB3E0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3F10B-ED3C-4213-AC39-1E11906E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686B-207B-4FFA-9B12-D9D48159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36902-1153-4589-A435-0500259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4EBD4-846C-4C99-BFF8-4760D63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73F0-9DAC-4679-A0C5-FA149D28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0EB6-7EFC-4979-B926-5596BEA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2CDAA-21BF-4303-8BA4-F8F34F7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61B0-D36D-4C7D-B943-DFD7060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7C5-E11E-42FF-BE05-4890D33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A5E6-60DE-4096-87FB-973520A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0D174-F122-4C46-BEE1-3DA0A780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6902-3AB6-4A71-8E50-4A4EB6D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D6BC-E30D-4D5D-8048-786F2BDC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34C06-4411-45EE-BEEF-B0B478BE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13D7-3450-431C-8FF0-21C100EC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807B7-C6FC-4A59-B5B7-E6075FF9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29D9-2D49-478B-A984-123067E0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0B2DC-9108-48C3-91D1-1BA054E5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7AAD-3908-4E3F-8D49-4AEDF04B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656-82F7-45C4-AD27-FC83F0D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2FE17-DCBC-441C-B46A-5CC445F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A2EC-E517-494F-960C-23D39C6E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BFE27-28AF-4273-91AB-609D4C7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EC6C-DA17-4B63-A7BF-394DD86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1F97-9877-4407-991E-0A445A9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00D0F-FCB7-482B-BEB8-668A1F7F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27F2-BCD7-405D-A368-18E1E9B2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BAA68-7BF4-4397-8325-E120614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36DA4-F23B-406A-9FBA-A260B5F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48AE9-7A06-4382-A00A-7850796F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D87-93AC-40B8-846E-45019907BF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6A1D-178C-49FB-B2FB-E5F42CA0AF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E6D-00B5-40D6-B732-2F45F0557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A2D-55E1-4876-BB68-F5796D1EF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EB04-0E10-4F1B-BB51-36F28583A1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416C-C999-4CFC-8EDC-4E04E1FD62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9E52-8E8E-435A-8E4F-984A708E64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A01-BEF0-4B1F-995E-213DFAAB5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1148-CC16-45E4-8C67-18B8F8E96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3CB-EB9C-43B1-B317-38F7EB5D3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5F7B-F64B-49A5-9401-3FAEA524C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5F89-F926-4A8C-908C-E81CE592F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676F-0C72-4DA7-8C89-D34260256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AEAA-DA9A-463C-8C92-7A90F5A60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A086-C608-4DA5-BA4D-3CD52E0A6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DFA-FD09-472C-89E7-654F5B1A6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724-F966-4BF2-AF8B-C07A2C6947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5502-824B-49DE-B36D-7CA8FF3AA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779E-02F4-4C17-BECC-D1DF19846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9A8-93EF-4765-A8CA-4DD1E5E7D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D5C-EA5E-499E-89DB-BF55BCFDD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2DC7-4F79-4AC8-87FB-F8210CA390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734C-3D07-466E-BAB2-FB9189162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2E76-F1D5-4F6B-AAAD-C7E8A03E3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902-4D1D-4A90-A2B5-4FFA2A1B5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D5B-4A9F-4F12-A6CD-8296496EBB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DA05-E626-43A7-9339-BCBC3526D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9A0-604A-4E07-9726-60A098BF0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0B6C-EAB3-405A-B836-648CCA32A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B76-7ECD-4FB7-934C-6ACCA4F427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6C5-5F8C-4C76-83E5-5C5F03CB6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87E-CF53-42AC-AE10-F5CECA8D8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817-5138-4CFE-9C1F-9D2CF5E35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F32-84D8-4527-AE0B-BB60D521EA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E59D-CD52-471E-B26D-2D61A4687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FA5-F2E5-4F54-BC71-8F76EF4A3F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FF3-9330-407A-A52B-D8F6487540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B117-3527-4C05-8909-30961E95B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0831-4A9E-46A8-932E-FE013A713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73D6-E25F-48C1-8ED4-3EF6A6167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648-7CAA-4B4E-9585-05E946676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4899-BFF8-4098-83D3-0C3601975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44560" y="1727280"/>
            <a:ext cx="8067600" cy="90468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82600" y="3408480"/>
            <a:ext cx="876456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62080" y="971640"/>
            <a:ext cx="86198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61960" y="1243080"/>
            <a:ext cx="8020080" cy="4371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7740720" y="2060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11280" y="275112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468360" y="407664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468360" y="482616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04840" y="1528920"/>
            <a:ext cx="8734320" cy="3800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9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9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37960" y="1447920"/>
            <a:ext cx="8668080" cy="39621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48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71640" y="4451400"/>
            <a:ext cx="48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347760" y="496800"/>
            <a:ext cx="8448480" cy="6162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116000" y="413388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6006960"/>
            <a:ext cx="77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209520" y="1076400"/>
            <a:ext cx="8724960" cy="4705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30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30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71640" y="5143680"/>
            <a:ext cx="396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900000" y="47973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900000" y="54165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900000" y="603576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08000" y="1012680"/>
            <a:ext cx="8928000" cy="18813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2"/>
          <a:stretch/>
        </p:blipFill>
        <p:spPr>
          <a:xfrm>
            <a:off x="1398600" y="3711600"/>
            <a:ext cx="6734160" cy="23241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132000" y="14270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3276720" y="1916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5796000" y="1989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8394840" y="148428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8"/>
          <a:stretch/>
        </p:blipFill>
        <p:spPr>
          <a:xfrm>
            <a:off x="8388360" y="198900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9"/>
          <a:stretch/>
        </p:blipFill>
        <p:spPr>
          <a:xfrm>
            <a:off x="3160800" y="4351320"/>
            <a:ext cx="9064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0"/>
          <a:stretch/>
        </p:blipFill>
        <p:spPr>
          <a:xfrm>
            <a:off x="3132000" y="4941720"/>
            <a:ext cx="9064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1"/>
          <a:stretch/>
        </p:blipFill>
        <p:spPr>
          <a:xfrm>
            <a:off x="6372360" y="4365720"/>
            <a:ext cx="9064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2"/>
          <a:stretch/>
        </p:blipFill>
        <p:spPr>
          <a:xfrm>
            <a:off x="6372360" y="4941720"/>
            <a:ext cx="9064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1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