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65C-DCBB-4940-BE3D-2F4AA38A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D8E-7438-43CA-8652-93AC728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95EB-25E2-47C5-BCCB-0D29D6F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CD744-EC98-4BA3-8ECE-BB7F65A4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5984E-5E71-4A3F-B1D3-7D66F6D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6C9E-64DD-4ED4-A6FD-AFB47798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8FCB0-1E69-445F-92CC-FC7596E2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F29AA-DCC0-43DC-8122-D31325C8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EBCF0-74B0-45B0-9776-F2129FF4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92DE7-19EE-419D-B265-D3654A55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8D1D-0EAF-4964-8187-CC7A4FB8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1BFF7-6A37-4E3D-B2C0-3092D87A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8CC-B70C-4BCB-BB50-2690F3D9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682F3-C696-4A95-AFEB-1DB5FA2A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E82FA-274B-45C4-A957-468ED4E8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7DE15-A2CB-4907-B7E1-997819F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B1DCC-4A21-45B4-B3AC-37B6840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EFE3C-6B15-4CEC-BE14-AF8205FC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C62BA-0440-4CB2-88D1-C7CB5A0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95D72-B05E-4A70-8B95-F6ABCE77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1097F-7A14-4732-9632-C4F9B9E5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21FAC-94CF-4BD5-8486-0547FEF6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35F9-697F-40B2-8789-9A29BF65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A79-0D27-4FB9-A5E4-CB1D73F3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0F72C-74EF-412F-98A4-E14DB2BD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D57B-04BB-4DA9-BDCE-E5A0105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C11DB-B627-41CA-9816-0330EEFE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CF522-393B-484F-8192-1B0F072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AB84-1D71-49C9-A308-A2D66F6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0CE01-A240-45F7-8562-2E4C4EA6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C1464-3615-44CE-9EC8-E2993242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F3D1-4C6C-417A-B13B-5498A559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18824-E331-4128-8280-BD785D7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4C096-0504-48B9-B280-0623335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669-96CC-460B-AEE2-0C969D77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D3D9A-76C4-45FC-AA95-235CA645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63EEF-FA02-444E-8A16-421B3F49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DB1DE-ACC6-452F-8882-49CC0A4B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D0C95-853E-4278-A794-EC966E06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774A5-3B64-42D0-977B-CA1FDE82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3ED48-11E4-4F81-A9C2-3F4F948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9DB08-045A-469D-BE7D-4332953F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FFED6-6DF6-4E16-B165-5EB91183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0DA6E-91D4-42D9-9F62-873B3D3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5B7A5-D93A-46A1-A635-FF1C94F9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6CF1-84DF-4811-80D0-2E53E61D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C7299-E5A2-4DA3-B9E4-8BCFED9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DE033-3CCE-43CE-BD89-495739C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F5601-11B8-4AC3-9765-A4E3C4A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4941D-6653-43A4-8A33-9AB80BA6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922D7-A024-4A3A-BC90-C25D1620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EE68D-EDD1-4E90-BE1B-8C5EC1F2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AA075-8511-4EF3-8741-40DFB86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AAFABC-0276-4DED-A8E8-7EC2FCF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1EFE9-622F-4F79-A1EE-95DE5CCB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7A64D-DD1D-4CEC-9974-32959957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230E-96ED-47E9-94A6-A8415FB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A1B69-698A-45F8-9618-33BFB680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80810-6742-48BD-B7F9-9FE84F90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D26B6-0179-442F-9BE4-7D2BA026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318F2-BCBE-4B28-806D-7918A16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E40E4-1358-4E46-80C0-0362EB68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BB972-67E2-4E7C-8046-E110904B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DD420-849D-416B-BD54-389C05B9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2D2B77-8694-444B-A134-87E0E8A6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2E75B-77A3-4954-BCC8-943BAC8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9FE2C-10EE-46B5-8FD2-C9A326D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A1AD-3B3D-4C6D-ACDB-99B7CE1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E0A7B-A043-4289-892B-9243A44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0B6CF-379B-45D7-B2C6-D091890E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FF244-C944-4DBB-9539-2F3AAF8B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B64D0-B17F-4940-9E08-53415BD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0F5AB-08C1-4251-88D2-5EF8ABC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ED1F60-20DF-4DEA-A43E-A045857E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7A7DE-80A4-403E-800E-D13411D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360A7-0D8A-4C6F-9ACE-D987CFB5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C6F88-337A-4C9A-B1C1-5FDDD542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E0C14-B49F-4FF9-80FD-E81C742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57FA-73F3-4CD5-AECF-8D023051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207B4-BA97-43AD-B857-BBA9C7F4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098C3-AEE3-4589-84FB-CCFA3CC4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4E736-4234-4CCE-A07A-97F29805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87D51-4759-49CC-B4A0-FC2F05A6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82724-C4E8-481A-AC02-2CC1A2B4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D3AF67-FE64-4162-8173-4B96D3C4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A2E42-6999-4BD9-810E-1CE0D31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913C0-34C1-4269-8FE4-73FD534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666A8-C445-4913-A726-889465D4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315F8-27EA-41A9-9A4E-E65871D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D80-D519-4843-BB45-223F6E95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CA3D9-9384-441B-A28D-69B5F273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C4ACF-539E-42D2-888D-44E25C5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D9CDA-3639-464D-9B7C-783CA03E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51835-3856-4065-813B-6DD80185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ED086-760E-4331-BAB5-4A08C92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0EB71-AF91-4749-AF91-FA1EDE7B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106FB-0492-4A50-BC58-5D0C2DBC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CA3F8-8D9B-4E19-969C-F09159D7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296AA-5428-4749-AC27-66DA500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18B521-E8F4-4B53-AB34-BB73859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2008-95E1-4035-AAD1-9AAF594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CA553-D4D9-465D-8387-DADE6216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9840A-061A-4379-8876-936475D7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ABB87D-AC7B-4FE8-866F-8C5AB715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3CE2C-712C-4785-AB84-7B70A5B6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072262-1B48-4181-86A1-DFC2140D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AF456-7A0B-4F2F-A20D-3E723BDC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20BD1-2AE0-4B34-823F-1762B94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7C1DB4-963B-4B60-BE32-2BB5111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CABD04-CC75-4457-BE21-31C2736D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57165B-E898-441E-92A1-3DCA39E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A1E-4DEA-484B-A56B-6B0FCD0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FCF-2971-478D-AC3C-37CB6DAA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2CFC0-DBB9-47E8-BBBC-35D23AA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F3A31-04A2-4AA6-BBA0-860BFD8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9C80A-A038-49BB-99C6-849B5DC9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5CF635-88FA-44E1-B8E1-0F89D808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619C23-74E0-4706-B6B3-D33C54EC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F646E-D74B-4EA8-A4C4-E41665AA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84572-ABF1-46AF-84E4-D7D9172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7DE16-0451-4814-B310-7A03D4BF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CF022-3792-4545-BC80-B28FC00C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F252F-4408-491A-9872-08844E23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9791-C642-4E48-9FA2-53F2B88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885AE-F8DB-43A3-8ABC-C54C9602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FD6AA1-9A7A-4FAF-8537-EC973C55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D9C65D-AE40-4152-8165-CBACEE0F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CCE04-A401-4437-AB05-B4055427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650EF-D969-4471-8B2D-464001A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4F7FE-E2F7-499D-9BB2-623A1A1A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DFCE57-94D1-40D3-8ADA-4BCED8BC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85E2C-9A0B-4E6F-AA65-EE53FD26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3F46D-5333-4199-A82A-3058F62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CF0859-F592-4908-9F80-2EB2F77B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F78A-C745-4FA2-95C1-0D3D5092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56E66-A1A9-4500-98E9-7D008FB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0B115-A652-4D15-97BD-C3449DC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CC90A-37F3-4DF1-9762-50862E2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DA9B7-7FB0-4F15-8EF1-CFE2D85E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EC313-DBC7-47BB-BA3D-2E14A2A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67560-6A12-4EEE-9C7B-474102F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075516-ABDD-4AD3-BEE0-11594C14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2D42F-863E-477A-9BEE-F57E517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2D42F5-4D3D-4449-9278-A95A0F26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4BEBD-CFC2-4851-B76C-21BB7D16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6587-FB69-40E7-B3B9-8EFD8346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0ADDC-7777-4ACB-A56C-AB9D4E95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78681-EE4F-40FB-9A49-AB6F8063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15074-936A-4A8A-A2BE-0CE11DF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EBEED-895C-4782-80F9-D7B718F2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42C45-2DE5-4F04-B7BA-99AD5B0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3B81F-13B2-47CE-A188-26C6B2CC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0F839-BC01-4AC0-A0C4-00727F54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CF54AD-7C95-4EB1-879B-DFFD38BB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435B6-1CFB-45B7-9686-A08D6C6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9E597-CDAD-4A7D-89AC-56553C60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3D00-0BCF-484D-8D08-111FFF7C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C3A7B2-B20A-4ED7-98A0-1EAB4972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31C61-B2FE-4BDE-81E3-BAF7F500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B0C13-0AD5-410E-8EB1-21B9D99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D1463-31A4-4695-94BD-1DCAC4A4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DB990-DE5C-4F85-A089-AA4877A6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4B60A-AC8D-48AC-A0E3-622932FD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A3B16-B5C0-4A70-90CD-BE5443A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F34904-A2A4-4813-BB6D-BC5BB91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7A56F-922F-4256-8B53-B9C6F38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B2FF2-38C3-4630-A68E-0F76290B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EA42-F784-466A-BFE8-EED11067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5FF41-3DF0-4176-A9DC-ADB5871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AE996-2294-4051-AF97-54794C15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2A9E7-1785-434D-B1C8-1A6ADF3E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7C8D9A-E3E2-46D7-829B-38D0AC75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D3E49A-8C54-4E03-BEAE-05F3EC9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AA0D89-E9D4-4B72-B32B-689AE694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E66A3B-255E-4DB5-B7B4-B6581A0F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1AAF4-6B16-412B-9954-21C70F8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B2619-7946-4253-B111-9D8671B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48A81D-87BA-4742-A214-2536DCE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AB32-A5B3-4D57-95D4-01E319B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ED1BF-284E-4CB7-93F7-67C81203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8B457-F6F0-463F-81AE-AC252CF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0FEB5-4D8A-471D-953A-DDFBE9E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A4D35-23C6-4F37-816C-83205772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4C9AC-6EB4-4839-82C9-BA1D427C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9A053-4494-4B3F-9F5D-DB5C83E5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3FC36-B3D8-4EFA-AB66-DA4F55F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B3C4EC-7AF6-4C4E-B272-E6C852EA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6D4B3-D0F0-4857-B67B-8865E232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2C916-DEE2-40B0-BF9E-FB0AEAAF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B3006-ECD9-454C-90E3-376F5EFD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F60BB7-8CFA-403D-B9FF-DD7D1DF7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DE19C-FF59-4307-BA9E-F9B6B51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735FC1-FA40-421C-A052-529F898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1A3DBB-D8E1-40C4-A52A-9AC5049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72C3A-29E7-46B0-840F-4F8B824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283D30-0181-4ADA-9F18-F40D42A8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004DE-CAB0-4C57-A6B1-D56FE6FE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CD64-FBDD-4075-AD86-3A1EA588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7AB8-420C-4FC3-BDFF-A48AECAA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E03-31D1-442B-AED3-CBC9292F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6CCC-5CED-44D2-83A8-73426F43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43D9-31D4-47CC-8B24-9148906B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502CE-26BB-4D77-9DDE-3CEB4EFC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E944-BD43-4B01-A94A-F3E924F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858F-E993-40B4-A53A-96D875D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B94D-1388-413D-81CC-50BBDC78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1860-E0AA-4DFB-A677-D5190FE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9AA4-4AD6-46A9-94D8-FBD0FBD9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39FC-EE53-46AD-8B8F-1B0E9DA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E8F1-CBEF-468F-9AF3-3CE8A95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B47-88B2-4E60-8A18-F072BA07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A0AA-985D-4E0B-8DC1-60D577D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3D58-C734-4906-8AB8-7708E39D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07C3-3A3E-4C3A-BCAA-8D41C50A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978E-3D7D-44F9-9D86-53EF01F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E2F8-697B-4945-8D82-4B8E6010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31CF-34E0-4471-BAFF-DB795A63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BDBA-4023-431F-8700-911BEA55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0D07-486B-4139-AD44-D11D868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99D3-3B8C-4F72-92F0-E11361F0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2AF1-B876-4ED1-8EEA-8E947733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7FE-D11B-4A1F-BDFF-373B8DB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A642-BF53-4B44-8699-A2045E1E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396CE-FF5A-4B6C-921C-7A4FD775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2F34-CFA2-4E58-801A-F1B96D48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86BCF-FB48-4409-A2FA-616B7CD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6D7A0-7802-4B0E-B2C0-CD1E848F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24638-4076-4008-962B-A4BCD0A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823A-0F4E-4AFE-BB63-E2C3E8D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D85C-DCF1-4E4D-A587-ACED80C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A93C-39CC-4CAB-ACF6-B2578674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0755-59DA-4680-B34B-2DBF3090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D975-9AB3-4096-94C6-A1EC5A1A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C783-6AF6-41F9-9527-C1C65C0F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79D19-A993-4B0F-80C6-B27BDE6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820C-B3CD-4ECE-992F-D77F0B8A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3D30E-A98A-4D76-8CD1-E3E516B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9B80A-D699-469D-81F8-BE2FB50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506C-0651-46F7-827C-17A157BF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DF27-6A58-4B03-9632-20B7383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B005-E6DE-4C42-A263-1E07817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50B3-1DD9-481F-A352-B1E2C1B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3938-E836-4947-8704-CD61F39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412-4BE5-42E1-8DA5-13A152E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0AD3-63B2-4603-9035-1E88C797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14B9-697F-4DD0-897D-9D7DD661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D1E0-1B15-4BFF-AEB1-FCF10C70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96D2F-6F4A-4630-8342-1A28837C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199D-E2A7-460B-BE8F-7C9F0CC4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E1BEB-587E-4C45-B844-EC3F89E2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1627-7F73-49B6-BDF0-246CA68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A5CB6-C784-4B42-AAC6-BC35BD3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E24DB-B78D-41D1-AB99-7C00E098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4AE4-9DF3-4F25-A61F-531C6B1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125-A279-4F26-8B16-98B44A1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DA112-419E-433A-AD2B-67C21317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865D-BB54-4526-8212-4913B36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8FBB-BB6E-4699-8A5A-4E6893B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5A57-18C6-48CA-8230-4E5FE18B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5784-72DB-426A-AC7C-17481E36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3C003-A769-4ADE-B19A-CD879932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EB6CD-97DB-4333-8035-25B8133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54F4-BE1B-4B07-96B6-0478211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2A01-BF01-4FB7-886C-1ABF0CD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AF755-F2ED-473D-8E09-049243CB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A62-19E9-431F-9747-F247019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B4FB-30BE-490E-9C25-190BAE8E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40BD1-8939-4A3C-A67B-E51845D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736C1-4FAF-49D5-A764-66C5C6D5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5A7B6-2983-4390-9FCE-18DF146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5CCC0-3779-4993-9F33-4A1A01FC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D27B-48C3-46CA-B0BC-544A4EA2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9143E-6C59-4C9B-9A55-D6EA4336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EF1C5-0348-42C4-B3F4-F13BEACA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90834-A82F-4196-B258-35E6545D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E1618-A53D-4388-983D-D8A4FDD5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D94-8310-495A-B347-AD430F4BA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E1D-FF42-4EB2-B3B9-9D8C089EF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F13-52C6-4C92-AAFF-52074A449D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47B6-532F-49F6-B881-1EC0617625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7FE-E10D-4B58-B289-CAB3D504D8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198A-B268-4F9F-90C3-0F79DD7BB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B61-69C4-4519-B31A-F10824A04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5BB1-5CE8-4020-8F57-00DDBF3AD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375-F697-4C05-92A5-F33821870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ABB1-3973-4495-82E3-04AC07A889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6723-7FA0-40A8-86A3-6FC1964325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A039-14D3-4439-8FE6-68193B787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E14D-84F1-4101-B84F-1588753CD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2CA1-70BC-4E84-8BB3-D7A364CFF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FE5-BCC0-45C6-A181-FA3D632FB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5463-15F3-43BC-9DA1-655AAB847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E23F-4413-4A8B-88F7-D9B9C85A6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83FA-EC8F-447A-9495-EA2AD8FBB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52B9-1250-485A-9C10-72CE23964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2EF2-689B-43AD-BE8B-3478D3C809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2CF6-096B-4444-B0FF-64C1009E78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53E7-B2D0-4300-9C44-E365320F84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4CE-C745-48CC-9051-972520F13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776E-D983-4CA0-BFFB-64BA7F962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E2E-16C4-483F-9E3A-D4ED986F4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0A8-B90A-41DC-88A6-456231EBB5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47E-1162-4344-8474-D87D25066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4FF-F443-420D-B596-9D9C031DF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D0F-A888-495C-92ED-B0515BD26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6B4-9602-411C-BC13-485BAF8332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D99-12B5-474C-AE13-0C696167E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34A-11CA-4F0B-A3EE-02852E3590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4CC-5EE8-44E8-A860-1F5FA3DB07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9906-BA99-4823-A4DE-3909E1CC09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D20-2994-427B-9B76-1FD6E0678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CB36-4EB9-4C3B-B2C4-73E33EA7E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795-76DC-4CCD-B6E4-06EA5D7DC3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5FD8-4D51-4FAA-9880-F92B0B98A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510-E044-439F-B120-F8DE4EEEA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302D-B58B-4336-AB3C-9836AB2C2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9EC9-C9A7-4DEE-8EA4-FF28D32D1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2E8B-CF33-4E59-90E8-50CE24BEEF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85920" y="2952720"/>
            <a:ext cx="86007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00160" y="1038240"/>
            <a:ext cx="8743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76360" y="971640"/>
            <a:ext cx="7991280" cy="5476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730872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580000" y="1498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536400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730872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7596360" y="28814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1619280" y="52862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1619280" y="5791320"/>
            <a:ext cx="5763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19240" y="673200"/>
            <a:ext cx="8705520" cy="60577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1332000" y="609300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7" descr=""/>
          <p:cNvPicPr/>
          <p:nvPr/>
        </p:nvPicPr>
        <p:blipFill>
          <a:blip r:embed="rId5"/>
          <a:stretch/>
        </p:blipFill>
        <p:spPr>
          <a:xfrm>
            <a:off x="1547640" y="2300400"/>
            <a:ext cx="3095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914400" y="942840"/>
            <a:ext cx="7315200" cy="49723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557520"/>
            <a:ext cx="640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640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403280" y="4941720"/>
            <a:ext cx="640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067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268800"/>
            <a:ext cx="4249800" cy="11682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755640" y="4595760"/>
            <a:ext cx="424980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06200" y="819000"/>
            <a:ext cx="8772840" cy="5905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68360" y="593568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142920" y="857160"/>
            <a:ext cx="88581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490680" y="1400040"/>
            <a:ext cx="8162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532944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468360" y="280980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468360" y="3500280"/>
            <a:ext cx="53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539640" y="4221000"/>
            <a:ext cx="7920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8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