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2F2-F1E9-4055-B290-61BCCF94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862-796D-4850-BACC-9B3F3EB6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081D2-7BF3-4456-943A-D5822B96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66E55-2E8A-490B-B846-9460BC3F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496C1-9E9C-4552-802A-C4E57B6C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99A93-FA89-435E-BDE2-DDD7106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23C56-838F-43E9-B40F-4EE2DA1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2C40F-695C-4168-8057-2CCEE4F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6AF8C-E9A7-4C1F-A839-DD23E0D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17C37-381F-4FE6-A3BA-291A0D40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849AB-8354-4EEC-89A3-EB9A8A8D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F8C05-09BF-4AA3-85DA-EC64F2E8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14A-D40F-4163-A8F0-0D3D12FE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9200F-0695-40F0-A2C1-44BA586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DBA69-41D2-4560-BDE5-77A15C44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4E821-5B60-4587-9263-EB603174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50DCF-258B-4E7F-A427-BDF7A2F5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4A4B9-AB2C-43EF-AFDC-1D0AED9C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E3A4D-532A-4515-86FA-DD662184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7B38D-18EB-4625-964C-1582B81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B4460-A8FF-4B68-AF1D-0E8BBC8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6EB8B-0A17-4918-93B8-8768F98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51FB-78A1-4AE0-9BC0-9D7C3976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04B-940C-46FC-B730-514D8909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56BE1-AEBD-4191-A4D8-037C9D2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E837E-4562-4A7A-B4B9-FC3C2556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84048-5A91-4607-AAA9-DB05B15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5D05E-3F0B-42A0-A443-D871C2DA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CADDC-3758-4D89-A671-B701155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7766B-80C9-4AF8-B22A-B6542A3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12E88-68DA-4D0E-8FEC-91DD5F1C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DE7B-34F7-44CA-978D-7A471A4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06437-93D1-422E-BF31-FBB0FDF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40A21-22D3-429D-BB2B-D3CBEFA8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3EC3-C02E-4E81-A32D-DBCBD96F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3371B-8842-4F5A-9637-A9B9A8CD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14D99-2146-409A-A522-F3D3C464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F19A6-636E-423D-B105-136291A3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22324-E6AE-4A84-9BEE-6A503123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9BCA5-FA9C-47F3-8AF0-CEEF8982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E3075-6337-42E4-B0CF-1A4CC78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BA15A-66A2-421D-A59F-F4CFBD8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42640-4EB1-4CA8-B4CA-DCBF6C3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92A4D-A015-433F-A848-A9D5BF0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6E7B2-591D-469E-9517-BB1D7C58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DCCC-786F-43FF-8CF1-C492E8BF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0A2F4-B30C-40B2-A3BD-589229D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2E160-BBAB-47EB-A604-CEB05084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D7349-002B-4A70-89C8-F032101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50CE3-291E-4447-B64C-71B635B1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20989-F245-4F5F-B95B-4F66009D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59F6D-E30C-4175-ACB3-B063A1AB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47F20-A970-4FE7-AF57-ACAB04C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A5F47-E3F4-4A23-9478-98168B3C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93240-8FD2-41A5-A8A5-A6A5585B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05EE9-D16E-4E0A-9BB6-03195FB8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F32-4F24-4DC0-96EF-26D128B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48B9D-3871-46F6-A38D-988BA79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45767-08DE-4903-9000-1F4F9C4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834A0-604F-47CD-B0E4-0E480AA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34795-9E85-47ED-96CD-C512591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A7F4D-8DC3-482E-977E-E3AD648D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9276F-AB52-4BA9-8362-A089B45D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54C1E-E81F-4F0B-9BC7-EC184D9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64C0C-EC32-4267-A934-D4433788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2D920-DC04-43D9-B8C0-55084A70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4EE80-818C-40FE-8EFF-31F3426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512E-0C68-4478-9B20-D6CEEFD4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51F2F-4694-4228-BED2-08E6A3C8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1442C-55AC-496A-9ECB-479F0D1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F8F3D-5AF1-4F46-9409-C1BCDEDB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5994F-DCA7-4F16-8647-808F9C6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790A8-DCF3-459B-B0B4-5790A3E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CE014-72D3-4322-9340-806BD53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25746-775C-4235-A0C3-B51BD3D5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8FAC0-5711-4F85-A665-F587B39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39410-1619-401B-BB59-12DC2753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03DCC-DCF4-4DB0-8D08-4A268D7D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9ED0-9598-44A5-9DF7-9A6501F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5870B-0434-475D-A6B1-DD7D776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26A9D-1157-441F-9F4A-3919F917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20A62-0529-4D68-B711-A19E440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F6A9F-AC69-4A0E-8E37-E757D657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5EBFA-A105-4CD6-90DF-638AD60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084DB-1F7A-434D-B9C3-96C23D4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8BA7E-1984-4D76-B097-B17A03B3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8A2A6-E806-4A81-8210-B29F849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9165C-DA00-4B52-A0CB-AE215A8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F2640-5B1E-4078-933F-43786A0F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3ED7-0620-454B-B445-80C63023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CAD90-337A-4AE8-9BD5-AD6AE40E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4D5E8-9A5C-4EC6-A9A9-B740FBCD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B44FD-77E9-43CE-9C70-F5DC529A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8399E-2BB2-4BCE-A701-E07AF510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AF9DF-2FA0-4718-A437-404C118D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EA03B-997D-40B9-9A60-42B7622E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FE8B0-4370-4D89-AF20-472C31DD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A6815-3D8D-49B8-B7C8-49AA9DF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C9421-BEC8-4030-AF62-2EBC3DAB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BEA09-3E27-4873-85C8-E2CBB2D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A347-4EA1-42CE-B7DF-65A0B647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EF42A-0D18-4A4D-A41A-AC1BC877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B26B7-90A3-4977-B316-48BB37F1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10618-DF53-4FB0-9912-A6DFBF55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274B5-6287-480F-81B3-C7958F06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B45B3-30D6-46C3-AC70-213312C3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15B93-FFB9-43C1-9C78-63AAD3C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6083B-B447-43D4-A49A-A933E0E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78FD0-406A-488E-B0ED-551C512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8D101-D7A1-4AB7-931F-1BDBD92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DB571-842D-4EF7-A69E-0FCC47D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6E1-C53B-49E2-A9BA-04501FA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D5E0-79E2-4E70-978A-E4F00FB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DB0E3-FE2F-4E27-B462-8D5CC2F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0401C-A192-469A-9ABE-2E2241B1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C8236-3657-4661-A8EA-0F23BD1B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0C933-5E41-449C-87E6-EB0A7570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955D5-CD21-456C-B2CA-221529C1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6DD05-2F29-414F-86D0-9A136E9A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2A2B9-8F70-4B6B-8515-3AB96DB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53225A-73EF-4BFF-B787-E16BE6C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D39DD-1723-4601-87B2-750A1CD3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693C7-A760-4599-A35F-E55BA849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B6DB-7983-40B3-90B0-0F16D84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0211A-0B4F-4544-988D-B219E360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61CE1-A105-46D3-8484-905345C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4E68A-8B40-4EB7-A896-CD776ECE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F5CF9-434A-4EEB-B237-E911232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3BAA8-9524-48F2-AC6E-2A7C7DF1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382AA-5C0E-448C-BE29-DA6F8659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4F00E-528A-4E09-94D1-D784FC1B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75A66-0F6B-444B-BA05-D61B2399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F331B-3A59-40BC-A10D-EECB8EE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797D0-18D8-4BAD-AD32-6E662AA6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F27-F359-479C-9B9A-90C2D54F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07919-7DF6-467E-A4BE-2621B57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F73D0-E9FA-4A0E-83C1-213A5910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79E6D-5F5A-4C91-8CFE-C8F6ED14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055675-A858-428D-8E68-057488E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5E16D-0541-4918-A88B-2BF2334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AC641-BF6F-4DE3-86BC-C27F7AA9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97C27-120E-4E17-A7D0-30F81BA8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9994B-CA36-4A1F-8B95-382F996D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531D6-561C-4363-892C-FC9E5CE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F90DE-9653-4FD8-845F-CE4374E1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A4B-868C-43A7-AA70-C5D89CC0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AE9BC-B45F-44ED-BFBB-E89420E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2CB6E-5109-4075-ACB8-E69677F6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DC452-C4ED-45AD-8726-B83592D0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F7F8B-6AFD-456D-BE5C-A659496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92607-9CFC-4695-B014-AF58294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9D32F-081B-44CA-8698-5E5C264B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C854F-EC3B-4B32-A189-EFA080A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FABDB-D0C4-423A-8A48-036906BF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53C9C-0584-4627-9713-E6149B6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47D62-1B83-4CDA-AA93-05966EFD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65CF-2D3F-41CA-9090-E0EAD7BC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C5699-B0ED-4A96-B406-61C78359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36049-DF5A-48CA-888C-5D0DC26B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03E4E6-197E-4A1F-A1F9-D6E7A404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3F6A0-6183-4577-9C2C-2E05C05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2F6B6-1218-4D8E-929B-4E6F2304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426FB-AD7D-4CD6-B9E5-D7BADC97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9195B-9870-4AE8-9E4F-1B2B40D5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75981B-0315-4CDA-AA36-8918881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F2932C-59A7-4081-8C9D-E0E0D73B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7FA61-2157-4D4F-9651-97E82C2A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215A-B236-4369-AD3D-5FB5FE5F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05CE7-8450-4D0D-8DA8-44C04AC9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A3C26-206A-4FA1-889D-D0B387A1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117CA-32E0-48C5-818E-84FDDEFE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9035-8F73-468C-A1A8-441C18E8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0CD7-1591-4344-A4A1-121F83BB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25CD-1365-4B05-B644-E8B87840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360F-4F25-4844-83DF-E59548F9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7A9-CD5B-4E53-972A-FD390DC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C412-69C7-4C1B-A0E9-E12F9937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8F31-DA67-451B-9BE0-9AC6B45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E6BB-DDA2-4F5D-BD5C-90D3039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3EEB-454D-4E38-A08B-BBFF257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06BE-8635-459C-A4ED-320DDE3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FED5-1F92-448A-A461-B6AA0AA4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6CF6-898A-4D2B-A448-6B391A84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0C9C-CDF0-4062-9608-8A1B9EC0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D87F-8C3C-469E-8095-D0DC019E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CAEB-C717-4279-91AD-9251FB9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069-CC0B-477D-8F19-3938E0BB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0AFD-DE2B-4EDD-973E-7263B542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5A70-C5AB-485B-AD4C-9A088A9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9619-323A-4AF4-93F4-A65ED68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C95D-B4B0-47A3-8BBD-99F3D47C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D7F3-F179-44C6-A508-20B7760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026D-CD09-4079-A0B5-CEA91959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FE93-37B7-4138-A3C0-D21144B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83AE-0EBD-474A-8DB0-8D366892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6A29-7DB5-43CD-AFBD-E591FBBD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FD453-9866-4FD9-AC05-2877617D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F4D-AF90-4201-B5F0-0B0D07D0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3633-A9F6-4A19-9143-EEF927DA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4460-589C-4546-A956-11FF48D1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3814-C7CB-4093-8134-7FA14493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C332F-A445-45AE-B267-50C44AF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FF65C-5A87-4857-8F59-C8473004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20F8C-B593-4951-9705-289CE43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5BB2-02BD-4691-9A07-4850FD9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E413-0C56-4ED1-8D32-634ABB8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7A1B5-C488-4B7C-89E5-B4D8158C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AB9D-350C-48B2-B3A4-9C17D111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7D9-4C2F-49EE-9CD1-3EBB162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9E6C-4B4D-4EF8-9901-5FC3740D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C836-B4EB-45C6-A937-F6177358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912B3-D5B4-4E94-8C3A-5E645AEA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B4C3-3ACF-4E0E-9AA8-477DF14D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AA7A5-3D8D-4E5D-B5A6-7AAA26C4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80993-C4FF-4B0C-A4C1-9A238B1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535A-8C49-4A54-9C56-CE49DBD6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111AD-C389-4CCE-B4A3-E85865F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5559-EE04-4868-9753-2D9D2E9E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C4F0A-F265-4E97-AAA0-4769C7E6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B4D-28C3-4330-A5DE-BDFF10E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4FB98-A2B7-4F73-BD55-9DFA2B71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697C-E19E-4491-964B-3F692D90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B589C-D4CA-4AAA-90AF-6452DDF8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E3986-59FD-402E-AEB4-3262246B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391C8-6CCD-4589-8C30-79D37C26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EA942-57EE-4F83-A23B-7919478B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E0A1D-AD8E-4347-A9A6-86BCADE0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5055F-0800-4104-9710-51058ED8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B91F-84EA-4E6B-8397-5DDAB5CD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425B-6D93-4108-AC9D-6B3CF5B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9ED-998C-41B1-A70B-67D9791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3E07A-2049-4FF3-9B35-A94E504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E3587-5BC3-40E7-AF24-7B3C2BC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CBD4-9C65-4525-BFB3-FAD48EED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BCE22-96DA-41A9-A2F4-41754D49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B5036-9CD7-4F2F-B70F-EC9A1FF6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AA16-4D72-4F6A-91C7-5C738425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8EBF-7FCB-4BBD-A899-B5D9D46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83E5-3085-4F70-B607-E6143AF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91324-7E54-4A9B-A91D-122F6167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EB837-F99E-437C-A141-9B9EDCC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E32-873D-45BA-A76B-B891E96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7DB8-8E42-4486-BF4A-05016C6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1F66-FFDB-4C60-A915-73A3D69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9C7A0-F54F-46BF-80AF-FF17888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14942-65F0-413D-A4F1-FFCEF90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81FD5-2040-41B2-A149-7A0DD87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EF728-A5B0-46CF-8255-D1B55648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2B2B-23FC-4152-8E7B-3A22CB87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8AB44-DAC3-4872-8A64-89604FF7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1F916-CD42-44AB-8323-02FEF50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75823-49A3-4AEB-BF1B-24602EBB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9CB-F803-4A50-A6F6-53D4DD7D13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EC4D-5702-4E47-BAAB-34622C3088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0AB-9D87-4D28-AEF9-1A1D6741C6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F4A3-6A06-4BB2-A35B-EB0E77EF0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0860-26F4-4438-B7F7-DD94082A5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52B4-3FD6-47B2-80C8-DFF22D07E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CCDB-6ED0-4E92-8AFE-A71B2E18F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502C-D84E-4301-8EFA-EFD1FFCEA4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C43-C5F3-49D1-821E-AA4BAF187E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5CE-B2CD-4086-92AC-4FF8F2EA0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931-3025-44B8-85CA-660AA5FAE6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E39-B420-429D-953A-5ECF9AF038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14BE-7676-47C8-808B-B6656AADC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4594-ADB8-48A8-8997-39CEA674F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66EC-CEC5-4D31-8887-CE40AFE926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CDE1-1B61-42C1-A582-B7D9F901AE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289-79E7-41D3-8209-2C75570B4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41E-06CE-4F67-A575-B029175017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34B-2DE5-43BD-84CC-34B238D47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5E98-23C1-4FF8-8DB9-9FD571C55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D864-386C-4771-B4AE-C6BBDF52F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CEB-FE50-4B20-80C7-DE82FCF225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C526-A68D-4DAE-B58A-0734C819A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AF2-541B-44BA-96D4-6A8321BBF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1F6-5FEB-47A6-A068-40237AEC37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211-AAE2-43C0-BC42-5046E1960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E64-F631-4483-99DA-9DE840EFF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B97-D623-4667-B779-5D5170D65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CDF-2FC0-49DF-8282-EB9D171E6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5836-27DC-45FA-B8EC-DB68E946D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C5AD-F83E-4937-A377-315DE79EA2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1550-8ACE-4274-9964-7A8CCE27A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46C5-44EF-421D-A1DA-53E12AD76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176F-850B-4A97-AB78-2B24551A2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6800-4007-46DB-A4EA-1E70308A43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D0FC-DEB0-4C5A-946B-9FDC69123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C23B-8BC0-48F7-B913-E15F314FC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0223-62F8-4FF7-9929-BC7C9DBBE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F4A2-B911-49D0-BF89-8AA67B2AA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14F-AFF2-424C-A040-6A268959B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2838240" cy="13618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019240" y="3019320"/>
            <a:ext cx="51055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9633" descr=""/>
          <p:cNvPicPr/>
          <p:nvPr/>
        </p:nvPicPr>
        <p:blipFill>
          <a:blip r:embed="rId1"/>
          <a:stretch/>
        </p:blipFill>
        <p:spPr>
          <a:xfrm>
            <a:off x="299880" y="700200"/>
            <a:ext cx="8544240" cy="5457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1511280" cy="8650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755640" y="5157720"/>
            <a:ext cx="4103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68609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7420320" cy="198108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68610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229600" cy="19526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3348000" y="141300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3708360" y="2205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5796000" y="1341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5651640" y="2205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7"/>
          <a:stretch/>
        </p:blipFill>
        <p:spPr>
          <a:xfrm>
            <a:off x="8101080" y="141300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8"/>
          <a:stretch/>
        </p:blipFill>
        <p:spPr>
          <a:xfrm>
            <a:off x="7956720" y="2205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9"/>
          <a:stretch/>
        </p:blipFill>
        <p:spPr>
          <a:xfrm>
            <a:off x="190800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0"/>
          <a:stretch/>
        </p:blipFill>
        <p:spPr>
          <a:xfrm>
            <a:off x="1835280" y="4797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1"/>
          <a:stretch/>
        </p:blipFill>
        <p:spPr>
          <a:xfrm>
            <a:off x="464328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2"/>
          <a:stretch/>
        </p:blipFill>
        <p:spPr>
          <a:xfrm>
            <a:off x="4427640" y="486900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3"/>
          <a:stretch/>
        </p:blipFill>
        <p:spPr>
          <a:xfrm>
            <a:off x="766764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4"/>
          <a:stretch/>
        </p:blipFill>
        <p:spPr>
          <a:xfrm>
            <a:off x="7164360" y="486900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5200" y="590400"/>
            <a:ext cx="8553600" cy="5677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084720" y="2679840"/>
            <a:ext cx="1151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8245440" y="3313080"/>
            <a:ext cx="6462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64620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093080" y="39337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700360" y="45385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364000" y="4508640"/>
            <a:ext cx="1151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156360" y="51577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3635280" y="574848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5724360" y="5762520"/>
            <a:ext cx="11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614520" y="399960"/>
            <a:ext cx="7914960" cy="6058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484360" y="314172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995640" y="311148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08720" y="309708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948360" y="314172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2484360" y="39909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3995640" y="396072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5508720" y="394668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6948360" y="39909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0"/>
          <a:stretch/>
        </p:blipFill>
        <p:spPr>
          <a:xfrm>
            <a:off x="5133960" y="495612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1"/>
          <a:stretch/>
        </p:blipFill>
        <p:spPr>
          <a:xfrm>
            <a:off x="4284720" y="53881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2"/>
          <a:stretch/>
        </p:blipFill>
        <p:spPr>
          <a:xfrm>
            <a:off x="5133960" y="584820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633240" y="1128600"/>
            <a:ext cx="7877520" cy="46008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09308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419640" y="3716280"/>
            <a:ext cx="502920" cy="865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692360" y="501336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3780000" y="501336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7250040" y="4826160"/>
            <a:ext cx="503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7352" descr=""/>
          <p:cNvPicPr/>
          <p:nvPr/>
        </p:nvPicPr>
        <p:blipFill>
          <a:blip r:embed="rId1"/>
          <a:stretch/>
        </p:blipFill>
        <p:spPr>
          <a:xfrm>
            <a:off x="338040" y="1595520"/>
            <a:ext cx="8467920" cy="3666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7885080" y="2463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7885080" y="3701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927920" y="4581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6324" descr=""/>
          <p:cNvPicPr/>
          <p:nvPr/>
        </p:nvPicPr>
        <p:blipFill>
          <a:blip r:embed="rId1"/>
          <a:stretch/>
        </p:blipFill>
        <p:spPr>
          <a:xfrm>
            <a:off x="523800" y="1685880"/>
            <a:ext cx="8096400" cy="34862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759636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524720" y="363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596360" y="445140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5300" descr=""/>
          <p:cNvPicPr/>
          <p:nvPr/>
        </p:nvPicPr>
        <p:blipFill>
          <a:blip r:embed="rId1"/>
          <a:stretch/>
        </p:blipFill>
        <p:spPr>
          <a:xfrm>
            <a:off x="838080" y="1442880"/>
            <a:ext cx="7467840" cy="3972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1476360" y="3629160"/>
            <a:ext cx="26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1476360" y="4653000"/>
            <a:ext cx="26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5796000" y="3429000"/>
            <a:ext cx="2663640" cy="936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651640" y="4508640"/>
            <a:ext cx="266364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4276" descr=""/>
          <p:cNvPicPr/>
          <p:nvPr/>
        </p:nvPicPr>
        <p:blipFill>
          <a:blip r:embed="rId1"/>
          <a:stretch/>
        </p:blipFill>
        <p:spPr>
          <a:xfrm>
            <a:off x="1062000" y="1824120"/>
            <a:ext cx="7020000" cy="32097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1116000" y="31971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3024360" cy="1008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5364000" y="2924280"/>
            <a:ext cx="3024360" cy="1008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5435640" y="4076640"/>
            <a:ext cx="30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2231" descr=""/>
          <p:cNvPicPr/>
          <p:nvPr/>
        </p:nvPicPr>
        <p:blipFill>
          <a:blip r:embed="rId1"/>
          <a:stretch/>
        </p:blipFill>
        <p:spPr>
          <a:xfrm>
            <a:off x="290520" y="1338120"/>
            <a:ext cx="8562960" cy="4181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3995640" y="5013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07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