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C2E6-E2AE-4412-8F4D-6F992219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01D2-D5AD-4302-98D7-F1555BE6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B6E50-C344-4599-9843-843C2D85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63F88-1FCF-45D3-BBF7-69C07B0C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BBC42-85FE-4B87-B732-CBD0E186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94D3D-19E8-4CED-880B-81E49EFC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0B442-393C-4358-A215-7FD63002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18A1D-731D-4F3D-B106-24D4B7F0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0F6D2-DA44-46EA-BC85-5723EB42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D8E71-6ADF-4EE3-80C9-AED362F0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E3AC1-86AB-4974-B459-87E054D9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E554E-84F4-4651-8845-5719F3EF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69EC-9F1B-4D1C-BBE2-655366B9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BF2F9-86F1-4ABB-A1CA-999DC17B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9722B-6446-4429-AC52-271ECBE0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78BED-2489-443E-A26C-EF1D049A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49593-0244-45B9-9EA2-2DAC9E5E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E4347-6AAA-407C-9DBE-C2C0171F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9D68F-05E4-484B-B0E5-0C11D8AA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A96A5-D021-417F-A55F-BCCA2B5E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1A9C5-2237-4CE6-BAB9-22182DA6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102CD-6DF2-4700-A579-C9E93750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CF276-6DE6-411C-ABF0-6A804BA9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6BDC-FFE3-4CCD-9E46-97E4B811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51DD3-5313-49D8-BB01-6BA68303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5CCD8-ECF2-4775-9E96-441E497C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0FB63-DA3A-467C-A7F2-68A41B07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A85C4-188E-493F-A95F-1B0B0D18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06E9C-03B9-4006-BD80-40A7D4D9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48988-A1B3-4142-9662-AA5B2971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FE71D-EA34-4123-9A32-70F33328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53F9C-FC35-4E4B-BB7E-51495C7B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C41A3-97EB-43CD-8B78-459E4110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42022-B471-497B-BFE5-1042D422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76C6-C7C1-422B-938E-8C7E1A51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C376F-7A47-41FD-B8CC-3097BFA8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E8723-2012-4412-AB48-7D066247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BF37D-A8A5-4617-B043-C1C244D7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3782E-5B75-4C2F-B532-CA46AC69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67587-BF55-40BB-A4CF-8571BF8D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AEFAC-C7C0-4A2E-A207-78B9791B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6BBC4-6F55-41E2-BAEB-42678C94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99AF5-EBE6-4E90-92CB-7055BAA4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18267-2F3A-4A68-9EA3-5996CF44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71332-CA1F-4C72-8F3C-A46B9C2C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5C4F-FC2F-4BC1-8E18-6D666035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39A99-D377-4458-BD61-69F2F48A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A066C-2775-45DE-AC51-328B9847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B0E02-030D-4FA0-8F4F-D235C2DB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DCD31-C36E-47FC-8E79-54E61ED0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0622E-38BC-43DF-9D91-FDD22A4E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56B909-1089-4FC9-AE85-09B372B5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D18F75-93BE-4A82-B181-A098A5FA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B81F5-787E-4E42-BBFE-7CF4A097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4497A3-0430-4B04-AB6C-F2D774D2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B46B7-62C9-47BA-A8D9-D470F7C7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D7C9-245D-470D-AE6C-8DE286BB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7330B3-6BF8-470F-AD6C-76412C05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01CD9-3E21-41CF-8792-E62FFC45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F2153-3F7C-48AB-B766-324AD86C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8DEA5-901A-4C25-8993-0AF84FBB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8FC05-DD22-4E2D-A437-C6EEC103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F139A-3F11-43A3-AAB6-CDC60B9C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6F5F3-20CB-4D36-961F-D9FFDF99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CB677-BF6F-46BD-8A00-0E46DC72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150C84-ACDA-48FD-8E5E-506E93A8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1CD44-E449-4A99-96E5-27D6717C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44C6-1680-4027-9884-A9AAABFA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920233-A623-4FC3-A515-6437324E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DA69E4-67E2-4FBB-BBFA-0B8C67F1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F26BE6-8708-4E29-821F-FBE5068C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7CAE28-A7A5-4D63-B8FE-83C95FC8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4A5EE9-CBFA-4558-9DD3-AFE00221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559267-4B5E-4726-A0E2-143091EB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375B6-A7A1-49AB-AC5E-F05E6B78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619347-B5CA-4A91-9D1A-93D699ED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8FCA26-D563-46DF-8EF8-E9399CCB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14B3F9-59E6-489D-8DF1-6BED45B7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6091-9DD8-4FDC-9F1C-BEEBF93C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8BFE87-7448-420F-A5DE-02487843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4FDEC9-F9ED-4048-A4AE-43C5A992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196BD5-9C8B-41E2-8046-01C015B6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E0F9EA-598E-4AA5-8D9D-A554A4FA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4A06A5-80C6-4D49-A2F0-111BF46D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1DA1D1-40AC-49F3-BE38-048D8EEB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715F1D-E2D6-49EE-917E-0B0E11AA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90514F-AB1E-4F87-BC68-47723311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EF56F1-482C-4597-9E2A-A4CEAFC5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FA63B9-E0F1-43CD-9114-EFA22067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C654-AC93-4BF8-AB58-A395B887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09E06-ECAF-4EB6-A9C5-23BD3D8C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9802F4-E081-4F22-AC46-CC1C40C1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F7CB1-9FBA-4DAE-B21F-EE1B6100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4888C9-811F-4411-940D-93086AC4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258ECC-899A-44EB-ADD4-489F47E3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645DC6-BECB-4BC7-A5A0-FF71274F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56B615-F88A-4BFE-832D-1917A8F0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8EF46B-9870-48F1-94C2-6C64AEBF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28F0C7-92E0-4A69-992A-59A1561C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8AE64-F4CF-42D2-AC69-B3909406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F1DB-8232-48CA-8937-E18DFFC2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C23E2C-D72D-45C8-99E9-BF8B5619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BA2665-BA51-454F-A941-122B5A40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6E9941-220E-40E2-BC9E-1EFBDC9E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88F068-5C7A-4D9C-BAC8-B66FA80D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2A20E6-1037-443B-948C-F4EE3F14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ECB051-935E-43E3-8141-E7297142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1B442E-A72A-485D-9D04-E849325F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4500DA-AC4E-47E6-AF55-4A572946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34322C-7BB5-4B0F-BA66-ED5BA8FC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42E8CB-9983-4D99-A3FB-5B945947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59CB-43DA-41F3-9885-CBFC9B0D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40E8-D7EC-4396-9720-22137D1C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7E57DE-2B2C-4324-8A82-490D441D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5C0F73-B9AA-4CA0-B5DB-8EDA0B46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C2570F-A60B-4E29-8A40-7D773988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7E4CF9-3392-4786-9BE5-D384DE96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666E58-1798-4742-98D8-E237701C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9BE4DA-B5F7-4D21-98B3-17E3F5BA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C60B61-696E-4035-8B9E-F99D379C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963373-C831-476A-BDA2-7654D466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06299C-AB69-4D92-968A-C76CDD61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0338CB-29BF-405D-AA94-7D3273CC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B7AD-4C69-499C-916B-79870836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32C106-3EDD-4BA3-9F28-6A2C29A8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29A0E3-61D4-48A1-A142-0CDB875F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309E25-A250-4BBC-B1CF-3A2A50EE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31DDDC-B9AE-4C24-BBA4-5E8F63E5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EA27BC-3E9D-4C45-9E1A-AF6F68D7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120323-15FB-4C4D-ACB0-D7CE726A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C62D81-AA50-41A0-AB3C-980CB26F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5280CF-FB86-4B8D-BC13-49056FAF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5FE03B-20F2-4031-A6DC-44714DE2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0A707D-1B3F-495C-802F-A2EE2C68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01E9-1361-47FB-9D86-F003D6A3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940CC6-41B5-4A63-97D7-DD6C708F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48510F-37A0-49D8-8D3C-C3D12C27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9306E7-72F7-4B93-8CFA-2A651DC9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0DC757-B46F-4877-8A67-75033CF8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86A7DC-B537-46EB-885A-C57B8B15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50F089-E07A-47D9-8B88-F2E3E530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E93678-4C1E-4C56-B329-1DB4CE86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4DF385-8CC7-4213-910F-8B3130E4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A23C8C-5B6A-46B8-AC38-0B19580A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17D496-61E8-454E-BD26-6E9EE0AC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9D7D-84E4-455D-9575-0B8D718F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4B2B42-5D82-41A7-B17F-4F50B340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CB3BC9-3A87-4D57-966D-55F341FD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58D769-B1C3-416C-AB62-475EA116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7F1F5A-1E4C-4123-BADA-2F0A08D6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E4936A-82EB-4A1D-94C6-383AC37F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38E22D-EF04-4C52-9E49-62B0C978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074E75-2552-43ED-ACFE-5FC2FBC5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1C4A1E-7D36-4365-8AF7-0A680DB4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9F7B1-0053-4433-9C1B-E0D27269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1609B9-8AC8-42F1-BC11-9950BD4C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6892-67D1-4F17-A49A-44485CAC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2DCF49-1A7B-4FDC-8731-0718B131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C11A8B-634A-4FC1-A6E1-D3B056FB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1D3D96-CBC9-4A87-83B1-BE8F87C4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2FBDB8-FA56-4285-9881-98C04105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9A8155-CB62-4FCD-A2A3-6699E2C5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56BBA4-6FF6-4BD5-8D8A-F0186544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5AFD08-C9A4-4EFC-9661-261CF506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1FFDDC-ED8F-42FD-8616-6E704F33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08D32B-AD6E-4B34-A5BB-CD5BA3FA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377C47-C9F7-4366-B007-8D8AA527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6B61D-291D-4F84-99D1-27773DB4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C2B928-7370-4DC4-AB51-48894CAF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919B7B-F2A4-421F-95EF-2DDB1EBD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B36C50-B236-488A-AECB-52516E53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B235-41CA-4691-A2CF-67CC5909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B6550-EC95-4846-B329-3CC0200B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44FF4-C4B5-4D34-AA17-B895207E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473D5-ED95-417C-BC4F-1E11A4A3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A653-5390-4855-9F8A-F359A641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96B87-FF33-419F-BD95-EF998F35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A5F3E-342A-4161-B17A-9DD890AF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5980D-76F7-483B-819E-85F73EC1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78297-D29A-4A76-B016-51B8B08B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E6092-1884-46FC-A202-68D9496B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F8C14-5D64-4358-8116-46B21AC7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487A3-587E-4E2A-82E4-96A26B75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E3F1C-8A58-4F9E-ACCF-206FD035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E571E-0FFB-4680-9000-8357C7E8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4927E-F944-43CA-95C7-70242648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371-7E5B-40AA-AF60-02E9D56D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4863F-C24F-4D39-97FF-7647551D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A5BBD-2A3E-4E3A-A8CA-D86DEC6F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7AF81-91B8-44E5-B29D-94CCF7C6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B5440-A500-496A-8414-C324F51F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F21E7-AED2-4B87-801F-1840602F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A378A-8B76-4610-9C90-7B0F1567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CF001-5FB8-41D4-98D0-2243F524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2285A-84B7-42DC-8B9B-2D2C624E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94E86-C85A-4ECB-A00D-4905F5CE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27845-3346-40FB-8ABD-EB2D5BF0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448D-6E9D-4577-92A3-E95913A6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14015-D23C-4B3D-8F01-93F0C298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2FE29-CFF7-4343-86F9-51702BC7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3111F-042D-4186-BCCD-22B3F038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7E87A-DC03-47FA-86EB-4AF4538E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4D86A-D65D-4850-8ADD-A7B44A2D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33E9C-60E0-4330-8A23-45E66EED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BBFA3-6C92-44BC-A253-9FBB6EE8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F30B7-A791-4734-9459-69F0B0B5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9C804-DF53-4D99-9AE9-B0FABEB7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299D3-E5C1-4701-9B9C-4366B7DA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6D4-0E70-47C9-A39F-E852E92B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D7A9E-13D9-4413-8031-436B568C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40000-3771-4847-8E32-51A260AA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B0838-EACC-41E2-ACB2-CE50C2E1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D37DA-3028-4D1F-86F1-FC305DF9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B5E2C-ECBB-457A-81C5-4E9931FD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A0718-FF5C-42EB-98E7-5BE14D1C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8BECB-F5A7-4B44-A701-508A8AA4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06696-5101-41B8-8C5B-751A5574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A1ED4-4B57-4959-823D-0BA4DBE9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141DB-32C4-4F5F-A9C3-AFA3498D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9218-2F71-4208-8C9C-09BF2410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0DD5C-E367-4D1C-8E6F-CFF9720D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47B83-E370-4D64-B253-DDC15993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D7F46-378D-4F55-AFCB-92582523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24E70-D219-4EFF-AFF6-DBBEC377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1CDA6-3525-44DA-B0AF-4CE2E377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83AD3-B717-4023-B699-3B27C2FC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C1365-A00F-4517-B6CE-7516B68E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EFF03-74C8-45DF-AA44-AFD00E94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065F5-D9D0-4E5F-861F-8763D560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D6B30-6216-4DB9-86CE-0228CB00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6E83-32EC-412D-B314-38891AFE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71498-61A0-4B7A-8236-5B011531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20C81-EF2A-4981-8877-C7AC7030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A5248-C38F-48C0-AFB3-3AE96D86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069C1-89F5-4169-BDC2-B2B6406E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C6C7A-D116-486E-BBA9-410F60DF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29B73-578D-444C-B049-4980A28A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18AA6-5FA5-4E5B-8D44-92B5D6EF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FE19F-9363-4347-A7E7-C7BC3911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D7996-705E-4ACC-B20A-5154FA44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1B4C8-207E-42DA-BC52-DE851D8C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885-A2DA-44F9-A352-B00B5156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8053D-FE10-46D3-B8B9-2E21A4E4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791F6-6CE2-4EA2-9BFA-2D599891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D4AF8-3699-4B4C-9796-1C41B482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459B9-4C39-4B4B-A3C9-7FB1E97C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CBF27-FA05-4D22-AC79-3FE7E544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587BB-F60F-4E2C-BBD9-B8A08629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D5CFB-AD58-4231-B427-284BA434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0F44D-FE63-4656-BA77-2123D04F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57824-4C01-45C3-B135-FF58C448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A41DA-A6CB-4458-8FF6-3D8DF51B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4B31-A27C-47C9-8F78-B97A1858AC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CA5B-3A3E-4DD2-A33B-2558986FB6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AF8E-F30F-4E6D-8833-4C76BEEFEB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59FE-EBEA-40C1-9474-C9FC47CA6D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6210-8565-4C9A-8803-509FEDCC32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7C8E-A30A-4804-BA5B-0273256E50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F35D-B9EC-406C-9898-57B243E82D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F563-893B-47AB-B9A0-F2981B0A73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7377-5CB8-49E9-B558-92D637D092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233A-C956-4774-8DA3-0FB89F477C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E6A1-89CB-48F8-9328-686F67C236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7E0D-B723-4B7E-A73D-4258129A2D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5428-FADF-4860-A267-5D3DD3D5AC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2B6D-22BF-4933-A927-C363B7E72C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9856-DDD8-43CB-8390-2C05037698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1DB3-E437-4065-AB42-B4D0DF517F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CDF1-D19A-43C3-916A-A8DDC6E74B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9593-FE0B-48BE-A3DE-3C2689B6B5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4CD1-2EFF-4020-A4AC-8DF9E0390E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5208-9E1C-488B-A3BD-32D28887AE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0AF2-2029-4EE2-9E37-9C8F09783E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85A2-E274-4109-BB6B-CB2CB65952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3D5B-3AEB-482F-BE27-07ECD8408B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EEE9-D2F4-405F-95C1-2818D0CFE9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AF81-912B-4845-9B26-2B8E18FC34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3C4B-D0F6-4582-9DBA-0807FE97D4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0D4E-6FD3-408B-A218-475F7F07FE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EC4E-4C57-4F80-BB64-F7A81B4376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B039-3F5F-4347-BB84-3579003C7C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12C6-75F7-4F9D-9D9E-8FE3C77881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069C-3E55-4708-AF6C-9E5D31C674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6F14-83F9-4908-96E8-F02D968EC6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A8B6-E9D8-46FC-B1D7-A4D8F0E7B5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605D-9AA2-473D-BEE6-6DEFFE346D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EA9D-07CA-4159-BC49-24B980BB9D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9D78-B2A0-435E-BA6A-51A6537A7C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07DA-A6CD-40AF-B3D0-92769EB6F2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93CA-73D3-4013-93D6-17A1F6F429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732D-5673-44CB-B281-DA9A0E75F8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D076-6FC5-43D6-8561-238C3F06D2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461960" y="3062160"/>
            <a:ext cx="62200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69633" descr=""/>
          <p:cNvPicPr/>
          <p:nvPr/>
        </p:nvPicPr>
        <p:blipFill>
          <a:blip r:embed="rId1"/>
          <a:stretch/>
        </p:blipFill>
        <p:spPr>
          <a:xfrm>
            <a:off x="299880" y="647640"/>
            <a:ext cx="85442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68609" descr=""/>
          <p:cNvPicPr/>
          <p:nvPr/>
        </p:nvPicPr>
        <p:blipFill>
          <a:blip r:embed="rId1"/>
          <a:stretch/>
        </p:blipFill>
        <p:spPr>
          <a:xfrm>
            <a:off x="828720" y="2552760"/>
            <a:ext cx="7486560" cy="1752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5688000" cy="8650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75614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33360" y="1471680"/>
            <a:ext cx="8477280" cy="39146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356000" y="3933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812000" y="3933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908000" y="48690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619200" y="712800"/>
            <a:ext cx="7905600" cy="60292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7451640" y="105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1547640" y="1916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5537160" y="28098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1360440" y="3860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3059280" y="3860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8"/>
          <a:stretch/>
        </p:blipFill>
        <p:spPr>
          <a:xfrm>
            <a:off x="4572000" y="3860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9"/>
          <a:stretch/>
        </p:blipFill>
        <p:spPr>
          <a:xfrm>
            <a:off x="7667640" y="486900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0"/>
          <a:stretch/>
        </p:blipFill>
        <p:spPr>
          <a:xfrm>
            <a:off x="3059280" y="5315040"/>
            <a:ext cx="86508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1"/>
          <a:stretch/>
        </p:blipFill>
        <p:spPr>
          <a:xfrm>
            <a:off x="2771640" y="5734080"/>
            <a:ext cx="865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8373" descr=""/>
          <p:cNvPicPr/>
          <p:nvPr/>
        </p:nvPicPr>
        <p:blipFill>
          <a:blip r:embed="rId1"/>
          <a:stretch/>
        </p:blipFill>
        <p:spPr>
          <a:xfrm>
            <a:off x="619200" y="938160"/>
            <a:ext cx="7905600" cy="49816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7093080" y="1052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2700360" y="1773360"/>
            <a:ext cx="792000" cy="8636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1547640" y="3068640"/>
            <a:ext cx="64800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6300720" y="30830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1547640" y="400536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7"/>
          <a:stretch/>
        </p:blipFill>
        <p:spPr>
          <a:xfrm>
            <a:off x="3708360" y="5388120"/>
            <a:ext cx="64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7352" descr=""/>
          <p:cNvPicPr/>
          <p:nvPr/>
        </p:nvPicPr>
        <p:blipFill>
          <a:blip r:embed="rId1"/>
          <a:stretch/>
        </p:blipFill>
        <p:spPr>
          <a:xfrm>
            <a:off x="509760" y="795240"/>
            <a:ext cx="8124480" cy="56581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1116000" y="306864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5284800" y="2306520"/>
            <a:ext cx="346392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5213520" y="3025800"/>
            <a:ext cx="346392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1042920" y="4869000"/>
            <a:ext cx="4033800" cy="8650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971640" y="6019920"/>
            <a:ext cx="346392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5292720" y="5141880"/>
            <a:ext cx="172728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9"/>
          <a:stretch/>
        </p:blipFill>
        <p:spPr>
          <a:xfrm>
            <a:off x="5292720" y="5978520"/>
            <a:ext cx="1727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6324" descr=""/>
          <p:cNvPicPr/>
          <p:nvPr/>
        </p:nvPicPr>
        <p:blipFill>
          <a:blip r:embed="rId1"/>
          <a:stretch/>
        </p:blipFill>
        <p:spPr>
          <a:xfrm>
            <a:off x="1405080" y="1990800"/>
            <a:ext cx="6333840" cy="28764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1332000" y="3429000"/>
            <a:ext cx="287964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1332000" y="4307040"/>
            <a:ext cx="2879640" cy="4474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5435640" y="3141720"/>
            <a:ext cx="2879640" cy="934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5508720" y="4292640"/>
            <a:ext cx="2879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5300" descr=""/>
          <p:cNvPicPr/>
          <p:nvPr/>
        </p:nvPicPr>
        <p:blipFill>
          <a:blip r:embed="rId1"/>
          <a:stretch/>
        </p:blipFill>
        <p:spPr>
          <a:xfrm>
            <a:off x="295200" y="841320"/>
            <a:ext cx="8553600" cy="53244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1403280" y="5661000"/>
            <a:ext cx="4681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4276" descr=""/>
          <p:cNvPicPr/>
          <p:nvPr/>
        </p:nvPicPr>
        <p:blipFill>
          <a:blip r:embed="rId1"/>
          <a:stretch/>
        </p:blipFill>
        <p:spPr>
          <a:xfrm>
            <a:off x="318960" y="695160"/>
            <a:ext cx="850608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2231" descr=""/>
          <p:cNvPicPr/>
          <p:nvPr/>
        </p:nvPicPr>
        <p:blipFill>
          <a:blip r:embed="rId1"/>
          <a:stretch/>
        </p:blipFill>
        <p:spPr>
          <a:xfrm>
            <a:off x="552600" y="2176560"/>
            <a:ext cx="8038800" cy="25048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611280" y="2260440"/>
            <a:ext cx="309708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4356000" y="2262240"/>
            <a:ext cx="345600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395280" y="2924280"/>
            <a:ext cx="345600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4284720" y="292428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6"/>
          <a:stretch/>
        </p:blipFill>
        <p:spPr>
          <a:xfrm>
            <a:off x="539640" y="3557520"/>
            <a:ext cx="80647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08:27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