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AAA-10C9-4AE7-AB8D-C412133F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537-B06F-47F0-A9CB-B358085A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9985B-AEC6-47A4-8486-0995C863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5FBB2-5C1B-4FBC-B5AB-55F43D14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2929B-6EEA-43A4-9946-1EAABF46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CFE28-7BB7-4CE6-9763-1BF4E01F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27B4B-83C9-4685-BEB1-A043DFC5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FB366-8AC7-4A29-9F0A-387CC890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B387B-0A97-47B6-BE09-13435759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99FE0-E52A-435D-B429-675AA009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B5260-D618-4791-A754-2C234FD6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A1CC4-0698-4060-BDF6-62F71AD6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95B-A262-4854-9199-6A62C348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2A671-F73F-42AD-BADD-F1C8C5DF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DD3CB-2FE3-496B-AD25-A3017317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711F6-05A8-4C2E-9D9E-4A5E34D7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F56B0-B372-4396-B2C6-8BD22E3E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865D6-05D4-4C01-A5D1-7634358E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E5DB0-88D8-4750-967E-0B7CA61A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2E936-C807-4B88-9C97-F78437B2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F35AF-0FCB-4EA0-9454-649CC6C0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8E62E-E094-4319-9059-561E1C86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176CA-5AB5-4C57-A461-5C70C583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721-C647-4D8D-8873-86FE40C3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DF5AD-D3E3-444D-8F6C-28D14C9B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C38F5-216B-4B6D-BB6E-45C91B50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BC8A1-0F5A-4205-8ABB-E746BD01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7719C-8BA2-427B-B48A-7051CB05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2BE53-2F28-48F8-919F-C6335C32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EE7DC-45A5-419C-9D5F-2A552D23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AE141-3C37-4611-A76B-E9ACC8A0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98768-3356-45D6-98A9-E2E2A0C6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F5A9F-BD93-4CDB-9126-A57217F2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9FCD6-B6DC-4B69-B120-7700B382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B453-8C25-46D4-897B-E28D20BE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45533-3535-4901-93E4-4997F177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49514-A338-4F86-B0DE-B67F60B0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F0CF5-0F43-44C3-A235-6558ACA9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DFABA-B15F-4147-83AF-4FB7D4BF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AFFD1-BE3B-43F7-812E-54B26B25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D4828-B83B-4BD0-ABC4-9AA8D475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CD9D6-5878-4DB3-A686-0EE84DC4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C637F-5994-41FD-AFE3-74F2AC5C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E6C42-FC28-4DBE-ABAE-E496EFC4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C18FA-E670-41D6-A888-A9F87EBD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5DF7-05B5-40D8-A99D-C6B39D51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E1389-188B-4BFE-BE2A-51A37128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DE083-4891-48EE-85C2-84AA1A6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6E5BA-EBE5-400D-ADCC-42671C14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ECDAA-6504-428F-BCDD-333566F2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DA646-5CB8-45AA-9CAF-78F069A7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42B06-5391-4E02-B9F9-D3C4A600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1A635-002B-4BFF-A56D-B769AE4F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B8A72-9AB9-4637-B243-220177D3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624EA-A585-46AB-8C24-06452A35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AFA09-C806-4723-93A2-76E62DC0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7A06-C727-4237-AFDF-39E2BA3F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78B44-E77C-41DC-B80A-3215C757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EF58B-D3E7-4D09-B1C6-430226E3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15816-16A9-49B7-B6A5-5B9ADF7E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0BFC6-30CC-451C-BDA9-EC46C57A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A35E0-95B9-4641-A54F-7B3C6203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675AF-6F95-407C-93BA-59F6635E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4E57C-56C5-488B-B2CC-5DAB9914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20A78-FE32-42C1-B71F-14BC4F82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00626-8DFC-46B2-9ACC-E4B720DE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210D7-FE2C-4312-B8D2-48F5D96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D540-1B68-42D4-A245-0125686F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51163-1F60-4E8B-BDF8-7324FBD7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9A059-6CCE-4958-84D4-F176D882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20A79-0ACA-4354-9104-792B5BB3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57CD8-B0DA-4575-9AC2-2C68B7E6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4ECA6-FE97-4DA1-82E0-E0439A85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EBDEE9-BA7B-4942-8003-DEDC5C77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C97586-D65C-4990-8C7B-F29AF7F9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50FDC-3648-4563-8347-F4DCEAEA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70374-FD55-400D-92FB-F39335CC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CF824-BBEA-4426-96B8-7BDC5637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6BBE-2A43-480F-B94F-0F7DEDB9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D44BC-ECF6-4738-9196-A0BE206F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7C5EB-A97F-43A2-B90B-6928D2BE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F64E3-0DD7-4E12-9633-C8DE1D05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3B49C-19FB-4A11-90DC-CDDFDF33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66204A-2240-4EF6-92EB-BF3E94C8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5714A-15F6-43BF-89FC-AA0C9E93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3C9E5C-B5FD-41EE-8355-F62593FE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1E708-EB10-410B-A690-22D9CF8F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8B495A-12AD-4B60-BDDD-D3378359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9702FF-CBCA-4F34-9744-A82E890F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C6CC-E02B-4E0E-B852-4C4CD451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39E3ED-783B-469A-9613-32237114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8E4B32-3CC8-4D1A-AE7F-6C3F8734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0C367-468E-4638-BF60-C8F340C9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3FB74D-A5AF-4552-A9EE-699B06C1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CFB85-0EDF-41B2-BCA1-33031D5A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6BEC9B-7B8C-42F6-A193-F0ADA1A3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DD6FB-BAAE-4482-82EE-40B8B98E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A830F9-38EA-444F-9DD8-DD28B636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06FB15-893A-45D6-95B4-CBAF0879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73E140-1547-4047-B41D-E10D720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ABBB-4103-4B46-A1A2-5CBB2F23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34DEB5-B0E4-40F3-803C-10911939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031B6F-D14B-438B-8E49-0E8058CC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89793-8D25-498A-B5D6-ED015325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54BF0-81B2-433B-A75F-6FF9E8AC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5012EA-E529-4781-80A4-EC2CED2B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42842-9021-4E1B-A66D-1393CF97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78A2DC-5608-4475-AE63-BE73B4B1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57A61-627D-4BD5-A932-A8851576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80BBB9-06DC-4246-948B-47FDCE8D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D6563-14DD-4F8B-8040-553EA3D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4F9-AF18-4DEF-820A-8F3F381D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4E8F-6F4C-494F-857B-E4D4952F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BD6F4F-F571-48B5-A3E0-96A937A0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17651-7C03-4E69-9481-0779BD69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3FA9A8-7255-43C7-8644-A6EFA835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5A2EB-5DA4-4B11-8D76-563EEBCF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121D5-6CEC-4D58-8548-739CF9B4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B42A0-B5E9-4817-A0FF-D1A17F2A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7C75C-233F-4058-84B6-E5CC7DCC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BF3992-EE18-42FD-A26B-AF44CA57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80142-9F1A-427B-872B-2D747B3B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D438DA-7028-43BF-B6A1-9A6070AB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237A-095F-4B5E-98D2-1E3A4667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5CAFE7-DAF0-4325-B419-48C4853A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B2D569-B880-4A7B-ADE5-1F96A6AF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54D7A-3CDF-4CCE-BE19-FE279F3F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0F9F4B-F0D7-4C55-A68C-D7A15FE8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F3ED7-A41D-4112-93F0-1ABE4E01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3041ED-1DB5-42E7-B634-A7ADEB26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58F108-4A45-41AA-A139-AF6D2529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6EAE0-2E5E-42C3-A45D-62232E66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4AB3C-C9C4-4A59-AED0-AA9F2C5B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51710-A89A-424A-8CB8-15BCCC3D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A0E8-BA81-413A-93A4-795CE25F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BA334C-DC12-4669-955D-FCF0E60D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5D0559-06CC-48E4-B6B4-0D951B56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D037E5-FF8F-4CBB-ADA5-66DA6757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80914-108C-4059-80F6-2A5A3069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4D1F10-2021-4A25-8745-D8C38E7C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C94FFF-6D0D-43F6-9C6D-77DC9B81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443E4A-EA11-4479-86F5-779C9EA8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2846CF-1621-40F9-8EF8-59344C25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B869F9-B6C2-4BDE-82C6-13266F7F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733358-F1F4-49B9-870F-A7B324CA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B4EE-FA31-43F4-8B23-0A822734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999F1-9EF9-4B45-880D-B4EFA147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E1CDC6-8841-4D14-A43A-4CFE2CB7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40FA63-A584-4C74-AB43-63177799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AC4BE2-1113-4566-BA5B-CCEC017C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158DA-F0F7-47FC-9955-6AA75465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9E0111-1F48-4D25-8B90-B7089BF1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63B632-1BCF-42A1-84CA-016CA61B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77B3EE-7BB0-4EA1-8CBA-55ADB24B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B75D51-309B-46C1-BFD3-794559F3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5A0AB2-AE73-4B0F-8175-EB2C7758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98B6-8006-4820-A5E7-5E135868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41B246-73D0-4FE2-804A-E74F019C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F6463-B21F-494B-8C86-FE1CD733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992A95-B62F-4EC2-8643-292BBEC6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052101-25F2-424D-AA4E-0F9C6D84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6FD0BC-5D07-4338-B0BD-5CFA9517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FEF86-A5AB-40B9-8D30-5D6C12A1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50CF5F-AD6C-4651-9CD7-49754128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632EC1-E0D2-4C9F-A398-2138A60F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A72EF6-920D-4F01-95BF-AF750E4C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FDDF1-A0A3-434E-8FDD-E6AFB887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057FB-4545-491B-871E-ED9207AC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F7A0ED-D4A8-4DB2-8C1F-75D35FB0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8AFEF3-54A2-421A-AA2E-18FE6647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69F210-AB4A-40A9-8BD3-BC1B3654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411D-DACA-4A0D-BAA7-3D252BC3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9208-E0C4-4750-AE4E-7B4EA901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98AD7-B68F-484A-8294-0ECD9141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D156-0B19-495A-A328-8F39D2FF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C72-1ADC-42D4-B332-7EBE0277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E15F-08E0-44C2-814C-87F21E77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92D88-531A-4B4B-8A75-F955F69C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CDB8E-9814-4609-AD22-5CAD4D76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93760-5E72-4C38-9C68-BE0EC226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2101-AE95-4F36-A261-CB0AABC1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6C57C-637D-4D1E-8B62-3C96F5C8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01CAF-EC91-4E2E-A06E-8C7FC596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EA73D-9827-4987-BB91-DCC0CDA5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6FB71-1156-4D48-8ECD-67AFDEEB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C9D10-BB08-450E-8468-729367E2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F38-8E58-4EA5-AF5F-52E8B5B9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B5475-FC97-4B54-A65A-77D2EE2A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F5F10-5E37-433A-9BAC-F947051C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66C5-77CB-41C5-AFC2-CC28F9F7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AFE6C-002A-426E-82B7-02584C57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7B620-32E9-4C52-94CC-3C484EE1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D8898-57C7-4E7C-B9C7-50E419BE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72491-EA65-4E33-9191-41E1ABBD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5AA98-D058-4C14-AE11-81C39088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239AA-AE4A-4018-829B-1A73C8DE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0FBC1-8810-47DA-B595-34248834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DD0-0FA7-491B-A181-26F0C24D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9B4E1-9E91-4467-8ECC-76736328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706DB-2126-4322-8132-99739EE8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D6F12-2F1E-4514-A162-8FBE40F6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5F1B-9CE8-443E-9196-3D3CBDED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98C9B-F37B-46BF-94FA-5C41B05C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E35AE-F055-4CB3-815E-17CFF2A9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A89DE-B3E7-4C42-A30D-E01BFDFB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615F1-55F4-41B9-BD9B-5FC3DBE2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CE5D7-AE28-4E52-8DE4-7675CC5A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58936-7A61-415D-ACAB-975B0244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9CF-6E94-437A-BAEA-036B980D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A1D86-70D6-4687-94CB-F5F90880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CCA5D-09F7-4818-8622-88621E54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35A32-5698-4E33-AC74-CAE79565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67E13-484D-4402-B92A-3CD0166A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A95CD-F615-4902-A868-4E622E99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D9FCF-D295-4041-BD78-995B0F1E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DFF95-970B-4DB0-A34E-D3A671DF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CD586-621E-4A69-BCD1-1ACC54BD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D1CE6-4A82-47AD-A24D-422226B1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E9B6F-A179-4915-8682-AE3CC404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E48-56D2-4A00-9C27-B80DC8E9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9E579-1570-4CD4-B1F6-D241858E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8B1DD-EE2E-4468-87A8-7814438D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DD902-1A9F-41B6-90B7-5411E8EE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30EB9-3579-46BD-8239-E1543141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4212E-1969-49A5-95D7-317050B0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D7070-9B17-4D73-A568-2ECA407F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F4EFA-253B-4451-84DD-D5B4EB6C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681AC-CD05-4D63-A8E0-25E57343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30E80-FB3D-4C61-8050-453FA98E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7C852-1325-45D3-948C-2E75504B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230-E2FE-4746-BB22-7226D524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17763-0E96-48C4-9AA2-B088CA9C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A14BA-C3FC-4EFD-888E-29D345D5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2BF76-CF6B-45D1-A823-457474D3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90601-FACB-4B67-802E-442827E6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A9AF3-0349-4062-997A-64F0747D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0FD88-993A-4F6C-93A2-311024E4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1533C-7DA4-463F-9097-15624435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75251-0CD3-45A0-960B-A5E384B4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9E55E-EA7C-4733-9578-023A94C6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669BA-1400-4FD8-B6B1-2BC5466F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EB8-31E1-4419-AF9D-FC53D89B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01AA5-D55E-4C7E-9B8E-9C49A95F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45EB0-52BE-4825-B9F2-85E0177D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C79B6-6E62-475E-A8CE-459A9CF9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6C84C-66AF-4C71-8C3C-BD9106C7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F5F98-58FD-4C28-884E-D5CD5F88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365CE-0828-4A7D-8B0F-6E026344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2000E-354D-4DAB-AA35-939A9C3F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6E511-C8E7-4B48-B1AB-D625F00D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6BCED-3831-4522-95E2-6E5D9787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5BF17-F8B1-4074-81DB-37547ABE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7456-F368-4607-8158-B9762F512F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FBA7-3AA1-49B2-9996-9CD4E6E334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1C64-F479-4131-BFBD-9CE84AFC04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DE9C-AEAF-4AF2-BAB6-7A2C04902D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A968-0344-4C4A-9857-E6E2CFE901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8933-DC32-4963-A250-9DD680023B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63CE-E4B0-4826-A7CF-153C899C7B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40D9-0DC2-46A6-803D-875D5FAABF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537A-48AE-4E07-82F6-690833135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E2EB-F1F9-48D9-90CD-CE01B3967C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5D4B-4B7A-4EBD-9BB4-24306A2F24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4321-DDB1-4691-BE20-947ED76161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24A2-48EC-4FD7-B66F-E642023915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6E5F-F497-449F-8EC3-2B96C75E31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E9D6-7CCE-4A10-952D-6BF94D202D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3542-D314-4833-A06F-289B8EC94B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90D7-EDC8-4F32-BE05-EBD4D6C18A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6032-BAB8-45C1-8A49-CBE5C5700E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BE01-5C44-453F-B6B0-BFAD696DD4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25DE-A8BA-4489-A4CE-7C2CD17463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D349-7CFD-4000-B383-312E0A5FC4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74FB-156C-4C5C-AEDC-7897422BCA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F00D-F0F0-4952-B5F2-F195A3A3A0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C46A-633B-4D50-AD22-7794AC9460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FC57-3A47-4ABF-BF5B-423B43AA4B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52FB-4BC6-4BFA-9770-06C851B2DB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1EED-A301-4C7A-95EA-F3D7441C09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521E-F524-4725-8110-4F48A0A125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32EB-635D-4FAC-A8AE-43E9717C0B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56E9-30F7-4E9A-B7C0-3FE3A8BFF6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3844-C0AA-400D-80A3-3DA3AF8808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B546-3CBF-424C-AE71-615697A131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07F2-55C0-4F32-BF1A-059C53653A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1B45-3A00-49A2-91F5-48A36CAAD8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93CA-F30F-4FB5-8228-82F93EF298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613A-C975-47BC-8198-5B34FE1253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3565-EC15-489B-92B8-26A71D2548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ABC3-951A-4370-9F0E-7B6EF0502A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C35C-B20F-404A-84B6-835C29FDF9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1C55-2293-4AD0-B9AB-69B8A86CEE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43000" y="3086280"/>
            <a:ext cx="5058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28680" y="314280"/>
            <a:ext cx="8486640" cy="62294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268360" y="3284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73272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627280" y="4005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419640" y="4637160"/>
            <a:ext cx="51130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276720" y="5315040"/>
            <a:ext cx="51130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987640" y="6021360"/>
            <a:ext cx="511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642960" y="776160"/>
            <a:ext cx="7858080" cy="53056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6443640" y="83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6443640" y="13701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3419640" y="20034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3419640" y="25369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3132000" y="3284640"/>
            <a:ext cx="4535640" cy="8650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2700360" y="4437000"/>
            <a:ext cx="4535640" cy="8650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3492360" y="5516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5940360" y="553068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471600" y="385920"/>
            <a:ext cx="8200800" cy="60861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1116000" y="3716280"/>
            <a:ext cx="6840720" cy="9367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1042920" y="4869000"/>
            <a:ext cx="6840720" cy="9363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1042920" y="6035760"/>
            <a:ext cx="741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318960" y="828720"/>
            <a:ext cx="8506080" cy="5200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4321440" cy="934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4321440" cy="934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900000" y="5373720"/>
            <a:ext cx="7272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314280" y="343080"/>
            <a:ext cx="8515440" cy="61722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826920" y="2620800"/>
            <a:ext cx="633744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633744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826920" y="3962520"/>
            <a:ext cx="63374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826920" y="4710240"/>
            <a:ext cx="633744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826920" y="5373720"/>
            <a:ext cx="79930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5300" descr=""/>
          <p:cNvPicPr/>
          <p:nvPr/>
        </p:nvPicPr>
        <p:blipFill>
          <a:blip r:embed="rId1"/>
          <a:stretch/>
        </p:blipFill>
        <p:spPr>
          <a:xfrm>
            <a:off x="299880" y="103320"/>
            <a:ext cx="8232840" cy="66452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826920" y="1571760"/>
            <a:ext cx="460872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4896000" cy="93636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755640" y="3429000"/>
            <a:ext cx="4896000" cy="9367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755640" y="4581360"/>
            <a:ext cx="4896000" cy="9367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611280" y="566100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826920" y="6308640"/>
            <a:ext cx="6050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4276" descr=""/>
          <p:cNvPicPr/>
          <p:nvPr/>
        </p:nvPicPr>
        <p:blipFill>
          <a:blip r:embed="rId1"/>
          <a:stretch/>
        </p:blipFill>
        <p:spPr>
          <a:xfrm>
            <a:off x="324000" y="4005360"/>
            <a:ext cx="8458200" cy="188568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54277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6591240" cy="1914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4140360" y="2565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7236000" y="170028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6"/>
          <a:stretch/>
        </p:blipFill>
        <p:spPr>
          <a:xfrm>
            <a:off x="6948360" y="26370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7"/>
          <a:stretch/>
        </p:blipFill>
        <p:spPr>
          <a:xfrm>
            <a:off x="1619280" y="4292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8"/>
          <a:stretch/>
        </p:blipFill>
        <p:spPr>
          <a:xfrm>
            <a:off x="1692360" y="51577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9"/>
          <a:stretch/>
        </p:blipFill>
        <p:spPr>
          <a:xfrm>
            <a:off x="4788000" y="4292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0"/>
          <a:stretch/>
        </p:blipFill>
        <p:spPr>
          <a:xfrm>
            <a:off x="4427640" y="51577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1"/>
          <a:stretch/>
        </p:blipFill>
        <p:spPr>
          <a:xfrm>
            <a:off x="7812000" y="429264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2"/>
          <a:stretch/>
        </p:blipFill>
        <p:spPr>
          <a:xfrm>
            <a:off x="7956720" y="515772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09:0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