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3BE-6237-4EAD-80D3-2530F9FD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9CA-BF6C-416B-B595-0356576C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CCDEC-42A0-41A8-8C3E-71C682EF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18E37-45C4-4DA6-9EF6-69E37268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74229-E3F0-4905-B57D-C89D41C0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EA567-3E5D-46D9-8875-C39944DE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ED0AC-044F-4A5A-A636-854CDE11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AE20F-ABDF-4F94-835D-1013AF6E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F542B-E18B-4DF8-9D2C-F1B8122B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7BF1E-69B5-4F2B-A0B8-338256C2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A4C3E-E881-4A91-A3F5-F1E3236E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D7762-B9A5-4243-9CD2-203B274D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369-A73B-415F-A649-475071BB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76255-61E6-4B28-A928-3117ACA4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99986-8DAF-48F4-9007-D7EFEA4D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3DFE6-77D4-4B0F-BB98-C4A48413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0A265-942E-4007-849C-44A66129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3C00C-2545-4151-8AB3-3C2A1B36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2778E-EA59-47A3-A3D3-E7D20B75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03834-91A0-4E21-84E7-4D4B9CDF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34333-D74D-4B9B-A2FE-DA1FDE71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F283A-F5CC-4AE3-8F32-610EA93A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773BC-FA69-4B55-9704-2384D319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BC8-D3B1-4012-8BB9-F0C3DCF6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188FF-F076-48F4-8506-EA9042DA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3DA46-6A9A-40A8-BFC6-15173551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E89DB-14C1-4F20-BD8C-611A5177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364C4-A6CC-4C31-870A-7E977DF9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EBB5F-03A6-4962-A09B-294754EB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4CB78-BC6C-432E-A936-9F4AACD6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BECB2-2433-4032-96C3-E6D03D19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60F5C-2A67-435A-B921-413F0593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6F5F2-D9AB-4748-A714-1B88D10E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7C446-90C5-41CA-AE8E-FC80A830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21F3-0BEE-40F5-AD24-859B5D9F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18864-E9D0-425D-9F11-BB12EC10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FDCC2-676D-4198-A6FE-E8314318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9023C-DE4F-47DB-9256-2087530E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9C7A7-AA22-43E9-8D83-D135E3C4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167ED-1A14-41A3-89EB-24C2BD25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2BF3B-9AC0-4136-B2F1-8899ECE2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14FB4-9BF2-421F-892A-E8869F51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BE12F-3404-4EDC-8AD0-FB4BA4CD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3468E-D886-468B-B915-C01023AA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20785-5B54-49BD-990D-85026AB2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81A6-579F-46B5-9CAF-DC278091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9C618-28E4-42A1-8E2A-FEA4DC74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FB1EB-CD9F-4148-9CCF-C99ED564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AA761-FCB2-4940-A598-34693B68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9F496-5D96-40E2-BF43-204589BB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496ED-5A6E-46C9-AD62-86091BF4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FDC7A-87BA-4381-BB2F-667F03A8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DB6B6-FC42-423E-935D-FB5741F9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3EB03-2B9E-4EDB-AA93-00C8AADE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66D9A-4580-447F-8083-719FD277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111FD-5675-482D-BDBB-97F7E61D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4CCA-4332-4E18-978E-79A7FF8E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6FA66-96D1-487F-8F6F-963122E9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B3EAD-8431-4532-9F74-8B94BB07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58F8D3-2FD7-41FC-9C6D-A0F04142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63D08-FDDB-4E24-A07C-153185C0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AAAEF-3681-4CC0-99AE-0D4784C7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E75F22-6DD5-4218-9EA0-B13492FB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AB78A-A582-4173-BD0A-668A8A24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2268D-F002-4BEA-81E6-12A4A4FC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C5100E-2D21-4235-A28B-51D56011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52154-F2AB-4555-8EF1-09A1E41D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2E02-30C6-4A46-96F8-2BD2CAF3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FC499D-E4C5-4D38-9FA9-35EAC5CD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9738A-80AA-4248-B2F5-BEC48FD7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9C1C02-2C6E-447A-A47D-4E0C1C10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E1805-1A86-4EA3-953D-5E8E1E56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689C67-6BB2-4D4F-8B2E-3687D95C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394A4-E4E8-4A3F-9E45-3E98FDC9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FFFCC-53CE-49E0-9987-1F7C20D0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B8029-7A1B-4A8E-AF19-A45A6BDD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B155CB-1D0D-4BB0-B982-402CFCC6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3E9CB6-79EA-46D9-B8E2-F45063FC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823A-2A0C-45D8-8EA0-2B7FBF5C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10C61-3D91-4397-A6EF-90F83A8C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8595D-98CD-4DF4-AD64-F9FE6B8F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D29FCC-AE5B-477F-A042-F803F177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73E21-0320-4E92-8024-D6FD9963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57288E-4CE7-4EBD-BE18-7A58B0EA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5672EF-1348-44FC-AFF8-760B9964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11279-6258-4601-B1D3-6CE19085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30135B-1F74-4FCE-BCF4-B01A0675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79622F-6B18-4252-A451-01CE5B71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8F6076-73B7-400D-8566-9E3446D8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2CDE-495D-4C1F-9D15-1B7A03C0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6BE3A-D4A2-40F2-8B86-ACA774EB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37BC89-36E7-4F9D-9670-9B5E8571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B7BCD-FB44-4887-82F6-6B757114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7EBF30-2411-4FBF-BCB4-409EFA9C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EE2D58-9582-4A7C-9034-7E1B56B7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229EFF-A463-4276-BF28-5D12F8DF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AA2659-64BC-4BE5-A0CB-5AC8A7CB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D5F672-0AA9-48D8-8B7D-FA12811A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17B03A-FE93-4E19-A348-CB99FD5F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98F890-CEEB-406B-B8A7-E27E11F8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A417-A0B0-4210-9FEB-5E624BE1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5D6C7-8A02-4E77-A677-77899341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6AD23-4D5F-4294-94D5-3E80CC04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EDD5C1-7F34-4744-B03B-91C9AA53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0BCFDE-E1D2-42B8-9EB7-78B4B67D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6C3605-CDB0-4CE3-8C0E-D07DDFE8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81B807-8362-492F-BF1A-0AB0DB67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4A09F-FE4F-4752-95C3-50F65755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0F0039-7291-445C-93D7-A1A66CAE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B55A68-C156-48C9-B72D-BF57AE74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6FB034-B68E-424C-8690-ADF4EE11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7CE7-70B3-45CD-8E32-F810A583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2493-62BB-4506-8634-06B38296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161020-975D-40CA-8632-9CFCAE45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E462D6-B911-4470-8AAE-E55344A8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37C390-39EB-4755-8B26-2B37E165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CD64FA-CDBA-41C0-A80C-DA811D0A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18725-96E5-4244-BCC4-6EBF1E40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E9EF66-C337-4C6D-94F9-6D05BE84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2CD73A-3579-4D40-850E-A6DEBD39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081C0A-61B5-46CB-9956-5C8425EA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D95646-79D3-4FE5-A851-5C2E0016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E9ABA-867A-4E6E-B983-4888AA0D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3172-375D-4606-BEFC-C4A8B27B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BA1117-34CE-4F00-9139-9EAC52F9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1BA481-0E59-4D8C-9193-08647708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984AA-8AC3-4164-9C20-03EE9984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731A09-B02F-4DF2-A838-1CCCADE3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2E34BB-08CF-483D-95BA-1F084E80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979130-816F-4D20-9BE8-E89E4CBB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F9743-1623-4A5B-B610-30217D1A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DBF381-D575-48DA-BFBF-46A530C2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88846E-9605-420E-ACD2-4421C234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E37C4C-6233-4A6A-921E-21FD2F9D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3A4F-9849-49C9-A7E4-A9ED3099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B4E2BD-DAA9-42B6-886B-5204F3E5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BDBA5B-B29A-4E7F-8C4F-C5C290FA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9A20E9-16EF-400A-918A-9D298FF5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FDA49D-63C2-4306-9A00-1C496746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9542D2-7F80-4D5B-A2FF-27408B9A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4BC5E0-AA79-4E04-9612-5D660A6B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5374C1-4E98-4824-A573-74438607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046E95-F2FE-4826-8C74-AD8762F3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5F9BF0-C1F6-41D4-BE86-80C635D2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034015-2A44-4FA4-B3E8-2B183BEE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1345-CF0A-40CB-B464-D0DF01D9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1F4E51-4FED-4C2A-B1C8-C5D23FB5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CE896A-0A7E-44A8-8225-C66E7ED7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21C35B-8DB5-4462-B109-03DCD9AB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0CCD5C-5A9F-4831-80F4-CB60273E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7C56C3-3762-42A1-80C1-B5162C63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36F715-D8C8-415D-AEFA-2CF4443B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FC9688-3325-4226-BB2B-104625D0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C8CB84-FF5B-4BF6-A2EA-D78BF66E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9A6F3D-E9EA-4EF8-AA41-2C481729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A666F2-9C4E-451A-9CCA-810F106B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9D6E-9DE6-4348-9928-A7BFA3E8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BB75C5-2EAA-4494-845F-E069E11C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EAF215-9539-40A8-845C-1DB5D7F8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D03B8D-BB95-46B0-8865-CE45081D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46322A-D76D-43B0-9BB0-EC5E4191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DCB0A4-EB5F-4D23-9F30-5F1D12E9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5B14FB-0848-4333-8275-B65E241C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AA2250-A849-4DBD-9C30-3EAC1932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12ED00-97D8-4B2C-B4BE-1B077640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8CA964-8EDB-4148-BE9A-558D87AE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6CD09D-9537-462B-A05C-6EB1C00F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6C4D0-D04C-4A7D-80EA-666479DC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63FE25-7C22-499B-948F-CCEB8CEA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348A8F-7009-487F-8D65-716423E1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732DBB-1E2C-4719-ABA3-3886BDDA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92FED-5614-4940-BE6C-58F001F5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E6940-79B8-4ACF-8FC9-ECF95B2F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7AE7-CF41-4A0C-A9C1-ABB02B1B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66955-EBF8-4A90-9EEC-5E913615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C23-A38C-4D07-91A8-EE2172C5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BE913-7B87-48B0-80D7-14FCBA2F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12C4D-F200-4144-BBCE-794AD3D3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A394F-33A0-47CB-BAD6-B126931E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1D03E-607F-49D5-8359-6F68C1F9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A7D82-ECC0-43CC-B833-BAB98BFB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308F5-107B-46DF-861E-ECDD7E02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8FCEF-F513-4410-A26F-3D17984E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5B8AB-6FF2-4C12-B0E9-D9FE6F9A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F22C3-BD66-4AC6-AC5B-B7ED8C07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A2E44-2042-4113-9EE3-971D67FB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0B9-1E8B-4A98-96C7-D677BCDE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86342-9367-44D9-AE7A-85DDB491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4014A-CC5E-471A-B0F2-56DE4BFB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05506-A71C-4CC2-8DD4-B98997B9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95FA4-32EE-42BF-BD4A-828F479C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6D316-475F-449B-84FC-5009707A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6E779-C976-462E-88C8-4E146B3E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EFC66-0F52-4CDA-9465-95DE2556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39C0C-BDC2-4E40-A04B-F4D3D97B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B153A-9C14-43B2-835F-6420F6DE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E1C14-99B0-4EC5-9E93-07B3F65D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B51-3154-43EE-857F-CB94F1FB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5FBD2-7027-4B8C-AACB-15D88BE2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85185-718B-4E83-92C5-71B806F8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7653B-BA1A-4761-B0AF-17327BE4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E23C4-51A3-459E-ACFB-2D8B8CA0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0DAA3-0F7F-414C-B893-35912BB7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1ED99-6896-42CF-B443-5A89100D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C3B52-5DBB-4F49-9BF5-42F9D6F3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489D2-990F-49C8-8186-E59366B9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298B3-5B6F-46B3-A71F-6717094D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37639-C6BA-41E5-B38F-F7130C70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371-D423-4FDF-B84F-DEB0A227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C5A71-309B-4FB9-AA30-21EAFBA9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1983C-B32C-49DD-8C33-68ACE882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8DD8E-28A3-46AE-B9BD-A6B04DC1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F0870-7B34-445F-B3C4-F51241C9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5EB25-6B8D-4EC2-8411-62B95DBF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EC15A-13C9-4949-84A3-BAA65F8A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6354A-7903-44FB-9B60-281A3935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9C7C1-0090-414A-B016-8F691781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4F942-C813-4954-BDF3-285B8C01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C8C4B-98A5-4CAB-9DBA-A2ACE615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535-9EFE-412C-A5C4-FB3F2BED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2BF34-2C4E-4379-B419-D0DBB6AC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2C1D2-99DC-4DC6-9EF4-F55B7F5D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F99FE-F3BF-4421-9CEE-FDB72751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BE9C8-4722-4D8B-857D-675DAE88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30C4F-C9E8-4593-A739-BEC6A0F0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CD104-AFB5-46E3-9121-1B32F8F3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6B4A6-1FA0-43CB-AD83-2178AB8B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8E021-63A5-4B01-ABDD-2CEBAFDE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466D3-097E-416E-BB49-31EDFD77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0D41D-51E1-44A4-AE24-889FB5E8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AE4-7E0A-46C1-AF9B-E0F33B6E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C75D3-094B-4185-B89C-A369528F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DB3CC-9FFB-4129-B979-0F0371FE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3C59C-81FD-4EEC-9DB6-B22458B5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1C7F6-AA2F-4873-AB6F-51BBA8BE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C29CB-BF6A-46EE-890E-21F79550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8D7F1-986C-4A68-AD27-4B1682D8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5BBEF-2A0A-479C-9E1B-2B992A11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4B639-11F9-49AE-8969-8FD65063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B6895-B945-42B4-9AE9-18F9D3C6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CA2C3-5066-46C4-A14E-2714DC64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10A-6447-44C8-851F-24BDD4CF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7117A-BF03-4DD4-97B8-87F93ADC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ECB7E-6AEF-47CE-9A7B-F725E1B1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B93C0-1399-4B4F-98ED-6BF78EAA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38120-5F40-4903-A22E-B98AF8FE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B1D0D-0FFB-4009-9F2B-5EC7D06A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0D732-7594-4926-887B-4D221CAB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BDFF2-56CC-4907-B238-7352507C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917F2-E465-46B3-82A5-1B6ED830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D91EF-43FB-4E24-82A0-94C874AC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64197-BC52-494A-B4DA-ED8396E5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4A9C-1B5C-4DFC-89D5-A34BE7726D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D889-C9E3-4789-B0C3-CB185E04A4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5E8C-32BF-4DC1-ACC5-5DC933838A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DCDC-5F89-4F15-8DC6-E91E542BE4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1D88-119F-4ABA-81A7-967E268F33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F411-1484-459A-BB7D-D81677E519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19EC-D220-4A9A-8677-53092F8137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C368-5CAA-4453-84A4-B616324C23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D0B4-F67B-493D-A44F-BB85BB6D1A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4EE5-72FB-4ECA-B037-CCC80AA657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FEA6-9EA2-42ED-806A-84E2F1D1AB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5C60-85D7-426B-9D07-C92C571590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5617-746B-4A29-BBD9-C13DA24B7C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74FB-2FAF-4EB1-84F5-8F4A24C361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B5E0-1F6E-49AA-8DE1-E98ACF1FCE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ED0C-5134-45A9-A6D7-DD53DF4B4D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5527-31CC-4534-BECF-16894623BA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FF05-8FEE-4A08-91F8-60CF97E5DA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2B46-BAFD-4811-9FC3-30DBACDE23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A406-5906-4E72-BFFF-00BCBF7DA8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29E1-273D-4EA6-8366-7630A7FD5C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DF9F-15F8-4A56-A1B1-66CAE2AF2F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FC69-7F32-4C01-88AE-A7BCCDEEDC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C67D-1C69-41C7-9857-36DDB049A0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84D0-6E07-4B0A-83D7-F3A6BD7384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C5E5-EB7D-4BDA-AA27-04E45AC205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5E76-8E7F-4C32-8ABD-EFCB701B14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B830-04F1-4AD9-AB6C-C3B1E7645D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7C34-4314-4142-AD6B-45D4AD2A43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59F8-42F4-4671-BB8B-A8CD888CAD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99F1-9633-4A7B-A504-F3EE24841E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87FF-8AE9-4C48-9EF5-C6D59A5E14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57E6-67EA-471C-B12A-2403993409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A60E-5234-4D10-A1C9-48BB6837C1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BEE6-F360-4DD1-8E00-CFFBC51E4A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85E9-FBD9-461E-A8F6-7E73F47CEA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E6C9-EBCB-4803-B35D-9DD9D2B55B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2AFE-6EF3-4042-BF59-55566B1FA8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7CE7-C9B1-4C7C-8A0D-0E043A14F0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A0F0-169D-471D-A895-2F152DB014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571680" y="2228760"/>
            <a:ext cx="80010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85840" y="839880"/>
            <a:ext cx="8572320" cy="58291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708360" y="2997360"/>
            <a:ext cx="215892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221600" y="2997360"/>
            <a:ext cx="190800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53960" y="3645000"/>
            <a:ext cx="1908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050920" y="4365720"/>
            <a:ext cx="115272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307120" y="4365720"/>
            <a:ext cx="115236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219640" y="5560920"/>
            <a:ext cx="216072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278320" y="4998960"/>
            <a:ext cx="2160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590400" y="825480"/>
            <a:ext cx="7963200" cy="5772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2411280" y="1557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7380360" y="1557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3564000" y="4076640"/>
            <a:ext cx="194472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4211640" y="3500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3851280" y="4667400"/>
            <a:ext cx="180036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4211640" y="6093000"/>
            <a:ext cx="2592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247680" y="922320"/>
            <a:ext cx="8648640" cy="5315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7667640" y="1989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7740720" y="28670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7667640" y="4292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7667640" y="560376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7352" descr=""/>
          <p:cNvPicPr/>
          <p:nvPr/>
        </p:nvPicPr>
        <p:blipFill>
          <a:blip r:embed="rId1"/>
          <a:stretch/>
        </p:blipFill>
        <p:spPr>
          <a:xfrm>
            <a:off x="271440" y="690480"/>
            <a:ext cx="8601120" cy="547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5003640" y="422100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6324" descr=""/>
          <p:cNvPicPr/>
          <p:nvPr/>
        </p:nvPicPr>
        <p:blipFill>
          <a:blip r:embed="rId1"/>
          <a:stretch/>
        </p:blipFill>
        <p:spPr>
          <a:xfrm>
            <a:off x="295200" y="1152360"/>
            <a:ext cx="8553600" cy="4553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187280" y="2824200"/>
            <a:ext cx="446436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971640" y="3514680"/>
            <a:ext cx="446400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826920" y="4292640"/>
            <a:ext cx="446436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826920" y="5013360"/>
            <a:ext cx="72741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5300" descr=""/>
          <p:cNvPicPr/>
          <p:nvPr/>
        </p:nvPicPr>
        <p:blipFill>
          <a:blip r:embed="rId1"/>
          <a:stretch/>
        </p:blipFill>
        <p:spPr>
          <a:xfrm>
            <a:off x="237960" y="1252440"/>
            <a:ext cx="8668080" cy="43531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55640" y="2895480"/>
            <a:ext cx="374508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611280" y="3659040"/>
            <a:ext cx="374472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539640" y="4351320"/>
            <a:ext cx="496908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395280" y="5041800"/>
            <a:ext cx="4968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4276" descr=""/>
          <p:cNvPicPr/>
          <p:nvPr/>
        </p:nvPicPr>
        <p:blipFill>
          <a:blip r:embed="rId1"/>
          <a:stretch/>
        </p:blipFill>
        <p:spPr>
          <a:xfrm>
            <a:off x="380880" y="1171440"/>
            <a:ext cx="83822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604800" y="847800"/>
            <a:ext cx="7934400" cy="5676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770436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826920" y="2997360"/>
            <a:ext cx="770436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611280" y="5791320"/>
            <a:ext cx="7704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3:5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