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819-BAD0-4E9D-9359-D2C0772E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362-D9FA-416B-9B66-5E721630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8F3F4-3B45-4C55-B8FB-EAF32DCF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4DF96-1B90-411F-816A-BEAB4DB4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7423B-A682-4BD9-A6A8-669E0553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934D2-972B-468D-AE89-29CF4AD4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DACD5-34C8-4E4F-A609-AF9435B5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18D55-04CE-4D41-9AE6-19522153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EDBDD-BA32-46D6-8238-56FD87B3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742B1-0612-435C-BC23-B66CFD43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17A04-2CBA-4486-923F-B31F36C8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85730-A3FE-42EA-A4E3-864A96BE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740-1020-4774-915E-0E880B78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13DD5-E803-45B1-888B-191F6C2E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3835F-F1C5-4C0F-829F-1A4D8281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55C0B-7038-4842-9486-A4B42FF0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527C5-A764-470D-BD6E-ECE8C3EA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FC586-92B8-4B72-8785-50155BC9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E123-9840-410D-B68C-ED927BB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B3001-D3AE-403A-89C6-3D69B0D7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26617-125C-4455-AE23-5E4687C5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79D82-1E8A-4C90-B38B-541ED816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A6715-A12C-4D9D-9E52-44C5DBA1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39D-FD7E-4214-B17C-B647B7EF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2289F-0FF1-47BD-B2E1-F4CB749D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2D2A5-DF5F-491E-88AA-5A11796B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49F57-D2C8-465D-A179-D8E62C0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B654E-EDAA-4988-B1EA-40FF0C64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5A80F-E82A-4967-956D-5DEC2F11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47961-49EE-4356-95C3-CBBF4BE3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9918A-643E-4BE7-9CF9-1B5F82D5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76104-B2B0-4152-8D6A-C763BFD7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ABE69-0277-498A-B4B9-C2DE13E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A7515-C814-4D21-B034-371F49D0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8929-2BE0-4942-B965-E6109059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93FFA-2E09-4911-8513-5077C516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7FDB8-209F-4246-BB03-8D840989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1BED3-1F65-43B8-99FC-EE05920B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12791-E595-40E9-A3EC-D1109325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2BA7B-FB2A-405A-8306-EDAE97EF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B3177-7F81-4E4D-8BEC-9F3D90C6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A5F23-F8B2-44DE-A13C-15979F26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B1021-34E1-41A4-82AD-5C149E3B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C24CB-F07B-4282-8D2D-D6889C51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20809-0438-4776-A97B-88933592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3E2D-C976-4879-8832-E48A866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0F87A-3D40-4636-B3FF-2678F847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A9680-B221-41AC-B710-6C998067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192F8-5EBB-4FFA-A7C0-DEA47D4E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33E95-1692-4AF8-8979-3AA4D221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B5592-AB63-4238-8A46-9F4B3142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D489F-107B-46A7-91B1-0AF1FB79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C8FBC-5962-4E3B-A902-53A8F58F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9767B-4C82-402D-BE67-3B777A0C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C515D-3D81-407A-85C2-BFA73148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F5BB5-39AC-464F-8A6E-DBF6F12D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956-A3CA-46A6-96B8-AF0725A5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42F06-932D-4B59-A072-6F48B339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F51AE-F5CF-41F3-A2E4-CC2514C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D4DFC-7BC3-42EE-81DC-ED288926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B362E-D4CB-482D-9D06-E3D0E5E1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6023D-1D63-4F16-BF77-103B14C4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E6155-B694-4567-8AC0-845D02BA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36783-A25F-48DF-89D0-570D7E2B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10B08-4EEB-453B-99F0-A94B98D2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EF145-C47A-4B49-8D9E-E995A4BD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8C4AC-5CED-4B79-A136-490D5AF9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753A-EFEA-4B14-B8B2-35BE53BD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ED0E2-B7C3-4156-A0B8-58F88DD5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08124-2B36-4177-9587-45F3B6C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E89D6-A35C-4F7F-88C6-461B51FD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F1E6B-0761-4053-9B61-86AAF76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8A59E-10AF-4032-B6BA-E36543F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52D6ED-CFBA-4D09-9754-E80D241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300C1-7192-422C-BC37-AB0C4A4F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29F6C-B582-4CC0-8E44-54E2D505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7CFAE-1FFD-43D7-8C4E-771564EC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20F43-338C-4596-86E3-3CE3F77E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25F7-C20A-4BE8-A426-91A5589D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A3CA3-AA68-4E98-98C7-FE47843B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E4FD8-7105-43C3-B836-0B78EAF1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E5EF1-8B26-48F3-BAC7-50A2E297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E32D3-A98B-44BE-B5A6-3B6FA8B2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9464F-88A7-47CF-A761-C1B5E24D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853F33-DA13-4A7F-9A46-E5FBA21A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38D8C-8096-4612-9C40-D8940706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EAA37-DD68-44DB-9913-A4A155F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D32C8-E58B-4995-B4EF-470FCBE5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35BE6-3D69-4BB4-B774-A89832E2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63B3-C20A-4529-A1C2-BE70A531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8DA5A-F578-4D3A-A32D-D9F51B8C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CA205-9EEA-4E85-9441-B766E1CC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7FE58-DCB4-49FC-81C0-E8D26777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5130F-BA72-4C6F-98DE-B58D5B29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65A89-35FF-40B2-B376-FAF79EB5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56739-C0A0-4A69-9C96-045FB91C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660D2-4E5D-497C-A316-AC4C259A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3AC62-D31D-43A7-995E-D3E9676C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868E9-791E-4EE7-9B91-CC9F8D7E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38C14-56B2-4370-868D-2E585390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36BB-F586-4A8B-B1B0-9FEBEEC1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D9E33-5911-4D78-943A-4DC04D9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BC3D1-A181-41A4-8456-01572CF7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12CF6-55A4-4B09-A2E4-21896422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4C668-49DC-4205-B077-E8B5CE52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B3981-009B-4D51-A133-82B8AB26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4504D-EBB2-4D07-AF4A-1E73F3AA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2321F-D118-4975-88DC-DC8BF617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24773-8F7F-4FE0-81FB-2ECB7C3F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983B09-0BE5-4BA1-85EA-ECCA9BDD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9FCC97-82C2-43D4-AC71-242DA15A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F86-B44B-4148-A32B-360676E9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78F0-82CF-4629-8C78-56789B4F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494B2-9FF2-4B72-906F-249AA8E0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26897-959A-41E3-84CB-D597EFB0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D0893-516C-47F3-8FB3-B3BCAFBC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D2C9B-33FC-4A78-96A2-16487D79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50D86-B40A-4ADC-9756-0202D55E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9315F9-FCD0-46DC-B281-26A5F09F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39D3E-A47D-4774-A25A-7CE852FC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6B71C-E379-4867-8591-C520A298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FF836-C8DF-4DAC-891B-F188E1F6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178098-2593-40FB-A799-A3628712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FAB0-D2FF-4A1E-A595-09C0B22C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8C548-8FA6-48E0-B080-EAD54F5E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20310-AE3E-4D7E-A057-3E0C75F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413EC-1A5F-4D6A-A22E-A9A4D5D3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02D88-3A31-47D1-984E-087095AD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374DA-EE63-45CE-B2DD-3A7776BF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E403F-87A1-4F02-BF3B-4C9E3BA8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E2931-38A9-4AE9-A8EB-A4D6BA9D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84F165-51EB-48EB-96B0-F84DA021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BCDD0-478D-4492-A457-45065ADB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672C3-DD9E-499B-9293-17499161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4A51-C393-437C-A96B-3D3E7B91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458BF-D4A4-44FD-91D2-DCE8414F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233ED4-332C-4FD4-9C13-88EEE611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6C299-5DA4-43B3-AA4D-98F191B0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3EE12C-E63B-4094-BFDB-AB128748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676770-9FBA-41C0-A094-3F73821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847CA6-9744-4395-8E95-BB3DB5D2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F0738C-18D6-4682-910F-423FAE25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BD73F-9CE9-43B5-9FF6-F284E9EB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8487A-37B4-477D-A938-CBB7A9AF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BF53A-FC5E-47A7-BA53-39C22FFA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CBCF-2D8F-4153-9F33-74682D1C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E0DA1-35D0-4950-B4CF-749321CF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965EA-DA44-4C8E-99FF-4F64996A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99E5E-7B8D-40E6-B06F-44A9E2DE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5EB3F-80DE-4ACA-A37A-6024F465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05CCB-706F-46DC-A4CD-E56CC5F5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D502F2-8EC2-4716-BC48-14B156F4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39660B-24BB-49CE-B39A-52D7D71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545D0-93EA-4966-87FC-BAE11519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B483D-2334-4F38-86B1-B946886E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6ACBDC-FBB2-4CBA-AEA0-0FF5F2D4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7CBD-EA29-4545-9317-7D44CF6A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3A46D-38CB-4395-A677-6207BDAD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E39A7-AFE7-4919-B47C-1F3925DB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3118C-314B-4A18-9BB3-6BDD3828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E8CD6A-C92F-4C50-95A9-CF20FC2E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32CCA7-1F16-41B2-9CC7-79AB17B9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36D6DE-15FD-43D2-B5F8-98DB14E0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FFA8B0-0BC3-4802-A5C4-09384CDA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D181D-B02F-4EDB-9E36-63D5045B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3A29C4-E907-404E-A20E-B45E035D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6D074A-D7F1-49E0-99FA-6CB919DE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C547-5777-48E8-9EE2-86E2BE7D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CFA2D-B815-4BB6-AD5C-1D3F4DD3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A2749D-06E3-47CD-ACE4-9DB26D90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D7CFD-F353-400F-AA60-16DD87D2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4A61-00CC-4FD0-A7CC-95B87A28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19A0-4041-4758-9237-903D2FA6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20EF-A3A9-49E2-927D-2451A08F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82B7-90C9-4F21-9AD3-B357860B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0F5-55AB-43A9-AD2E-941411FB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4D84-835D-4791-84E6-CC5045B1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5260-5BE7-40A6-8EDD-89E8365F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87FC-2B57-4B01-AE57-D252936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36A0-0DAD-4A66-BA60-0BF4074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FD9F-250C-4DCF-B570-1FE2EB9B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C24E-2A86-4ED8-9EE6-7169B375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6448-9AAF-4487-BC1A-E258B836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7002-83CC-4970-9639-618C5F65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E82D-0125-4E95-B8D8-D783F3FC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F4C1-F79A-4EFF-A6D2-70C7DD6B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95A-FAAA-4D95-84B0-60C89695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9F02-BC74-4379-A8A1-F811C3BB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E99B9-AB2A-4CBE-9F0D-019F5908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1CC27-EEFE-4B90-A9E1-B30FD353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B585C-CFA5-473D-BAF5-094C96B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DEC80-65EA-4672-B381-0956D5D8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E3AD-FC66-4A38-A9CF-6C40B31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6F7D-1CAE-436B-9A8B-47B9ABC6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6D85-278E-4BD3-A7EC-47BF565E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F0943-75A0-4A77-BD0E-FC3A357F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0ADF9-1ED3-4D87-BFA5-DDF8437B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5C0-7E08-40B2-AC82-889CDB18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CA45B-C087-45A9-B272-5C9BDB01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DF325-74E2-4DC4-894B-9AFA2C4A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4F10E-B00E-429D-9FDC-E949F668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C96A5-6C6C-4ABA-86D4-D7A729E8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461D8-F61C-412B-91D5-B89F0C0A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FE072-8FCA-404B-8C5A-5FA3503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24066-0EBC-4405-8992-FBD27D2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69A5-5843-47E8-9795-06F90E0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898E-D040-4235-ADAE-7775B01C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74AD-E652-415B-B38D-08EB47C7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E0E-827E-43F7-89B6-FE429701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F0B2-F1BF-4DE0-9DF3-5B975B63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B6FE-453F-49DD-A1C9-E2971CC7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DA996-1A28-4CC4-B91B-07E7E8C0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ACF47-3BDB-4D79-8708-22F55C0E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2271D-C5AC-4560-92BC-C1E98F6E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3F511-C19F-4989-8337-2BD78970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10F12-94E1-413F-AEA7-14E36161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84D8-C7C3-422F-9F53-94B043C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7AE9D-2B42-4111-B453-900D3692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EA75-B823-49AD-B002-2697026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5F1-EE59-416E-8FE5-E4388A89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AFD01-7000-4A2C-A7B9-9D98C556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212C1-E9F2-4981-9F21-0DC5E491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0DA20-9148-4BDD-A858-000E3570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EA2C1-C524-401B-9478-D0CFA93C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FD8B-F8A2-4EF0-8701-5FF507FA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925A1-2397-4E6F-9BFE-2BFE2C52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0E3DC-BEF4-4C96-9E47-2049970E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647D4-D945-46C0-AA34-70E76AF9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80799-D8D6-4B7D-B8E3-C05CE833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CD995-5CD7-4A4A-B4B2-04184FB3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3DE-058F-4A4D-BD45-9F04A49E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C970E-4F5C-43CA-B8C9-123EA9D2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E866D-5165-4565-A94D-6C862ED0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74C4B-F838-4CDE-9BCF-3BD75AA0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94594-24AA-4F5D-860B-16086789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0BB30-804C-4FC8-968B-3B1DB512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3161F-643F-4A61-B98B-B052B278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AC7FF-91DB-48CF-B7F2-6DC4B2EE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38EC4-4563-447C-A51C-08377762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5D95D-8E5A-4FF0-802A-EA78BB7E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D0A91-4989-4E08-816B-F9957E98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8C1-60BA-4A58-9B06-389C3645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745EB-6448-49CE-93B2-6B7BED0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3D703-8E36-4A1B-BBC5-521101C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B1302-E851-41BE-A53B-0E3A1041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99666-6430-4011-B9BA-0968F254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8779C-3DE8-4D53-8E1D-174050A7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A932F-2778-4938-8F65-CB27A8BC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5BAFE-D22B-4CC9-987E-531D4E81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35F62-E825-4B22-8128-AB2EC40F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0B5A4-AF4F-497D-BBA8-3B040478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3D6C9-3E58-4397-A49A-6B570082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A0D0-28D6-49D1-985F-EE9A6100F6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754F-F417-4179-A995-3EEB51E2F7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283A-796C-47C8-B29E-5DF8FFDEAD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D42C-0CD6-4081-A201-1B6A977FED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341A-0AD0-4411-989F-4A0C844434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550A-F360-422B-9E06-D7ED8AB472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1B52-45F2-4121-90FF-211DE19DC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9CF4-0294-4B29-B83C-A42C92073C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7EDF-79DE-4E24-84A5-C220D95B84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B40E-1656-4CD2-845E-B37BC19E9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8697-FA73-4DED-8E2A-29CCED9F5F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0423-3FBE-4107-B8B6-0CB76C140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19FA-7FED-422F-B447-4E20BD535F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1190-1D6B-4A78-AD65-068C703CC5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8190-AA36-4A3A-980D-C04F674A52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4CA1-6497-4CDE-BA60-735D9B3D59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71C5-E432-4C77-A58F-B4AA266A7E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6AE3-4331-4CA3-937D-D174D8DF3A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2AB9-BE05-4D5C-955C-1E40DB592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08ED-C77A-4483-8848-6AB6F259D1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FA85-75A2-4560-A26F-524664FAF9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7707-0479-4802-917C-E6EC86445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C30C-8993-452B-A569-9D2DD194BF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DE3D-A1AC-454B-86DC-A2508A3A2D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2309-630B-4107-A25B-705CE8BB3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B6C7-CDED-4290-8D42-ED8AD89BF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918A-6D28-4CA6-9089-5790A15CAC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DC1E-CD81-4FB6-8789-AD33A37674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5866-B0F3-4B8C-963F-415B95DF95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1412-C858-4FA2-9C48-40A938D212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A7C9-6619-4A5F-B3D0-3E06899B87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5BA8-0774-48B3-80D5-FABC90CBCD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34D-E48A-4734-92D9-346D7108DC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5A21-E132-4DEC-B98C-3BCDB185D1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8B19-B234-43F4-94A0-994965D8E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8A18-AABB-49D2-99DB-A2E5010C72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74AE-DD9D-456D-8C40-325EC532D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E690-3007-4211-970E-87560EDB8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D85E-033A-497F-BCB0-0792C3BE5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C2F7-51F7-42A1-B5B3-C9B5259E00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76480" y="3000240"/>
            <a:ext cx="67910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69633" descr=""/>
          <p:cNvPicPr/>
          <p:nvPr/>
        </p:nvPicPr>
        <p:blipFill>
          <a:blip r:embed="rId1"/>
          <a:stretch/>
        </p:blipFill>
        <p:spPr>
          <a:xfrm>
            <a:off x="252360" y="938160"/>
            <a:ext cx="86392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8609" descr=""/>
          <p:cNvPicPr/>
          <p:nvPr/>
        </p:nvPicPr>
        <p:blipFill>
          <a:blip r:embed="rId1"/>
          <a:stretch/>
        </p:blipFill>
        <p:spPr>
          <a:xfrm>
            <a:off x="1033560" y="1571760"/>
            <a:ext cx="7076880" cy="3714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1042920" y="1671480"/>
            <a:ext cx="6842160" cy="493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900000" y="2421000"/>
            <a:ext cx="6842160" cy="493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6842160" cy="4939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684360" y="3933720"/>
            <a:ext cx="6841800" cy="493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755640" y="4681440"/>
            <a:ext cx="68421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1128600"/>
            <a:ext cx="8601120" cy="4600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012000" y="3170160"/>
            <a:ext cx="576000" cy="1050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740720" y="3068640"/>
            <a:ext cx="576360" cy="1050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236000" y="4365720"/>
            <a:ext cx="576000" cy="1050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050920" y="5013360"/>
            <a:ext cx="5763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09480" y="981000"/>
            <a:ext cx="7925040" cy="4896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195640" y="155736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6226200" y="270828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1979640" y="328464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4024440" y="328464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1447920" y="537372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8"/>
          <a:stretch/>
        </p:blipFill>
        <p:spPr>
          <a:xfrm>
            <a:off x="1476360" y="4826160"/>
            <a:ext cx="10825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299880" y="765000"/>
            <a:ext cx="8544240" cy="6086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2556000" y="20178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093080" y="337176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451640" y="50133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95200" y="976320"/>
            <a:ext cx="8553600" cy="49053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403280" y="3357720"/>
            <a:ext cx="2232000" cy="934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332000" y="4379760"/>
            <a:ext cx="2232000" cy="935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1332000" y="5343480"/>
            <a:ext cx="3168720" cy="934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364000" y="360216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5364000" y="458136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5292720" y="5388120"/>
            <a:ext cx="316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785880" y="1481040"/>
            <a:ext cx="7572240" cy="3895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971640" y="4638600"/>
            <a:ext cx="30970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148360" y="2579760"/>
            <a:ext cx="3097080" cy="920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5148360" y="3573360"/>
            <a:ext cx="3097080" cy="9208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5292720" y="4581360"/>
            <a:ext cx="30970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5300" descr=""/>
          <p:cNvPicPr/>
          <p:nvPr/>
        </p:nvPicPr>
        <p:blipFill>
          <a:blip r:embed="rId1"/>
          <a:stretch/>
        </p:blipFill>
        <p:spPr>
          <a:xfrm>
            <a:off x="314280" y="800280"/>
            <a:ext cx="8515440" cy="52578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187308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885960" y="327024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215928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958680" y="4710240"/>
            <a:ext cx="215928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900000" y="5445000"/>
            <a:ext cx="21592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3406680" y="327024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3348000" y="400536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3478320" y="4781520"/>
            <a:ext cx="215892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3419640" y="5516640"/>
            <a:ext cx="21589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1047600" y="1452600"/>
            <a:ext cx="7048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538200" y="1990800"/>
            <a:ext cx="8067600" cy="2876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28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3564000" y="2205000"/>
            <a:ext cx="2016000" cy="1008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5651640" y="2205000"/>
            <a:ext cx="2016000" cy="1008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395280" y="3400560"/>
            <a:ext cx="8280360" cy="6476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324000" y="4149720"/>
            <a:ext cx="828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9:1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