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71D5-B59C-41F9-89D8-213F7822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BFBB-B2F5-4E56-A53A-14E7F5B7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4012B-2EE2-444C-A563-C0CA6EC0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FCBB5-0E73-46EB-8041-ABB13428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6E61A-5287-4BB1-93B4-7FA7BF16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726AC-CFCE-4691-849C-390595DD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AB73A-D594-44F8-AA06-302E4F7E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51D0C-B30F-4035-A7D8-21BDE88B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0E7CB-3C89-42AE-BDF5-0EF49899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E2D68-3DD1-45E3-A79B-D772B590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40474-CD8D-4B12-86E7-CCCD9618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A57BE-E104-4E01-9898-69846188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9ABC-F159-4C11-8145-AE1F0485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468D3-66A6-4B42-95E6-4474C2FA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578BF-391C-4462-9026-C30B1E55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716B4-14E8-4456-A208-CA368375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3F024-3479-42A3-90EF-D9AFB9FE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CA1AF-3A69-4A74-99FE-FA9151BA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63DDB-7DB9-42DA-92EA-D76C5100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DABB2-2D53-4978-886C-8F7F1390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2A121-EA1D-4E10-A19B-F1551952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CEAB2-17A0-4683-96B8-F87B1D09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9A7C0-C40C-4C93-B516-D14591A3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91EE-92AC-4EE7-B60A-D78E104D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BF1D3-CAD1-4D88-9F05-86908D9E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347C5-73B1-4B72-9990-B746734A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99B56-1360-402A-9DC9-3D6C3A1F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E7FC8-FFDE-4083-B448-B6DB36CF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5577A-A2C4-41FD-B5CC-F6842099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E83DD-59E6-4853-B986-13C03641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A25AB-9BAB-453C-BC25-66F6477B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47FEA-8007-436D-AB9C-7BC319B6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2E08B-3A3A-400A-8A2C-23390B2C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D661A-67A6-48E6-997B-D0020EE7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540C-3C85-4389-A5F7-A59A2108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BDF03-6B8E-497A-8BB5-01DB5948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54FF0-3006-406B-A343-169BFF0B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47D88-B8FC-4B15-B8D0-E734E40E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C401C-668B-4E24-BCFF-4CE5D75A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FB9A8-CBBC-4E29-B8D2-42C3D17E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41632-52E8-4A80-AB90-37AD3976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D727B-7BDB-4C0C-8B07-91DFE86B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1777D-9DC7-40C1-A40E-D1E26F11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7679E-007E-4631-BBDD-FA9924D7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3A014-E659-45DD-9023-AB69DB55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63DA-8B20-4A7E-9729-EFD6E4DA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27A78-C8AC-46EF-BEAC-289E5DA9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F26D3-E916-4F0F-A2E5-B899A0D9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3695E-9752-4F36-947D-CA38166B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7164B-B6EF-4A26-A8D9-ED8090CC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3993B-775E-4A99-9D1C-50374116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73E140-3AD1-4E52-BFF3-5D3F52A3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EDC721-C784-48E2-83D3-AC48F616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38557-E7BC-4106-ACEE-E0CC8561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E8C0D9-D0DE-48F4-AC0F-FCE96D7A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021F62-BF22-4BDA-BBFB-3FB7D978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2BB1-046F-4C25-BAD1-D3D986E9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D0E5FB-581E-4F2D-8B98-42CE3DB4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7D490F-FD8A-45B9-BA6C-DE27FB97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E8AC37-5369-4EFB-A7E4-9FF8AAAB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2962D2-46E0-446A-95BF-55A41D8A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26A83-ABE4-41D3-BF4A-A1F8455A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08611-8A38-4437-B54C-F521FB93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97057-A871-44CD-9846-D750F265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C0344D-1358-4E4D-8EAA-5B442556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79C390-11C9-489C-9E25-5E96E2B5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39BCE0-DF7C-4024-B03E-59E40006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A0AA-B3F0-45D5-99D7-27B12C33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DF1DFF-40F6-4BC5-B89D-0020BE2C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EB26E5-CBE9-4BF6-9FB9-F1989052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5D5151-8ABD-461C-B9CD-10B91214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716CCB-CF26-450F-93F9-FA7FAE1B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2A60DE-FFAC-4FCC-A1FC-D8D7A8DF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6DC346-ED4C-45AE-9B9A-D12CE22F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7B186F-EA8A-4661-B00E-2FF3AB73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96C7FC-83B9-4FE4-914A-86377AC7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F53080-DDAD-4BA6-AB57-4E84D1B8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B59471-DF0E-4943-9D53-43FF517F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62A0-5A2A-4F22-AF26-0347146E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D7C57E-E738-4E26-9625-BBB23B8C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2392D6-CE22-4A97-80B4-59D60F15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B0E806-DA7D-416C-B50C-41453134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B2A8CB-6DEF-41D7-8723-40B9097B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128F31-6D1A-4C79-9D3C-C264FB5F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4435F2-1876-4F4E-8A1B-FBCF4086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4E77E0-A7D2-49C2-B872-AB0869C9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303036-B3A0-4863-9A3C-AA69F901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72AD97-F37C-4BA4-9EE3-657C7A59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C266CA-40A9-427E-B377-5244A177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DD98-6070-4871-870A-D7AAED1F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397638-38BA-4AAA-BF7A-96939B69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D49065-2ADE-45B5-BB1A-0F9A2D5A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DC1287-33B6-493B-A3B7-71941E24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46C97B-1D12-4336-B73B-4B5AD173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2EFDF6-FF6E-48B9-9A8C-B20C1D3A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EE1452-8921-4772-BA7D-079AE2C8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A9B52F-B279-49C8-9761-0D7F434A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B493D5-09B7-4A08-B0F3-CAB9C43F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B9CD9B-F383-478D-9B91-ACD0BEDF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2C1E65-BF86-47CF-8B2E-8B3408F1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3ED2-7569-45F8-A1D8-19057033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28B561-EA76-492B-AA8C-180802CB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7D19B8-ADC8-4D34-BE99-ED25D806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FE06CB-04F9-4F88-A9AE-262C5527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4C9525-56E7-4D76-A616-5DF3E291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A270CB-2A90-4462-8E4E-06E58A6C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6F002F-2DBB-4DDA-9D19-EBB0B0F9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E4D74E-05FF-4988-9369-E28952BD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3397D0-20A1-4741-A8FE-C0D5F30C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68F0EA-8892-49DD-857A-15A81A61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3785D2-48B1-426A-B97C-99226564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88BF-DDDA-4DDA-9921-919E3E8D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FC25-9AA6-440A-A767-A426A882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F3DCA1-4128-4865-BEBF-6EF1D8A9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004E08-FB71-42F2-9848-C61FF531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FD7421-88AB-40F3-8C3A-6E8B6C9D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D8271F-E57A-4A5E-AD80-E85D860A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D09A91-82F2-420A-89EB-E5535486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90FDAC-56BA-41D0-9944-929D445D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E77DCD-2C28-4BC9-AE06-282DB162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AFBCD4-D62B-495A-BC25-BED9D7D8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C102E8-301F-4FB9-81C0-F7CC95C6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5CEB1A-E0F2-45D0-8B66-C261B16A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37F1-02D8-4091-B619-B5728F43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CFD152-1101-44E5-8EAF-3D21708E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E01DE7-8957-4A55-8FC6-B69653C6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216233-1984-47AC-8028-C76F8FDC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A66815-9897-4BC6-979B-D53B8AD2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59AA51-C85A-459A-89D8-A91D8FC1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1EE7EE-3B85-4C7D-81E9-B7DEA12A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7BBEE9-0DCE-408E-83E4-04FFA2ED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09F2C4-DAA7-46B7-AA2F-9455686F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CC441E-F3C9-4DCA-A678-8B531ECD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38930B-DF15-4C5F-897F-46D06CFC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B1F7-B5DD-4B41-92E1-8B00D3F8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FB7428-899E-43E9-AAD5-8D817600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E4ACEF-5D2A-4D1F-A022-7D0C9110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AFBBC2-2A2A-4A76-A7D1-6F261943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C35292-1FE5-4B89-9A32-9196EDA6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E72D18-AF73-4682-BE2A-07670CE0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548DB8-CE4A-413D-89FD-2E3064D3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C1D72A-4A61-456C-BAD9-57022C7F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5936FC-2ABE-44C6-B177-3552E981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9CCB12-5F85-404C-9326-B3D04CF9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5DEBD8-BF57-4A68-B88E-F2172727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791A-4D47-471C-BD9A-DABA5782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5DC53B-C1D6-410E-BA32-EA34C2EF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4FE4EB-5ECB-4591-80C0-4FB9A332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64B9C6-79B6-42C6-8499-8AD1D973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21F963-BEE4-46B9-882A-3E76C48C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2B53E1-7CD7-4353-BE00-D3FFA0F0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C44470-1AC9-4251-BDC4-8D55AF69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835015-729C-4F60-A7A9-5AA5E2E6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4C2C4B-0309-48ED-8986-A478A022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6C5363-2094-4FFA-8C4E-6D24D2AC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14E700-3F22-4FD8-8C4F-9FEB18B4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FF8A-2842-4ADB-9690-D1F63862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F1817D-7D4D-435C-BA79-FF277CC8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C8BF4B-C471-4EDF-B6FD-86A419EC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111E35-2BE2-41A7-AD46-4941CE49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EFCC16-E78D-4C51-8DED-DFC93D27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BAA067-859D-4FC1-84DF-B66A5F26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295EB9-57A4-48A3-938B-553C4A73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46F008-D131-4402-9116-A083D3CC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F9990D-655D-4248-870D-C9234D6B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208247-5F07-4FAB-AB48-E4798BC8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631770-4D2E-4FDB-8530-314D2531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98379-FA40-4283-9891-3B7F70EE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C356E7-25BB-4307-989E-8B42AAA1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760DC6-F60D-4313-8041-98E3F9B6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5844CB-5195-4035-B718-0E98679A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C2820-2B19-411A-A975-B731DD6C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BF6FF-DF81-453B-B92E-B3D7B846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4D235-0DC7-4A96-A5D9-111034FB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359C7-52EE-4017-820A-69934A7A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529F-A464-4EFE-A698-96772E53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F7563-FCE4-4E23-B385-CFB377A9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4A570-0CC0-4813-8E76-AD1F97EF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92455-ACBF-4ACD-BC00-BA46DEF2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867E9-7756-4FC6-8822-F43C2CB2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32121-8C2A-48C4-9784-3C30EABD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07281-3BC5-49DB-8652-1258AA44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EE886-809F-4435-B856-29B9D8EE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5550C-C4BC-432B-A17A-8E3BFBA6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FCD32-D55D-4CA0-8E00-33ADC751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5AFC3-B6A6-40C5-A447-D03CDD32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7BD0-9ACC-4902-8C2A-2A55DA57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F192C-AC86-459D-9DC1-8E9B8995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F9C0E-D8A8-48DC-A3BF-EDF4CD01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CC0D4-CD7A-4CF9-A35A-3B8291AF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67F5A-7FD6-45C1-8582-7CCB0185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CCA06-0C12-41D4-89E5-DAC29726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B1EB5-1C11-4BF2-8158-147411AA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781AC-2F02-4D9C-8CA0-93D5B267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6458F-47F4-4E92-A244-DB2A7667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CB697-2C55-4930-8F07-5D991104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757D5-23EF-4013-B1AC-96AF997F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AC9F-0046-49D4-BC0C-08B8D4E4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612B0-282D-4A26-8A71-75038226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5C16E-634F-4854-9573-68475D79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FAE18-D99C-4359-AD85-F4AE667E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F05DB-E9F9-4978-A325-850B2128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F82F6-C2C4-4386-9311-4F80AA2F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2F04E-4EA6-4E7A-83C5-181EC3B4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4FB9E-A79D-44FE-9A3A-AB71C1CE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81739-DCDA-4717-B525-49C6985E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E3362-784F-41CC-B3E8-375A48A0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7C3F5-B237-4066-BF35-8777BDC2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7849-87B5-4FD6-BE94-6AB66FD9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20BBA-B1E9-405F-BB1C-878ADF4F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BEA15-A25A-49C6-B356-B357BAC1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F6AA2-E2DC-4E41-B796-08DFDB7E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82510-9F1F-4EDC-B9C9-585C4BA1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ECCD5-A348-4C8C-B426-2F53396B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E5F7D-18FE-4BC6-A8ED-48CCAD19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95A18-EACA-4BA6-AE9D-9DC3F7DD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A8B5C-4CCF-46FE-9D15-73F9FB47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B4F56-2A77-46BA-B637-B53AC00A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21958-867D-4B0A-B2A1-2BB19032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139B-9583-4325-9A89-D94AB330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57286-A9FC-439D-9AD7-7321C909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02303-B204-4C31-9DB1-4E3E8B05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C7BFA-FF5B-4298-B407-D2710B2B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5254E-0C05-464A-B8DB-0379D77C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F2EB1-3DEE-453E-97A5-9F89423B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3F299-25DE-4012-8DCE-0C401185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C9736-9958-48B0-BEBE-1D01B82F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3B416-D861-4191-A164-02542D4D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C2FAF-2E1C-4858-BB94-4C708F0E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5D009-C654-40F9-A6CC-793DB232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77D3-5FCF-4C23-96B2-4DB15307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6BF7B-D081-4576-A0F2-DF1B1C01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2E457-661D-40EF-B77B-FEEF41D8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88AB5-8E9D-4B26-AAB4-FDFF68DB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8DF19-CD45-4CA1-B464-7E8F3CE4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15ECA-68B3-4385-8FEA-E9DF36D5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35082-77B5-41A5-9B3D-6E7780D9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FF824-17FA-4ED0-AE31-BBEBEA06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B0FFC-2654-4539-BD3F-ACA1A9A2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BAD45-885F-4346-96C2-90407B07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49396-0354-4F36-8F95-D301273E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BBC3-CA30-460D-BB7E-B03C5ACB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2D78C-733F-4F6A-82FC-3D542ADB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89EC2-BC37-4909-87CD-000C4EB6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0CDB6-6C0A-4F73-AF10-0D1DE079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4CEA6-8901-49C2-BA70-5C617FB6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49943-3F7E-4E82-A1DE-F074C6A2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48C5B-6FBA-4930-83AC-C34FD057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B00F3-36CC-4DAF-B2F6-33C86882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FC85B-7AAC-45B8-920E-D0669AFE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6AE45-6C01-434D-8210-CA62CDF1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80EFF-08F2-43F7-B5D1-9F07F586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72D3-96D4-439F-9800-99C19E747C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F9BC-8F1F-44C7-B830-BE08F32CE5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2D44-DDD4-408F-B366-FB481A6E46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7974-B5B7-47C7-9C38-4FDBF943C2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8B7F-CBB9-487F-BD10-DF405A0C67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E392-32FF-4A5F-B0B0-27EEE81F63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A015-FF43-4C53-A074-1C42473FF5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BAAC-224B-4F2D-8C1E-5C2470DD6F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A2FA-3430-4B62-8551-652B9809BD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5840-A952-4CAA-818F-F8052D4CB3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5CCE-5EE5-4F92-A099-8BBAE317F7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BC1D-FC8B-4E5B-BA36-6FB5FD89F0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D4E4-9F8B-48FD-B022-7B21B063CB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B25D-6E62-4E94-B960-29CC1E361F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1413-B9C4-4B52-A65B-5C81AC9708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2BB4-AEE5-45BC-8A65-D85C5705AB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1A60-5CD3-47ED-ABE3-B24A0E9A79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705B-3C25-4075-BEC5-F4E1C07B34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2EF0-DB23-4517-AF89-6693E8763C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BC74-D37C-4A72-B353-BDA11D9F56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526C-002B-407A-92B0-44D180BA8F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8E80-E746-4C02-8801-BAF86F8EC5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149D-5D2B-4EAA-B3BF-5F11CDA267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B85B-3B5C-4C86-9E23-E9389FDBB4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2C35-FF4A-4757-951A-09C2E7EBC2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B6F9-1B83-493C-90FE-59F04F566A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31E1-4B18-4184-BA13-B78F9C512E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1465-4DBF-421E-BD84-AC68FDC456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4371-A6CE-46F0-8E1D-771D48E209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1A78-FED6-4F28-969D-168BB1D966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05D5-DF05-4BF1-8B86-B7273A270F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39AD-1E63-4B23-9120-7E794720B8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F0DB-CA2B-4E01-9BF3-3A8CB33349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9E68-99D4-4B0D-B19C-F5885291E3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E4D4-E0C3-4FF2-AEB5-85B09A3762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CC88-791D-4270-A486-9823F2883F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7F30-DB20-41E8-A0B2-C80F2EA816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4568-104E-4075-853F-01E0B84232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F72A-561A-4D78-92F5-5FBB8241B4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A27C-9CEA-410D-926C-41D060AF9F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468360" y="2843280"/>
            <a:ext cx="82072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52231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867720" cy="1942920"/>
          </a:xfrm>
          <a:prstGeom prst="rect">
            <a:avLst/>
          </a:prstGeom>
          <a:ln w="0">
            <a:noFill/>
          </a:ln>
        </p:spPr>
      </p:pic>
      <p:pic>
        <p:nvPicPr>
          <p:cNvPr id="973" name="图片 52232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8210520" cy="13050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3"/>
          <a:stretch/>
        </p:blipFill>
        <p:spPr>
          <a:xfrm>
            <a:off x="4211640" y="1944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4"/>
          <a:stretch/>
        </p:blipFill>
        <p:spPr>
          <a:xfrm>
            <a:off x="7221600" y="1916280"/>
            <a:ext cx="1022400" cy="4474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5"/>
          <a:stretch/>
        </p:blipFill>
        <p:spPr>
          <a:xfrm>
            <a:off x="4572000" y="2565360"/>
            <a:ext cx="1022400" cy="4478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6"/>
          <a:stretch/>
        </p:blipFill>
        <p:spPr>
          <a:xfrm>
            <a:off x="7380360" y="2506680"/>
            <a:ext cx="1022400" cy="447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7"/>
          <a:stretch/>
        </p:blipFill>
        <p:spPr>
          <a:xfrm>
            <a:off x="1951200" y="3933720"/>
            <a:ext cx="1022040" cy="4478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8"/>
          <a:stretch/>
        </p:blipFill>
        <p:spPr>
          <a:xfrm>
            <a:off x="4759200" y="3948120"/>
            <a:ext cx="1022400" cy="44784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9"/>
          <a:stretch/>
        </p:blipFill>
        <p:spPr>
          <a:xfrm>
            <a:off x="7927920" y="3962520"/>
            <a:ext cx="1022400" cy="4474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10"/>
          <a:stretch/>
        </p:blipFill>
        <p:spPr>
          <a:xfrm>
            <a:off x="1922400" y="4581360"/>
            <a:ext cx="1022400" cy="44784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11"/>
          <a:stretch/>
        </p:blipFill>
        <p:spPr>
          <a:xfrm>
            <a:off x="5105520" y="4581360"/>
            <a:ext cx="1022400" cy="44784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12"/>
          <a:stretch/>
        </p:blipFill>
        <p:spPr>
          <a:xfrm>
            <a:off x="7726320" y="4581360"/>
            <a:ext cx="1022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6120" y="243000"/>
            <a:ext cx="8591760" cy="63720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564000" y="3801960"/>
            <a:ext cx="489564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492360" y="4422600"/>
            <a:ext cx="489600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788000" y="5272200"/>
            <a:ext cx="93636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480440" y="530064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488280" y="5819760"/>
            <a:ext cx="502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604800" y="900000"/>
            <a:ext cx="7934400" cy="50580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5508720" y="17146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图片 59412" descr=""/>
          <p:cNvPicPr/>
          <p:nvPr/>
        </p:nvPicPr>
        <p:blipFill>
          <a:blip r:embed="rId3"/>
          <a:stretch/>
        </p:blipFill>
        <p:spPr>
          <a:xfrm>
            <a:off x="1273320" y="1552680"/>
            <a:ext cx="3619440" cy="780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5522760" y="32958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9414" descr=""/>
          <p:cNvPicPr/>
          <p:nvPr/>
        </p:nvPicPr>
        <p:blipFill>
          <a:blip r:embed="rId5"/>
          <a:stretch/>
        </p:blipFill>
        <p:spPr>
          <a:xfrm>
            <a:off x="1287360" y="3133800"/>
            <a:ext cx="3619440" cy="780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5796000" y="41781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3348000" y="471024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8"/>
          <a:stretch/>
        </p:blipFill>
        <p:spPr>
          <a:xfrm>
            <a:off x="5580000" y="4724280"/>
            <a:ext cx="223200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9"/>
          <a:stretch/>
        </p:blipFill>
        <p:spPr>
          <a:xfrm>
            <a:off x="4989600" y="5257800"/>
            <a:ext cx="93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76801" descr=""/>
          <p:cNvPicPr/>
          <p:nvPr/>
        </p:nvPicPr>
        <p:blipFill>
          <a:blip r:embed="rId1"/>
          <a:stretch/>
        </p:blipFill>
        <p:spPr>
          <a:xfrm>
            <a:off x="566640" y="1562040"/>
            <a:ext cx="8010720" cy="373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2166840" y="23637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3463920" y="29829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5580000" y="2967120"/>
            <a:ext cx="244800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2195640" y="3573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6"/>
          <a:stretch/>
        </p:blipFill>
        <p:spPr>
          <a:xfrm>
            <a:off x="5940360" y="357336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7"/>
          <a:stretch/>
        </p:blipFill>
        <p:spPr>
          <a:xfrm>
            <a:off x="3419640" y="4149720"/>
            <a:ext cx="165708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8"/>
          <a:stretch/>
        </p:blipFill>
        <p:spPr>
          <a:xfrm>
            <a:off x="6488280" y="416412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9"/>
          <a:stretch/>
        </p:blipFill>
        <p:spPr>
          <a:xfrm>
            <a:off x="2124000" y="4767120"/>
            <a:ext cx="1727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8373" descr=""/>
          <p:cNvPicPr/>
          <p:nvPr/>
        </p:nvPicPr>
        <p:blipFill>
          <a:blip r:embed="rId1"/>
          <a:stretch/>
        </p:blipFill>
        <p:spPr>
          <a:xfrm>
            <a:off x="290520" y="985680"/>
            <a:ext cx="8562960" cy="48866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5219640" y="2565360"/>
            <a:ext cx="280836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5219640" y="3443400"/>
            <a:ext cx="280836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5219640" y="4307040"/>
            <a:ext cx="280836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5219640" y="5157720"/>
            <a:ext cx="280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7352" descr=""/>
          <p:cNvPicPr/>
          <p:nvPr/>
        </p:nvPicPr>
        <p:blipFill>
          <a:blip r:embed="rId1"/>
          <a:stretch/>
        </p:blipFill>
        <p:spPr>
          <a:xfrm>
            <a:off x="195120" y="766800"/>
            <a:ext cx="8753760" cy="53244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236520" y="3429000"/>
            <a:ext cx="1728720" cy="28083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1965240" y="3213000"/>
            <a:ext cx="2535480" cy="28083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2527200" y="2506680"/>
            <a:ext cx="1324080" cy="4474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4572000" y="3371760"/>
            <a:ext cx="1728720" cy="28083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6"/>
          <a:stretch/>
        </p:blipFill>
        <p:spPr>
          <a:xfrm>
            <a:off x="6300720" y="3357720"/>
            <a:ext cx="2664000" cy="28080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7"/>
          <a:stretch/>
        </p:blipFill>
        <p:spPr>
          <a:xfrm>
            <a:off x="7020000" y="2565360"/>
            <a:ext cx="1324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6324" descr=""/>
          <p:cNvPicPr/>
          <p:nvPr/>
        </p:nvPicPr>
        <p:blipFill>
          <a:blip r:embed="rId1"/>
          <a:stretch/>
        </p:blipFill>
        <p:spPr>
          <a:xfrm>
            <a:off x="357120" y="1609560"/>
            <a:ext cx="8429760" cy="36388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266760" y="2276640"/>
            <a:ext cx="2087640" cy="28080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2340000" y="2205000"/>
            <a:ext cx="2087640" cy="2808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2771640" y="162864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4788000" y="2363760"/>
            <a:ext cx="2087640" cy="28083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6"/>
          <a:stretch/>
        </p:blipFill>
        <p:spPr>
          <a:xfrm>
            <a:off x="6877080" y="2276640"/>
            <a:ext cx="2087640" cy="28080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7"/>
          <a:stretch/>
        </p:blipFill>
        <p:spPr>
          <a:xfrm>
            <a:off x="7250040" y="1614600"/>
            <a:ext cx="1224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图片 55300" descr=""/>
          <p:cNvPicPr/>
          <p:nvPr/>
        </p:nvPicPr>
        <p:blipFill>
          <a:blip r:embed="rId1"/>
          <a:stretch/>
        </p:blipFill>
        <p:spPr>
          <a:xfrm>
            <a:off x="324000" y="1176480"/>
            <a:ext cx="8496000" cy="45050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2"/>
          <a:stretch/>
        </p:blipFill>
        <p:spPr>
          <a:xfrm>
            <a:off x="5724360" y="325584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3"/>
          <a:stretch/>
        </p:blipFill>
        <p:spPr>
          <a:xfrm>
            <a:off x="7380360" y="32846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4"/>
          <a:stretch/>
        </p:blipFill>
        <p:spPr>
          <a:xfrm>
            <a:off x="1979640" y="40910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5"/>
          <a:stretch/>
        </p:blipFill>
        <p:spPr>
          <a:xfrm>
            <a:off x="3924360" y="4956120"/>
            <a:ext cx="79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图片 54276" descr=""/>
          <p:cNvPicPr/>
          <p:nvPr/>
        </p:nvPicPr>
        <p:blipFill>
          <a:blip r:embed="rId1"/>
          <a:stretch/>
        </p:blipFill>
        <p:spPr>
          <a:xfrm>
            <a:off x="490680" y="762120"/>
            <a:ext cx="8162640" cy="53337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2"/>
          <a:stretch/>
        </p:blipFill>
        <p:spPr>
          <a:xfrm>
            <a:off x="2843280" y="543096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00:3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