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D9CB-BBCF-4739-8947-ADE4F038C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0991-6477-42CD-B076-9BE008C5D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98A237-7571-45BB-A238-8C6430E56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D9E622-B921-4EE5-8CFB-E65267D4C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E4DD29-F4CD-4EC1-A642-C7EA86824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1CAEEE-2CD4-4DBB-8016-588AC2CCA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4F8450-56DB-4255-922A-F82232142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5F8DAC-190B-46E7-8FB4-2761F342B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306A6A-182C-4A1D-B5C6-91FF67DF0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6A7F21-7B7F-423C-81D3-FCB2F731E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3D5DED-450C-443B-B90B-D1E1FE817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A4D16E-435A-45CF-BB1D-7CE01662A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8887-B6AB-4FD7-A4F5-D7AC8A193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001638-D884-43C1-A2A2-93B973157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C95569-8AEC-473F-8CC0-B5259FA30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2DDC18-CD32-4505-AFD7-09C878E1E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FBB692-9DA0-400A-8EA9-710BD0605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C3A8EC-58C7-457E-81D4-6DEBEDB27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C5BFBD-0778-4987-8824-ABE0119D4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282E47-BF5F-4EB1-99FE-4498D93A4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69EF3D-3B03-48CC-BC33-0805E62A2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D38F0E-3843-4BF1-BCA4-E5C5DB770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E291AF-7419-4AC6-A644-B041AB3AB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2915-4B31-4315-847B-25226F34C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68EE76-F2F1-49A2-B944-B3FEB3498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327EFA-31BF-4289-B293-16A8B9C7C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218737-378E-4C52-8FD9-AB591983B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BF565D-BB8E-4BC2-9086-F7A369233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B0B560-72E5-418F-830F-A31F66ECC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D71A52-347A-4B2D-ADE7-76A72F118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E81FA9-5B6A-4B1B-8E83-41C6A418C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4AF953-348A-49FA-9319-EC3E85AF9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26C85F-B232-4304-8B16-804F89125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6CFD3A-A926-4B11-B23E-BDC9F4953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E7ABD-15E4-4F38-89C7-C5BC70BD2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219DE0-3841-45E6-8BB1-BA30BAB87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4005A2-0D40-46A3-BBC2-2039FA890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7823F8-B075-45CE-B779-7BA7633EF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AA5E19-1365-437C-AC0E-D25EBE4EF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C3371D-AD90-4E61-9E78-CE526FE69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D0C357-7E3A-4907-9798-F6ECACB11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7E65EF-9167-41B4-8AD3-D5794BA2E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436F13-6834-4AAA-8490-0DB9E3850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1A7189-A28E-4807-BA68-74602A09D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DDCCBB-AFE6-4B89-A98A-ECEF929D4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87CE6-876E-4EDF-938C-14F673323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B66E09-2FF4-43D9-BA30-1436B165C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F8C05D-7F08-40C9-987A-3C4668BE0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1CEAB2-22B2-4315-84EB-1DA4FF464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9ECCE6-FA3A-4047-BD29-C4BC685C2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CD778F-4A7A-4D96-A030-FE4C632AB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192B72-E026-4777-9D18-B9128905B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56D8C7-A536-4E51-AF78-71C5F4CBA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9E080B-46BF-4BC5-884F-00B1E2145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13467F-6C36-4C78-B06B-04F9D14D1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10A93C-9D60-4193-B46F-F0A4A9204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F0724-62C4-4EC6-ACAC-29EA16FEA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8C427F-E787-4364-A3E5-ACE8B84AC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C8C2F1-1657-42C2-ABC9-C1C0A4473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DACA19-C0E1-461E-803E-306883600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C9C429-45A9-43CB-9089-68C9AFCBA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69E6EA-DB4D-4A49-A023-B38237EE4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90EF9B-0977-482D-9E50-4C3BCC57F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E67795-D2C2-4A37-A8BD-D7BB295F1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B46190-FB73-4579-9578-8523EEAC5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2651642-6410-43D8-A6DA-0FD423418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0FFD2E-B475-4CB2-9B10-4BBA58F47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1E94D-F29B-4177-BDA6-D69FB140D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8C7BED-38E6-4197-939E-19DCB6E4D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8F9949-47E7-4E15-A9B5-2F518D53B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CC5139-5F6B-474F-AE84-0CA4F1576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723316A-1130-4796-9A07-180AEA6F9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486C1C-5B92-43E3-AFB5-046123D68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A87E1D-2163-49EA-9741-84E094FAF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CF360A-65AF-4665-A352-1169E7DEE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AC7CE4-5E91-4480-B27C-C30E4DDB8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10BA598-66A4-4A0E-BF21-AC322C50B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7E3E13D-ABA7-4350-B2DF-EA32C702B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81E96-6AC4-4767-AC4E-E6C6556DB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1B3A7F9-6D52-4ABD-8BCA-CDEB839AC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23C402E-0F7E-49C4-830F-3A413D780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4ACF9A2-F39F-46F7-8568-1E231E774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B01087B-E4A8-46A7-BC99-2220B2FA5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CEF5FBF-65F8-465D-9848-266141345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67CBC48-BDCD-41C4-A3A7-2C2D9F474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5DC24A1-2123-4259-B382-5A3A02DDE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F533956-EBA0-4F7C-94EC-6A0AC8B64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E4509B9-3410-4F23-9ED2-CB318E140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A5394E4-B294-4846-B216-A0FE42F55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17043-0279-4A80-8CFE-254C4B7F6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20FF191-DC80-469E-97A3-410DF7A38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8B7B2B6-EEA4-4FF7-8656-CC4FC4AA3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01A8694-6F4A-441A-8337-0D36CE5B1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9EEAE0A-F9EA-4016-919C-210A6A51C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3EADF92-A51E-4BED-8961-4483155F9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54B90E9-6D80-4C03-8CFF-8F695F767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AC82AFE-8C2D-44F2-A1D5-96F3FBC46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1C91100-28D3-42C5-9A85-0FBBC9E41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37BD4A5-7B1C-4616-9277-457AE032F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254B1A8-6172-43BB-8A3E-7CF7F4913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E3D06-536F-4873-B82B-32F12E749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50506A3-6303-4C0A-9B32-364100F1C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E710BC9-5CDC-49E0-A9DF-E5F872151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4013F5A-B93A-45A4-8CA4-6E11A0277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0724910-031A-4BD3-8609-9EA0433BD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D25A235-AB04-4F6C-A9F9-C470CC5F6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E1079D6-DFAB-4CE6-8568-E6360F93E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F4E2D6D-2C58-47A4-AEE5-B9BD4ECE8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612887F-5073-4C8F-8287-C00F6300E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0F16864-E36D-48BA-A245-F519763B0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54D7C03-AF4C-43B1-B11A-9CFF157D4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98C5-FB3C-4FA5-BA6D-55D484B23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6146E-872F-4BC4-ACFF-2C59B2B20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6E73A9A-6D31-494E-B4DA-EB356A493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D4B3F98-3CBA-4762-9BD6-E30EA666F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DCE2E69-6E2C-4FAB-B246-18C05F3FD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0BD5AC8-395D-4B0E-844E-87C2F4DCD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50BFE61-3705-48B0-9A8B-5C811D230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A3552E0-A048-47CF-B18D-036FC8715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05720FF-72E6-419B-A601-32259753C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541DBC5-84B4-4659-BA90-C02F5CA10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3F21A60-9942-4C65-B6B2-554804AA2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74C2E1A-0E48-4BF3-A4EC-A281529E1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C8A8E-9C9E-4CDD-AA4B-B623A0321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34C6E3F-5406-4625-BABE-65F94C533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B372899-AF1D-4736-9546-328128C7D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3164DC2-8F3E-4787-8F67-3D5D535C3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1291666-563E-4CD0-8479-FFC952CF3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1304AE6-11C8-4665-8771-51E1DADCC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30A82D5-5142-4ABC-B768-ECD9D01D6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C8593A0-5C98-4F02-96E8-FBCF1F483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785130B-DF56-458E-9DB8-09EFBA379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448539C-F4B4-447C-9871-DFC81446A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4A12B01-F67D-4B4B-B06F-47B92A45B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FF417-3074-47FE-AE84-0F82A13AF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8615CD6-7F71-4EF4-8882-0097AE0F5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093A942-A913-4688-889C-7401DC456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A003532-9A51-441F-A7F1-47CF12EA2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BBD8923-AB9C-4086-99A4-161404384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B572512-588E-4442-B3BE-F31F84028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6E57265-4F93-49FA-A0D4-CDDA1B187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2EE9F4A-BB8C-4389-8472-09D2A5D64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A4A2CDE-FC5C-40DC-AB7D-BDBE40238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3352869-2B86-4CB6-96ED-AB5C8EB44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E70005A-ADD4-45F4-A94C-77B87FED6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DA917-ECFE-4559-B256-A669C8125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8BC767B-2768-47E2-8608-50A117633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9F631FC-822E-4ABE-B167-AB8C5272B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7A849D8-D1F5-486E-BB7B-8A48C4B6A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87A2F3E-6195-4326-AAD5-ED76AEA2C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AC07490-3AF1-4043-A136-8CDFF0B21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2ACD80B-4314-472D-862F-6CE244F19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B17077C-8388-4042-A917-2DA96DC60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EA0650A-D04A-4F09-A7D2-7E7A297BB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E7E6942-E64B-48E8-A26F-24396267F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C24413A-2777-43E3-B671-FB4A0DBAB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8629C-BE6B-4E9F-A362-F645F574E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3D14C88-3AC5-447A-AF09-3ADF9BB76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8870B6B-895F-4EFB-932A-CAAFAC84C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0556837-2A44-4614-AF9D-7695DE4DC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5CFD806-0435-4D24-A6E7-0E1045253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ABD3C7F-9AA1-4868-B75F-667CC4525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C4992B2-0A19-46E2-932F-62CF58713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615D994-90DF-4B15-B60D-6F89CD02E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B98F893-6EBE-477A-88F9-A1DC5C9B4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7F2B56B-E676-4836-BA05-0CF664338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BE0D503-AAD5-4B56-9C0D-B7AF1CA43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C6DED4-6FCD-4E2C-BD40-2A06F860A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99B752E-1C76-4B1C-9F57-61698DE93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F2DC6FB-7B43-4AFE-B82B-A76D6E43A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625AD1C-C50B-49DA-941A-71C3B1301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C42661-C1C1-423A-BBBC-0B75F8F13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9C8807-A3DF-41FE-8CAA-667EFFB3F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9E4B70-A7CF-47B9-8E6F-505EF59D5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C7583E-4D0D-4120-B1F0-10B491BA7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3AD7-3D2E-4D99-AA68-94AF51CB4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5C34BA-28C0-49BC-9B69-55488DE25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13D8AA-9C94-4976-910F-ECFD9057D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F83F91-C7BF-4F80-A7D6-0A8C48DE2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EA2353-78D5-4251-A263-8484D84E3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7A8798-D203-425A-A724-CFD52AA4C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FF8662-3A2C-49AE-BD32-003D321E9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DE37FD-3580-410D-BDDB-8E4738FEF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1BDAB8-D87C-4083-8233-2F7F94C2B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08C727-9D0A-4CBF-8192-94026E5EF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49282C-5E53-40AE-BC9E-75BD34E65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0676-75C4-4CA2-965E-ABBB05ED8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61F558-9FBA-461A-B040-F287BE933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EE06E3-8DE8-4A7F-B24D-C25774004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4E9C48-05A7-439B-86AB-8CC478DF3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E4F21D-29A0-465F-B648-545ED6500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05559E-F107-4BCE-BCED-4B56E6E11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F856C3-089F-4A92-BDFD-55A0D270D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0B9FC8-C92B-46E4-A15D-0D6ECD287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2FAEC3-3B3E-4C7C-8D00-D98C6F37E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1CB89D-76D8-4137-B7E5-15E4469A4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1C4DAD-391C-4B76-976D-B47029B1D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B2BD-A47F-4203-8CB3-5A0238B44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133587-4E8A-45C2-9421-99E98DFC2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E6266D-2133-40EC-A2E9-6D71B3014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A083BC-2A10-4603-BDFB-0B079559C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4006FD-6340-4005-99FB-1AB8EEAD6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62E54C-A242-495F-A426-53CCEC371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6503C4-50E0-49E0-BDA1-FEF1010E1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01B3B4-68FC-459D-87C4-E31EA96D8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8A0CBB-9D25-4E7B-A2FF-53F320C17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E618EF-D5B2-4CCE-B24D-69896E524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F84E26-04AD-4AAC-B104-E21734CC1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A8BE-D99E-432B-AA45-73C9E6A1F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E88AED-8965-46C2-8153-221D96C21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DB0C6D-C51D-4558-A05E-CD7095258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1F10D7-CCCE-4FDC-8FAA-950261E29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4DC422-8FF4-42A6-9255-70E6EDB4D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392C35-C15B-4D21-B6E4-31DF234D0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92476E-CD2B-4450-8835-BF77B4ED3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16DC51-999B-4661-8577-8CBA0D5F3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0C042D-8950-49C8-8D73-A63D933EA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609B31-BD30-4CF3-BF73-A23003CAC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5C7582-48E2-4045-ADDF-F7EEAA79A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D296-2A00-402E-9B02-2EE4FACCD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7EFAB6-5594-4A35-B139-5540972E7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BBE2F4-F1DB-447F-B12B-59D4E082F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9A828B-6D07-413D-86C3-FC1FB71F7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C36FEB-41A7-42E7-B42A-8C0E212D4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73C2C3-6418-4639-AF93-F27D36B6C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D27329-C6D5-4F6F-809F-A07648C15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07850E-0F97-4A08-B87C-9B53E62C4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704EAD-2348-468C-A03A-8428B1684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B28B35-13ED-45B3-BE28-A02A7544C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1B8449-5033-45DE-8A76-1353C1FA3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43CE-E225-471D-B278-4877CBE13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A7F314-0D27-4A5E-A1B0-469019C47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E17269-26A7-4AE7-B36F-18E831D95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9E0D15-EC92-4C9C-8246-BB8CF3EA7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2B8DD6-91C0-478F-A1FF-C4AF210DD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2A1543-3BC2-4901-9312-CE49F9EF4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F960E9-87AA-4B46-96F9-9248B0B7E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C2595D-3EC9-446F-8B87-E874A824A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F39085-C0C9-43A5-80C8-756B2809C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9F2BBC-D600-4F54-BDE5-25FC100A5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1A48A1-8E59-4746-8134-F5280BEAA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1523-8038-4E83-B451-BA24D6359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707E1B-74AE-4D7A-9299-2BB35CBA1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89859C-4865-44E0-B57F-FD6827F55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7C782F-8E7A-4469-8033-69DD01343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565C26-1C04-4DC9-9CA7-C53D871F1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C6FCF6-DB55-48E8-8428-270C48469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30A953-35E2-4750-9AA6-3D0527D3A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523FA6-D1A5-4140-BA6D-327D2C3A9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2D3A12-464E-4774-BA6D-CE44488EA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72F00F-8883-47EC-83BF-DEAC47318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74AFE4-5569-4A70-B74A-1D6408BE6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01819-FA60-40A1-8F2C-DF473039112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53812-8370-464A-8FEC-B0E4C91F2C7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684AB-039B-4233-A32C-FA6A8273C86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A0EA5-8B53-47FF-A3D3-3A40324531A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6D0F9-6395-410D-8EC8-939669CF3D7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C9D8F-20F2-41AB-8168-B98F27E212E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50946-C21C-4DE7-B0E3-59C6F7FEF78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C4FF9-B0C0-4A7B-BDEE-18CE553CA5E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766B2-837B-4951-9B1F-183C3CC9D87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F167A-CE34-4746-8867-1565B4098EF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07716-2FB0-4D99-85D2-86C18F86FAD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FEF51-F271-4D1E-8CB5-1150574A36C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19E51-BD2D-45FD-8E38-F57260871E2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4EB53-8E93-46DA-A17E-3DCC2BEA4BB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CFC8E-A9EC-44DB-8B66-30F5F581209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12CE9-5E7B-4E06-A4DF-20ABBDC038A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8E6FC-0D16-42C0-9747-948478C13D3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66ABB-823A-4DD2-91EB-AAA876F8C56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0AF70-4DEE-4913-8E01-894BF09AC31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801AE-130A-4D9A-AB6E-4459F3E8D6B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8FD05-856D-452B-8644-AEAD81CA422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C8B15-E085-47A2-8CF4-BADEE75653C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004EB-447D-46F4-80E5-A14F5AA9239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3C6E3-5D09-40C4-A441-6EF3C85B833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2A526-86BE-4F60-A129-8E5D4B245E8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A37CE-ADEA-484F-A77F-CBC68373BB8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1CC24-1331-44D7-AD38-23A2CA3DF8B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768F6-DA55-4F7E-991A-A804B9CA6FE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1974600"/>
            <a:ext cx="0" cy="282708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D4F3B-77E8-4398-9084-3C87EFB0547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A5E2D-5379-4D30-989A-82A9BA398C7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E95A5-F460-418A-B39C-0D0A943BD7B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04804-E3E2-4609-A3CF-ADAA5CAD566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C115F-7F6F-49D8-A12D-388371AC980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1AA80-0443-4542-B7C6-CE0AC6813E2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D1C9B-ED3E-495A-ABA4-E10270E7ED3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0370A-ED52-47D6-B541-F50E4AEBFD8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89A3A-B67E-409C-B24F-B4F499E02CD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B3D63-C6C4-4822-A1D8-0517563647E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1C91E-C4B8-4B16-B8B3-BFCED6129AE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61607-7A3A-4C3E-ABE4-6D7D5E1B29F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image" Target="../media/image11.png"/><Relationship Id="rId14" Type="http://schemas.openxmlformats.org/officeDocument/2006/relationships/image" Target="../media/image11.png"/><Relationship Id="rId15" Type="http://schemas.openxmlformats.org/officeDocument/2006/relationships/image" Target="../media/image11.png"/><Relationship Id="rId16" Type="http://schemas.openxmlformats.org/officeDocument/2006/relationships/image" Target="../media/image11.png"/><Relationship Id="rId17" Type="http://schemas.openxmlformats.org/officeDocument/2006/relationships/image" Target="../media/image11.png"/><Relationship Id="rId18" Type="http://schemas.openxmlformats.org/officeDocument/2006/relationships/image" Target="../media/image11.png"/><Relationship Id="rId19" Type="http://schemas.openxmlformats.org/officeDocument/2006/relationships/image" Target="../media/image11.png"/><Relationship Id="rId20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1733400" y="2205000"/>
            <a:ext cx="5677200" cy="752400"/>
          </a:xfrm>
          <a:prstGeom prst="rect">
            <a:avLst/>
          </a:prstGeom>
          <a:ln w="0">
            <a:noFill/>
          </a:ln>
        </p:spPr>
      </p:pic>
      <p:pic>
        <p:nvPicPr>
          <p:cNvPr id="922" name="图片 28679" descr=""/>
          <p:cNvPicPr/>
          <p:nvPr/>
        </p:nvPicPr>
        <p:blipFill>
          <a:blip r:embed="rId2"/>
          <a:stretch/>
        </p:blipFill>
        <p:spPr>
          <a:xfrm>
            <a:off x="2809800" y="3463920"/>
            <a:ext cx="35244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1" name="图片 52231" descr=""/>
          <p:cNvPicPr/>
          <p:nvPr/>
        </p:nvPicPr>
        <p:blipFill>
          <a:blip r:embed="rId1"/>
          <a:stretch/>
        </p:blipFill>
        <p:spPr>
          <a:xfrm>
            <a:off x="1442880" y="1738440"/>
            <a:ext cx="6258240" cy="3381120"/>
          </a:xfrm>
          <a:prstGeom prst="rect">
            <a:avLst/>
          </a:prstGeom>
          <a:ln w="0">
            <a:noFill/>
          </a:ln>
        </p:spPr>
      </p:pic>
      <p:pic>
        <p:nvPicPr>
          <p:cNvPr id="982" name="Picture 1" descr=""/>
          <p:cNvPicPr/>
          <p:nvPr/>
        </p:nvPicPr>
        <p:blipFill>
          <a:blip r:embed="rId2"/>
          <a:stretch/>
        </p:blipFill>
        <p:spPr>
          <a:xfrm>
            <a:off x="1979640" y="2492280"/>
            <a:ext cx="3313080" cy="479520"/>
          </a:xfrm>
          <a:prstGeom prst="rect">
            <a:avLst/>
          </a:prstGeom>
          <a:ln w="0">
            <a:noFill/>
          </a:ln>
        </p:spPr>
      </p:pic>
      <p:pic>
        <p:nvPicPr>
          <p:cNvPr id="983" name="Picture 1" descr=""/>
          <p:cNvPicPr/>
          <p:nvPr/>
        </p:nvPicPr>
        <p:blipFill>
          <a:blip r:embed="rId3"/>
          <a:stretch/>
        </p:blipFill>
        <p:spPr>
          <a:xfrm>
            <a:off x="1908000" y="3141720"/>
            <a:ext cx="3313440" cy="479520"/>
          </a:xfrm>
          <a:prstGeom prst="rect">
            <a:avLst/>
          </a:prstGeom>
          <a:ln w="0">
            <a:noFill/>
          </a:ln>
        </p:spPr>
      </p:pic>
      <p:pic>
        <p:nvPicPr>
          <p:cNvPr id="984" name="Picture 1" descr=""/>
          <p:cNvPicPr/>
          <p:nvPr/>
        </p:nvPicPr>
        <p:blipFill>
          <a:blip r:embed="rId4"/>
          <a:stretch/>
        </p:blipFill>
        <p:spPr>
          <a:xfrm>
            <a:off x="1908000" y="3860640"/>
            <a:ext cx="3313440" cy="479520"/>
          </a:xfrm>
          <a:prstGeom prst="rect">
            <a:avLst/>
          </a:prstGeom>
          <a:ln w="0">
            <a:noFill/>
          </a:ln>
        </p:spPr>
      </p:pic>
      <p:pic>
        <p:nvPicPr>
          <p:cNvPr id="985" name="Picture 1" descr=""/>
          <p:cNvPicPr/>
          <p:nvPr/>
        </p:nvPicPr>
        <p:blipFill>
          <a:blip r:embed="rId5"/>
          <a:stretch/>
        </p:blipFill>
        <p:spPr>
          <a:xfrm>
            <a:off x="1908000" y="4508640"/>
            <a:ext cx="5616720" cy="47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2" dur="10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7" dur="10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2" dur="10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7" dur="10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6" name="图片 69633" descr=""/>
          <p:cNvPicPr/>
          <p:nvPr/>
        </p:nvPicPr>
        <p:blipFill>
          <a:blip r:embed="rId1"/>
          <a:stretch/>
        </p:blipFill>
        <p:spPr>
          <a:xfrm>
            <a:off x="343080" y="1363680"/>
            <a:ext cx="8458200" cy="5305320"/>
          </a:xfrm>
          <a:prstGeom prst="rect">
            <a:avLst/>
          </a:prstGeom>
          <a:ln w="0">
            <a:noFill/>
          </a:ln>
        </p:spPr>
      </p:pic>
      <p:pic>
        <p:nvPicPr>
          <p:cNvPr id="987" name="图片 69634" descr=""/>
          <p:cNvPicPr/>
          <p:nvPr/>
        </p:nvPicPr>
        <p:blipFill>
          <a:blip r:embed="rId2"/>
          <a:stretch/>
        </p:blipFill>
        <p:spPr>
          <a:xfrm>
            <a:off x="357120" y="189000"/>
            <a:ext cx="4143600" cy="1133280"/>
          </a:xfrm>
          <a:prstGeom prst="rect">
            <a:avLst/>
          </a:prstGeom>
          <a:ln w="0">
            <a:noFill/>
          </a:ln>
        </p:spPr>
      </p:pic>
      <p:pic>
        <p:nvPicPr>
          <p:cNvPr id="988" name="Picture 1" descr=""/>
          <p:cNvPicPr/>
          <p:nvPr/>
        </p:nvPicPr>
        <p:blipFill>
          <a:blip r:embed="rId3"/>
          <a:stretch/>
        </p:blipFill>
        <p:spPr>
          <a:xfrm>
            <a:off x="900000" y="3787920"/>
            <a:ext cx="6624720" cy="649080"/>
          </a:xfrm>
          <a:prstGeom prst="rect">
            <a:avLst/>
          </a:prstGeom>
          <a:ln w="0">
            <a:noFill/>
          </a:ln>
        </p:spPr>
      </p:pic>
      <p:pic>
        <p:nvPicPr>
          <p:cNvPr id="989" name="Picture 1" descr=""/>
          <p:cNvPicPr/>
          <p:nvPr/>
        </p:nvPicPr>
        <p:blipFill>
          <a:blip r:embed="rId4"/>
          <a:stretch/>
        </p:blipFill>
        <p:spPr>
          <a:xfrm>
            <a:off x="900000" y="4624560"/>
            <a:ext cx="6624720" cy="649080"/>
          </a:xfrm>
          <a:prstGeom prst="rect">
            <a:avLst/>
          </a:prstGeom>
          <a:ln w="0">
            <a:noFill/>
          </a:ln>
        </p:spPr>
      </p:pic>
      <p:pic>
        <p:nvPicPr>
          <p:cNvPr id="990" name="Picture 1" descr=""/>
          <p:cNvPicPr/>
          <p:nvPr/>
        </p:nvPicPr>
        <p:blipFill>
          <a:blip r:embed="rId5"/>
          <a:stretch/>
        </p:blipFill>
        <p:spPr>
          <a:xfrm>
            <a:off x="971640" y="5445000"/>
            <a:ext cx="6624720" cy="649440"/>
          </a:xfrm>
          <a:prstGeom prst="rect">
            <a:avLst/>
          </a:prstGeom>
          <a:ln w="0">
            <a:noFill/>
          </a:ln>
        </p:spPr>
      </p:pic>
      <p:pic>
        <p:nvPicPr>
          <p:cNvPr id="991" name="Picture 1" descr=""/>
          <p:cNvPicPr/>
          <p:nvPr/>
        </p:nvPicPr>
        <p:blipFill>
          <a:blip r:embed="rId6"/>
          <a:stretch/>
        </p:blipFill>
        <p:spPr>
          <a:xfrm>
            <a:off x="971640" y="6035760"/>
            <a:ext cx="7272360" cy="64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4" dur="10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9" dur="10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4" dur="10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9" dur="10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3" name="图片 60428" descr=""/>
          <p:cNvPicPr/>
          <p:nvPr/>
        </p:nvPicPr>
        <p:blipFill>
          <a:blip r:embed="rId1"/>
          <a:stretch/>
        </p:blipFill>
        <p:spPr>
          <a:xfrm>
            <a:off x="214200" y="1028880"/>
            <a:ext cx="8715600" cy="480060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2"/>
          <a:stretch/>
        </p:blipFill>
        <p:spPr>
          <a:xfrm>
            <a:off x="971640" y="3789360"/>
            <a:ext cx="2448000" cy="47952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3"/>
          <a:stretch/>
        </p:blipFill>
        <p:spPr>
          <a:xfrm>
            <a:off x="900000" y="4437000"/>
            <a:ext cx="2448000" cy="47952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4"/>
          <a:stretch/>
        </p:blipFill>
        <p:spPr>
          <a:xfrm>
            <a:off x="5219640" y="3789360"/>
            <a:ext cx="2448000" cy="47952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5"/>
          <a:stretch/>
        </p:blipFill>
        <p:spPr>
          <a:xfrm>
            <a:off x="5148360" y="4437000"/>
            <a:ext cx="2448000" cy="47952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6"/>
          <a:stretch/>
        </p:blipFill>
        <p:spPr>
          <a:xfrm>
            <a:off x="3836880" y="5216400"/>
            <a:ext cx="462240" cy="3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9" name="图片 59410" descr=""/>
          <p:cNvPicPr/>
          <p:nvPr/>
        </p:nvPicPr>
        <p:blipFill>
          <a:blip r:embed="rId1"/>
          <a:stretch/>
        </p:blipFill>
        <p:spPr>
          <a:xfrm>
            <a:off x="504720" y="1800360"/>
            <a:ext cx="8134560" cy="325728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2"/>
          <a:stretch/>
        </p:blipFill>
        <p:spPr>
          <a:xfrm>
            <a:off x="3348000" y="2031840"/>
            <a:ext cx="576360" cy="47952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3"/>
          <a:stretch/>
        </p:blipFill>
        <p:spPr>
          <a:xfrm>
            <a:off x="1332000" y="3227400"/>
            <a:ext cx="863640" cy="47952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4"/>
          <a:stretch/>
        </p:blipFill>
        <p:spPr>
          <a:xfrm>
            <a:off x="3708360" y="3227400"/>
            <a:ext cx="863640" cy="47952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5"/>
          <a:stretch/>
        </p:blipFill>
        <p:spPr>
          <a:xfrm>
            <a:off x="1403280" y="3789360"/>
            <a:ext cx="2089080" cy="47952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6"/>
          <a:stretch/>
        </p:blipFill>
        <p:spPr>
          <a:xfrm>
            <a:off x="1476360" y="4349880"/>
            <a:ext cx="3887640" cy="47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1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1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10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5" name="图片 76801" descr=""/>
          <p:cNvPicPr/>
          <p:nvPr/>
        </p:nvPicPr>
        <p:blipFill>
          <a:blip r:embed="rId1"/>
          <a:stretch/>
        </p:blipFill>
        <p:spPr>
          <a:xfrm>
            <a:off x="309600" y="1033560"/>
            <a:ext cx="8524800" cy="479088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2"/>
          <a:stretch/>
        </p:blipFill>
        <p:spPr>
          <a:xfrm>
            <a:off x="4844880" y="2089080"/>
            <a:ext cx="576360" cy="47952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3"/>
          <a:stretch/>
        </p:blipFill>
        <p:spPr>
          <a:xfrm>
            <a:off x="5767560" y="2184480"/>
            <a:ext cx="446040" cy="37152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4"/>
          <a:stretch/>
        </p:blipFill>
        <p:spPr>
          <a:xfrm>
            <a:off x="7380360" y="2089080"/>
            <a:ext cx="576360" cy="47952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5"/>
          <a:stretch/>
        </p:blipFill>
        <p:spPr>
          <a:xfrm>
            <a:off x="5335560" y="3170160"/>
            <a:ext cx="446040" cy="37152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6"/>
          <a:stretch/>
        </p:blipFill>
        <p:spPr>
          <a:xfrm>
            <a:off x="5940360" y="3097080"/>
            <a:ext cx="576360" cy="47952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7"/>
          <a:stretch/>
        </p:blipFill>
        <p:spPr>
          <a:xfrm>
            <a:off x="6948360" y="3170160"/>
            <a:ext cx="446040" cy="37152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8"/>
          <a:stretch/>
        </p:blipFill>
        <p:spPr>
          <a:xfrm>
            <a:off x="7596360" y="3097080"/>
            <a:ext cx="576000" cy="47952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9"/>
          <a:stretch/>
        </p:blipFill>
        <p:spPr>
          <a:xfrm>
            <a:off x="4614840" y="4119480"/>
            <a:ext cx="576360" cy="47952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10"/>
          <a:stretch/>
        </p:blipFill>
        <p:spPr>
          <a:xfrm>
            <a:off x="5553000" y="4192560"/>
            <a:ext cx="446040" cy="37152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11"/>
          <a:stretch/>
        </p:blipFill>
        <p:spPr>
          <a:xfrm>
            <a:off x="6386400" y="4133880"/>
            <a:ext cx="576360" cy="47952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12"/>
          <a:stretch/>
        </p:blipFill>
        <p:spPr>
          <a:xfrm>
            <a:off x="7596360" y="4091040"/>
            <a:ext cx="576000" cy="47952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13"/>
          <a:stretch/>
        </p:blipFill>
        <p:spPr>
          <a:xfrm>
            <a:off x="3851280" y="5127480"/>
            <a:ext cx="576360" cy="47952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14"/>
          <a:stretch/>
        </p:blipFill>
        <p:spPr>
          <a:xfrm>
            <a:off x="4659480" y="5200560"/>
            <a:ext cx="446040" cy="37152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15"/>
          <a:stretch/>
        </p:blipFill>
        <p:spPr>
          <a:xfrm>
            <a:off x="5292720" y="5114880"/>
            <a:ext cx="576360" cy="47952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16"/>
          <a:stretch/>
        </p:blipFill>
        <p:spPr>
          <a:xfrm>
            <a:off x="6040440" y="5200560"/>
            <a:ext cx="446040" cy="37152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17"/>
          <a:stretch/>
        </p:blipFill>
        <p:spPr>
          <a:xfrm>
            <a:off x="6659640" y="5111640"/>
            <a:ext cx="576360" cy="47952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18"/>
          <a:stretch/>
        </p:blipFill>
        <p:spPr>
          <a:xfrm>
            <a:off x="7467480" y="5184720"/>
            <a:ext cx="446040" cy="37152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19"/>
          <a:stretch/>
        </p:blipFill>
        <p:spPr>
          <a:xfrm>
            <a:off x="8101080" y="5099040"/>
            <a:ext cx="576360" cy="4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10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1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10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10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1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10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1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10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1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5" dur="10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" dur="1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5" dur="10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0" dur="10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5" dur="10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0" dur="10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" dur="10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0" dur="1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5" dur="10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4" name="图片 58373" descr=""/>
          <p:cNvPicPr/>
          <p:nvPr/>
        </p:nvPicPr>
        <p:blipFill>
          <a:blip r:embed="rId1"/>
          <a:stretch/>
        </p:blipFill>
        <p:spPr>
          <a:xfrm>
            <a:off x="257040" y="1504800"/>
            <a:ext cx="8629920" cy="384840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2"/>
          <a:stretch/>
        </p:blipFill>
        <p:spPr>
          <a:xfrm>
            <a:off x="7812000" y="2924280"/>
            <a:ext cx="576360" cy="47916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" descr=""/>
          <p:cNvPicPr/>
          <p:nvPr/>
        </p:nvPicPr>
        <p:blipFill>
          <a:blip r:embed="rId3"/>
          <a:stretch/>
        </p:blipFill>
        <p:spPr>
          <a:xfrm>
            <a:off x="7885080" y="4149720"/>
            <a:ext cx="576360" cy="4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2" dur="10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7" dur="10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7" name="图片 57352" descr=""/>
          <p:cNvPicPr/>
          <p:nvPr/>
        </p:nvPicPr>
        <p:blipFill>
          <a:blip r:embed="rId1"/>
          <a:stretch/>
        </p:blipFill>
        <p:spPr>
          <a:xfrm>
            <a:off x="290520" y="1771560"/>
            <a:ext cx="8562960" cy="331488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2"/>
          <a:stretch/>
        </p:blipFill>
        <p:spPr>
          <a:xfrm>
            <a:off x="900000" y="3170160"/>
            <a:ext cx="3240360" cy="47952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3"/>
          <a:stretch/>
        </p:blipFill>
        <p:spPr>
          <a:xfrm>
            <a:off x="755640" y="3789360"/>
            <a:ext cx="3240000" cy="47952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4"/>
          <a:stretch/>
        </p:blipFill>
        <p:spPr>
          <a:xfrm>
            <a:off x="755640" y="4437000"/>
            <a:ext cx="3240000" cy="47952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" descr=""/>
          <p:cNvPicPr/>
          <p:nvPr/>
        </p:nvPicPr>
        <p:blipFill>
          <a:blip r:embed="rId5"/>
          <a:stretch/>
        </p:blipFill>
        <p:spPr>
          <a:xfrm>
            <a:off x="5219640" y="3213000"/>
            <a:ext cx="3240000" cy="47952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" descr=""/>
          <p:cNvPicPr/>
          <p:nvPr/>
        </p:nvPicPr>
        <p:blipFill>
          <a:blip r:embed="rId6"/>
          <a:stretch/>
        </p:blipFill>
        <p:spPr>
          <a:xfrm>
            <a:off x="5075280" y="3832200"/>
            <a:ext cx="3240000" cy="47952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" descr=""/>
          <p:cNvPicPr/>
          <p:nvPr/>
        </p:nvPicPr>
        <p:blipFill>
          <a:blip r:embed="rId7"/>
          <a:stretch/>
        </p:blipFill>
        <p:spPr>
          <a:xfrm>
            <a:off x="5075280" y="4479840"/>
            <a:ext cx="3240000" cy="4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4" dur="10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9" dur="10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4" dur="1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9" dur="10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4" dur="10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9" dur="10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4" name="图片 56324" descr=""/>
          <p:cNvPicPr/>
          <p:nvPr/>
        </p:nvPicPr>
        <p:blipFill>
          <a:blip r:embed="rId1"/>
          <a:stretch/>
        </p:blipFill>
        <p:spPr>
          <a:xfrm>
            <a:off x="585720" y="2195640"/>
            <a:ext cx="7972560" cy="246672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2"/>
          <a:stretch/>
        </p:blipFill>
        <p:spPr>
          <a:xfrm>
            <a:off x="611280" y="2852640"/>
            <a:ext cx="3600360" cy="47952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1" descr=""/>
          <p:cNvPicPr/>
          <p:nvPr/>
        </p:nvPicPr>
        <p:blipFill>
          <a:blip r:embed="rId3"/>
          <a:stretch/>
        </p:blipFill>
        <p:spPr>
          <a:xfrm>
            <a:off x="611280" y="3429000"/>
            <a:ext cx="3600360" cy="47952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1" descr=""/>
          <p:cNvPicPr/>
          <p:nvPr/>
        </p:nvPicPr>
        <p:blipFill>
          <a:blip r:embed="rId4"/>
          <a:stretch/>
        </p:blipFill>
        <p:spPr>
          <a:xfrm>
            <a:off x="611280" y="4076640"/>
            <a:ext cx="3600360" cy="47952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1" descr=""/>
          <p:cNvPicPr/>
          <p:nvPr/>
        </p:nvPicPr>
        <p:blipFill>
          <a:blip r:embed="rId5"/>
          <a:stretch/>
        </p:blipFill>
        <p:spPr>
          <a:xfrm>
            <a:off x="4859280" y="2895480"/>
            <a:ext cx="3600360" cy="47952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1" descr=""/>
          <p:cNvPicPr/>
          <p:nvPr/>
        </p:nvPicPr>
        <p:blipFill>
          <a:blip r:embed="rId6"/>
          <a:stretch/>
        </p:blipFill>
        <p:spPr>
          <a:xfrm>
            <a:off x="4859280" y="3471840"/>
            <a:ext cx="3600360" cy="47952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1" descr=""/>
          <p:cNvPicPr/>
          <p:nvPr/>
        </p:nvPicPr>
        <p:blipFill>
          <a:blip r:embed="rId7"/>
          <a:stretch/>
        </p:blipFill>
        <p:spPr>
          <a:xfrm>
            <a:off x="4859280" y="4119480"/>
            <a:ext cx="3600360" cy="4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6" dur="10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1" dur="10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6" dur="10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1" dur="1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6" dur="10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1" dur="10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1" name="图片 55300" descr=""/>
          <p:cNvPicPr/>
          <p:nvPr/>
        </p:nvPicPr>
        <p:blipFill>
          <a:blip r:embed="rId1"/>
          <a:stretch/>
        </p:blipFill>
        <p:spPr>
          <a:xfrm>
            <a:off x="952560" y="878040"/>
            <a:ext cx="7238880" cy="5790960"/>
          </a:xfrm>
          <a:prstGeom prst="rect">
            <a:avLst/>
          </a:prstGeom>
          <a:ln w="0">
            <a:noFill/>
          </a:ln>
        </p:spPr>
      </p:pic>
      <p:pic>
        <p:nvPicPr>
          <p:cNvPr id="972" name="Picture 1" descr=""/>
          <p:cNvPicPr/>
          <p:nvPr/>
        </p:nvPicPr>
        <p:blipFill>
          <a:blip r:embed="rId2"/>
          <a:stretch/>
        </p:blipFill>
        <p:spPr>
          <a:xfrm>
            <a:off x="1476360" y="4102200"/>
            <a:ext cx="3456000" cy="479160"/>
          </a:xfrm>
          <a:prstGeom prst="rect">
            <a:avLst/>
          </a:prstGeom>
          <a:ln w="0">
            <a:noFill/>
          </a:ln>
        </p:spPr>
      </p:pic>
      <p:pic>
        <p:nvPicPr>
          <p:cNvPr id="973" name="Picture 1" descr=""/>
          <p:cNvPicPr/>
          <p:nvPr/>
        </p:nvPicPr>
        <p:blipFill>
          <a:blip r:embed="rId3"/>
          <a:stretch/>
        </p:blipFill>
        <p:spPr>
          <a:xfrm>
            <a:off x="1547640" y="4724280"/>
            <a:ext cx="3456000" cy="479520"/>
          </a:xfrm>
          <a:prstGeom prst="rect">
            <a:avLst/>
          </a:prstGeom>
          <a:ln w="0">
            <a:noFill/>
          </a:ln>
        </p:spPr>
      </p:pic>
      <p:pic>
        <p:nvPicPr>
          <p:cNvPr id="974" name="Picture 1" descr=""/>
          <p:cNvPicPr/>
          <p:nvPr/>
        </p:nvPicPr>
        <p:blipFill>
          <a:blip r:embed="rId4"/>
          <a:stretch/>
        </p:blipFill>
        <p:spPr>
          <a:xfrm>
            <a:off x="1476360" y="5445000"/>
            <a:ext cx="3456000" cy="479520"/>
          </a:xfrm>
          <a:prstGeom prst="rect">
            <a:avLst/>
          </a:prstGeom>
          <a:ln w="0">
            <a:noFill/>
          </a:ln>
        </p:spPr>
      </p:pic>
      <p:pic>
        <p:nvPicPr>
          <p:cNvPr id="975" name="Picture 1" descr=""/>
          <p:cNvPicPr/>
          <p:nvPr/>
        </p:nvPicPr>
        <p:blipFill>
          <a:blip r:embed="rId5"/>
          <a:stretch/>
        </p:blipFill>
        <p:spPr>
          <a:xfrm>
            <a:off x="1403280" y="6135840"/>
            <a:ext cx="5832720" cy="47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8" dur="10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3" dur="10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8" dur="10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3" dur="10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6" name="图片 54276" descr=""/>
          <p:cNvPicPr/>
          <p:nvPr/>
        </p:nvPicPr>
        <p:blipFill>
          <a:blip r:embed="rId1"/>
          <a:stretch/>
        </p:blipFill>
        <p:spPr>
          <a:xfrm>
            <a:off x="-14400" y="1357200"/>
            <a:ext cx="9172800" cy="4143600"/>
          </a:xfrm>
          <a:prstGeom prst="rect">
            <a:avLst/>
          </a:prstGeom>
          <a:ln w="0">
            <a:noFill/>
          </a:ln>
        </p:spPr>
      </p:pic>
      <p:pic>
        <p:nvPicPr>
          <p:cNvPr id="977" name="Picture 1" descr=""/>
          <p:cNvPicPr/>
          <p:nvPr/>
        </p:nvPicPr>
        <p:blipFill>
          <a:blip r:embed="rId2"/>
          <a:stretch/>
        </p:blipFill>
        <p:spPr>
          <a:xfrm>
            <a:off x="1189080" y="2949480"/>
            <a:ext cx="3095640" cy="479520"/>
          </a:xfrm>
          <a:prstGeom prst="rect">
            <a:avLst/>
          </a:prstGeom>
          <a:ln w="0">
            <a:noFill/>
          </a:ln>
        </p:spPr>
      </p:pic>
      <p:pic>
        <p:nvPicPr>
          <p:cNvPr id="978" name="Picture 1" descr=""/>
          <p:cNvPicPr/>
          <p:nvPr/>
        </p:nvPicPr>
        <p:blipFill>
          <a:blip r:embed="rId3"/>
          <a:stretch/>
        </p:blipFill>
        <p:spPr>
          <a:xfrm>
            <a:off x="1187280" y="3573360"/>
            <a:ext cx="3095640" cy="479520"/>
          </a:xfrm>
          <a:prstGeom prst="rect">
            <a:avLst/>
          </a:prstGeom>
          <a:ln w="0">
            <a:noFill/>
          </a:ln>
        </p:spPr>
      </p:pic>
      <p:pic>
        <p:nvPicPr>
          <p:cNvPr id="979" name="Picture 1" descr=""/>
          <p:cNvPicPr/>
          <p:nvPr/>
        </p:nvPicPr>
        <p:blipFill>
          <a:blip r:embed="rId4"/>
          <a:stretch/>
        </p:blipFill>
        <p:spPr>
          <a:xfrm>
            <a:off x="1116000" y="4221000"/>
            <a:ext cx="3095640" cy="47952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1" descr=""/>
          <p:cNvPicPr/>
          <p:nvPr/>
        </p:nvPicPr>
        <p:blipFill>
          <a:blip r:embed="rId5"/>
          <a:stretch/>
        </p:blipFill>
        <p:spPr>
          <a:xfrm>
            <a:off x="1042920" y="4941720"/>
            <a:ext cx="4897440" cy="4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0" dur="10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5" dur="10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0" dur="10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5" dur="10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6T07:14:38Z</dcterms:modified>
  <cp:revision>2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