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ED1-2156-41FD-9CCB-895E1166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614-1F68-4B90-B5C6-7D1CC67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C6D33-604E-4F5B-98D6-EC2DF05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22D41-B0CE-4A37-A2D8-9036EFD1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97565-1207-408E-A186-C07C0B7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9A2F7-CF8B-4562-B36D-4462460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66212-BD67-4E19-A322-52C59D8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053F2-0E1F-49E2-B478-A70F8E6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A02F-2E84-4589-8950-CFFF2E4A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FFCC6-57BF-4AE8-9722-85648A0D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C8AA2-A942-4B64-9D92-705E36C8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4F55F-C010-4635-BC1D-0B65A9B5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1CE-B946-49E2-8452-3A2D069B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C3EEA-0534-4510-A31B-3F8114E1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2F3EB-2655-4B73-96FE-750007A6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D2815-D666-425A-8F37-D1BD5EDB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151E4-8854-494B-AA5A-34DE823C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8D866-AF3B-4939-9A2E-042230B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893B0-AEF9-4CC5-A46A-5E19182C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6E348-FB07-4D8F-8301-A2E5A9CA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C1629-1199-41B6-AC70-F62F2F97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D960C-CF2E-420C-8C9C-2C13DC6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3F8FB-D255-4319-9CA0-EA60BA29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EE6-7F69-483F-A8CA-16C9CF66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FBD23-0EF8-44A1-BB94-92FE0220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FC32C-A306-4A52-98FD-2F51252C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B9DDF-54FD-4C68-89DE-8D39CAD5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4EE2C-A5FC-4827-8573-432C617A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49031-4B67-44E9-B437-37F51E8F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E819F-7CB5-4F75-9A60-D43F2A42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DAAE3-ED9E-433C-8720-9CA0295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EE942-607D-49DF-B6B1-F0A3478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9A161-9CEC-421C-84C4-1D552755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2F3AD-8572-4B73-919A-ACD2596A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361A-4F3F-4A2C-873C-CE6922FA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0AF07-93F6-4282-AEBF-243A5C94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53019-2DA0-44E1-BF86-7BA95D73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C8711-6DD3-48D3-8515-FDAF31CA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C9184-9A03-40B5-A847-E7A103F0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A24ED-0BAC-4ABE-86F2-301FF593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27877-A23A-4083-831C-279CDF2D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87517-12FD-4F5B-9E2F-48F4F9E8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AF9C1-224D-4D43-B98D-CB7DDF2E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BB1AB-2C31-4052-9ACF-88689F35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452C2-5BF4-42AA-81B2-4C86BFE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F712-9AB3-4BC9-AF66-097E7A70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F9C72-178D-489F-B0AD-269FFF4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F24B4-9C49-4587-813A-CA2F479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7A7DC-33AA-45BA-BA47-3629AB2A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75674-D2AB-4400-A988-46BBE84A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C17D8-8379-4F07-96A6-3C687180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C1314-B103-4526-8641-D608442C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B9A7C-43E9-48B2-9127-313042FD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7980B-5933-4169-ABD8-17E3FBAB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0573B-21A3-4D26-B382-DC1B01AF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B8256-6E03-4D77-95DF-608B1AE9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8D21-AA5F-4453-AC6F-9E6A2907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1804C-ACBC-48B1-9AA1-9F5935A0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DF9A0-9CFC-4636-993F-ACDA5E2D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9ACF1-C911-4AB7-81FC-F68AEB2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0382D-90FA-45F2-9C6E-A0A1F981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59540-593F-4A22-96CF-39E0C342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C297A-3E19-47D1-86D4-E842426D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8CAEC-BDA2-4F5B-B572-531862E4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8B92B-CDB8-493B-91D6-D9564E7E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C63C9-2AD0-44D5-8947-EF3D2BF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17B6A-47DD-43D8-9D48-6EC99ADB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5EB4-5E05-4D53-837D-CB7311B0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7F5CB-7D0E-4287-95F1-79C34E38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97658-102D-4541-95B7-959C1DF7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84845-74E0-4581-BA5A-49943D0F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D677C-B52E-46A1-B8D3-5BD5C601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32B75-63D4-4304-AF14-352AF20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31128-6C14-4A42-948E-B45076E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D45A4-A93B-4A86-A9D1-D14A74EB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D0979-202E-4EA4-AC8E-E11E8406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0DF80-B332-44FA-B595-7120FF71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20719-00CE-46CE-86EB-C56BEFA1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C60C-4A59-4F9C-9E97-383F809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34DC2-88CA-4413-93DD-665AC8C1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62A33-0C65-45DC-B804-014F6DA3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68DCF-9A48-43D9-BA6F-D8887403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9D7BC-6D92-42C8-8FD7-56F135DB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F6CC3-5968-4DE8-8B73-677EC83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EDCA0-6F78-41F9-AF00-E8266C1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C0777-1EBE-4E1F-8B36-9E78B800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03A14-9116-45DA-A0D1-940351C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BDB5A-1659-4C47-B9FA-389E29FD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FCFA9-6C8E-494F-943E-6822BFD3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1E73-6132-48B3-8F1E-B6CDC920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488B4-FEC1-4F9F-A65C-628522CE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70E23-11CF-496B-AA81-514DCBE9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FDF64-B9BB-48B9-81A7-4AB0539D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B7115-0067-4C49-9855-758F2256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723B4-9685-404A-9180-7CDD43E0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B4DC6-9473-4593-AB6D-997C11EF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0C951-F04C-4536-9214-BD0186BD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3FB50-E2DA-4F53-8BFC-E0ACF5FC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D3568-755B-4275-9497-9DDE5396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7BFC1-A425-48A9-833A-0346357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6707-6BE6-4FB1-BE3E-03164635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2D167-3C03-4FF3-9362-F06484E8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F9AE1-8B9F-4668-AF39-44740A92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A950E-D82A-46F8-B33A-4BCED112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C077E-3D3D-4D4D-BC99-9A2EAA0C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6365D-47A3-4134-8E62-61C2AA9A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7EBFB-8E2A-4416-B47F-190B3C2B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C0943-C3C0-4B7D-90B4-3BE351CC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FDC14-82B9-4C61-97D6-60BC4E81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B225B-C07D-42BD-8279-655D7E59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D90BF-9D4F-4866-A7AF-B48E0D2D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1E5-C39C-4A37-895A-625FA9D1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E35C-D275-425F-9C4F-4DC55302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72B0F-D337-4F3C-8D8D-60665F31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57745-3B10-46DB-9971-137C306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8945F-F6F5-45F1-8D5A-C35536F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2C7F6-F303-42FB-9BEF-C0F6CB45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2A624-36E2-4F24-8879-7F1A59CA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89AFB-F51F-4413-B5F4-3687DCCD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63C21-FD78-418B-8962-AE31E74D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67ED94-FE9E-4974-A0B9-30568D2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29B54E-A034-4C45-AE58-9A6C0200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A233D-3AE2-4177-9BA8-F0A0C0D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9A93-72B1-4BCE-9ED9-4CB1A56F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0A4EC-56B5-467D-885A-61B85792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37E98-3952-428D-AD19-86E01E21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69974-2A3E-4A02-985E-9903F1CC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E6700-6E42-4304-8EEF-2E35E3A0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7C8AB-D86B-402A-A33A-E4AEE219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BA012-15B8-4DAB-B3CB-2BA34D0B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4E0C0-AB66-4802-9092-8F9A79A2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44AE8-0811-4807-9901-D20BAE1A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E6290-2AE2-435B-AB51-25B3D886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D88F1-A510-45DB-B6CF-13732392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E0F9-BDF3-40C7-AE1D-CB16765E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A586C-A701-4DC0-B266-22C03D18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10B087-EB7E-4042-A639-EFF80110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D40C5-1B60-46AB-84CD-4D5155C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B8AF0-ACA7-4DAF-8E15-0E3CF45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7ED63-BE38-4384-B130-826793E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827DB1-A963-49A4-8FE9-1C68A0C7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2C9FD-6D00-460E-9D3F-22B14CF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87C9E-E596-49BF-A2BD-B6DD8DC7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71083-5EEE-4448-8816-302B3F36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659ED-4672-4F4B-A867-BA49BD07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482-1189-4ECB-8448-30E5B9B4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5BE0A-91B6-442F-BA73-CAB30E98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EE963D-045C-46E3-9AC8-8AB22765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ADE8F-E3E6-4D2A-BE6D-5331254E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818EA-F361-4D69-8EBA-5330F5D4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2F2E35-D351-494A-945C-A5A525D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5BD7CD-9708-4A84-9037-B1312BDD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22A71-A302-45B6-ADCC-1DEB80A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A41D9-2D71-42BB-B723-2C6295B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0125A-51BF-48F0-808B-B5C62998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EC466-6F1A-468E-8EEE-E6C831AB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7B62-BA40-47AE-AA6C-6C1D2A21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1CEEB-73BF-4169-A583-513F04CA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3EDD1-8BDA-4E33-87AD-E7B6EAF5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E32D7-4855-48CC-A86A-D01430F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28D35-25B5-4B3B-AC9C-F45C8769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0B09C-4192-4C4C-9105-29BE9C2E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A98CE-DDDE-46F4-948C-9297327F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93938-6950-4206-B12F-7175C48D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43DA49-41E4-4824-B464-43DFCFA9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A2BF1-2C2B-45DC-8916-116C7537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6976D0-1A31-4324-9FE9-70B0D26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CFBF-D0E7-4D21-902E-85184073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AB2FD1-560D-4ED3-A9BC-F626C67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E06E1B-D03B-4C85-9B67-752D8473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1F4D3D-E4FA-484E-9DFE-DB75EB0C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95BF-E448-4980-9798-0AD6F97B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6485-9E51-4DB2-8D7C-DB6CBDFB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F003-A4FA-473E-9B94-BE6D1F7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6338-BADB-45D1-A3AB-1E318022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78F-A783-436F-8C63-615F0E28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6447-7E93-4420-B5BE-2B1BD8B2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CBEF-7187-4A7B-895A-71E847D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703A-58DB-4401-89A3-0928D9E0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4E88-FFE7-49CB-84D6-2284B735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119E-E585-4485-9E06-2AAFEF09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320F-537C-4BD5-B46C-45685CDA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B46E-DF9F-48FE-8E62-4C9496F4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C552-B825-4E0B-921A-20CDC03D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6638-356A-408D-BB9C-6193E00F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C1E9-63EB-43AD-83A0-83CE4502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4F3-6B41-4C8E-9B5E-0DF7DA0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C1DA-274C-4830-9737-527CE9A3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F929-9376-47D4-859C-DCA810B0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6296-CFD6-46B0-B35C-DA030D10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A2C3-FB47-4985-BB6F-9A713F1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079D-4CE6-43E9-9D02-87B565D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AF18-5B4D-4CBE-9954-E9A9F949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5F9F-A9E9-4300-AE46-0E91A267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F3D43-D6D3-4A69-96D5-7D77FC29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713D-46A3-4959-B71F-9BC86291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74CE-C25F-4109-B598-9AE0C11B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EA9-A4A7-498F-BF37-10E5364F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01F2-7D82-4DD7-B522-F2B0A4B9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A563-68EF-495B-B14A-5A575442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CF11-6BFD-4E80-9644-E7DF08A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4552-D43F-4D00-98AC-92AB9AAB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5888-4EB2-4DEF-8CE1-6723515F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6CB1-907F-426A-8AB8-8A53726B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59CA-E5EB-43E2-8238-C6677B2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67C5-97E0-4033-9264-36676A15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9918-1E8D-4AB2-947C-5F29B803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9E439-AE8E-4B06-A323-835CAA7F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B6C-5C75-4357-9178-000A747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68AD1-60CB-4887-91B6-D4802564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08EA5-EFFC-4D89-A83C-D04205C2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3890-7E7D-40D4-A488-3707A20D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AE0D8-08E2-4574-8747-6AB04D3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73726-2A6D-461D-B6BA-37A71B29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173E-E02E-42D8-BC3A-3D703E3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59629-BC82-4357-9B78-82DD8E53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B8AE-9A9A-4194-A7AA-77BF718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58069-7A5A-48B6-8552-D5B2EC73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63513-0C1B-4B3D-9FC0-D143FEF8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E97-78C4-4E63-ADB4-D5F6511A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BD44-FE5B-4B25-90CE-FF89A06F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02ED7-4A41-443B-A6B9-987231F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3FA0-71C0-4C85-A33E-6734D045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68220-1E79-4A5A-B720-CC7E0511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246B6-1C42-4461-BD7D-991AA23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EB11F-5CB3-4CBA-9A5B-3E8DD1B7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7E13-8885-4E7A-AD9E-D897F83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F4BF-4803-4AB4-8909-1E8FAF70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61C8-FE70-4EBE-8127-165DCDAE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31111-8E73-4F00-8E5D-D7BFE63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5BA-D484-437A-A0A9-CF53DBF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DB1F0-C1BD-4964-B00A-D53C5D2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95AFD-3557-45B0-9F13-107937E3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1B1CE-0BC4-48DF-95C7-8EB9914C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8CD6-4E78-43BD-AA5D-E92F08A1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44174-3DB5-4667-BD68-80F9712A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A1439-CD11-4266-8B10-CDE35F75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C0E6C-3C7D-4812-BEEE-7FDBB32A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6A7E7-4551-4B40-91F6-1A904FDC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88F3C-5B91-497F-9D11-0C0A5F27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27130-88CF-4019-B2F3-8A3369B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B1A-BFDD-4D72-AD09-F7BD5175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AE613-DBA9-423F-969C-DF81681B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D527-AF9A-464A-BA67-5F6B966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CF096-C583-491A-876F-C39D6C8A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5742-F84B-44EC-BB40-195F4F7E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607C2-43F8-485E-862F-02A3C01A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9CF84-3308-41DC-ABAD-D958E9D8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F6DB5-D2A7-4589-AD29-F95E0A61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FF072-3FF1-4441-8829-99E006D5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23FEE-59C7-48E7-AA40-3451D60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CD66E-1E4B-457C-85D0-4C87F3B7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4022-56CE-42B0-93E0-F1651B23CD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A06A-516E-4B80-AEE5-B03349D48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30EF-EFC5-4343-9684-E2EB4E3E0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9EF1-1CB2-453C-8826-ADB6C17E72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E9A-D06C-4496-82CD-6E639A81D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2184-527D-4C6F-93F0-B4DAF941E1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F12B-162B-4C30-827F-74DFFAF976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41E9-DFE7-4A23-BD4F-8FA4E59EDC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7D65-A169-4F40-97F8-F2B2473FB8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2294-946A-4FBD-ABF1-2C5DDAA01E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E399-3897-4FB8-815B-8EA9976A3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BFC6-F249-415A-BBA4-2E4EADCB98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8B53-D668-4F11-A668-341061366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AFD0-76D7-4A24-882B-FAC5B039A3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2B89-A701-4E49-BDB5-3D0DB0CBA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27AE-9277-4A82-9DEE-CBE58E2C8F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1403-6A41-43A3-8FFD-12E5B0F04D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F4F1-044F-478A-BC80-937FC8FAE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42D8-9589-4380-94E6-B60F26CCEA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C6D9-A025-4375-A7F0-4CE80271C3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EFA-F46E-4822-ACF4-4C22D2C79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292D-00EC-4704-B993-6D8D31D1F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60FF-454A-4646-B72E-6282FB30A9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43E2-028D-4E41-8C9A-62D53C934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6DAE-D26B-429D-81CD-BF0E5C670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F67F-E974-45E4-93B5-8FC8B302FC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E97E-6695-49CF-8101-B50E8EC6C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477E-AC50-4E49-9BF6-B574B9A82E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3D4-869D-4D1F-BCAF-1058C9C02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D9AB-3267-4CF0-85C4-830A250E0F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2CAD-1228-408F-B338-4DB426F9B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044-ACC1-4345-98A4-0D15B93B5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F328-D03D-43D8-B5DC-F4DCC23B3F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0998-C306-46C5-A56D-90DD6B5D62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254-C9A1-4FF4-B4B6-1935891E14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E675-7DF3-422B-BABB-D255BA6EC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A1AB-9CC0-49C7-86C0-937D16CF7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F2BA-52B5-4C87-A644-543A1732A6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FC2E-CBAB-457E-AC52-8ECC11CE57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4A61-484F-43AB-A554-4375F9800B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9" descr=""/>
          <p:cNvPicPr/>
          <p:nvPr/>
        </p:nvPicPr>
        <p:blipFill>
          <a:blip r:embed="rId1"/>
          <a:stretch/>
        </p:blipFill>
        <p:spPr>
          <a:xfrm>
            <a:off x="585720" y="3000240"/>
            <a:ext cx="79725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52231" descr=""/>
          <p:cNvPicPr/>
          <p:nvPr/>
        </p:nvPicPr>
        <p:blipFill>
          <a:blip r:embed="rId1"/>
          <a:stretch/>
        </p:blipFill>
        <p:spPr>
          <a:xfrm>
            <a:off x="1166760" y="1052640"/>
            <a:ext cx="6810480" cy="209520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52232" descr=""/>
          <p:cNvPicPr/>
          <p:nvPr/>
        </p:nvPicPr>
        <p:blipFill>
          <a:blip r:embed="rId2"/>
          <a:stretch/>
        </p:blipFill>
        <p:spPr>
          <a:xfrm>
            <a:off x="314280" y="3498840"/>
            <a:ext cx="8515440" cy="21621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4427640" y="1571760"/>
            <a:ext cx="792000" cy="4791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4673520" y="214776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5"/>
          <a:stretch/>
        </p:blipFill>
        <p:spPr>
          <a:xfrm>
            <a:off x="7093080" y="162864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6"/>
          <a:stretch/>
        </p:blipFill>
        <p:spPr>
          <a:xfrm>
            <a:off x="7093080" y="2133720"/>
            <a:ext cx="792000" cy="4791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7"/>
          <a:stretch/>
        </p:blipFill>
        <p:spPr>
          <a:xfrm>
            <a:off x="1547640" y="414972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8"/>
          <a:stretch/>
        </p:blipFill>
        <p:spPr>
          <a:xfrm>
            <a:off x="1547640" y="465444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9"/>
          <a:stretch/>
        </p:blipFill>
        <p:spPr>
          <a:xfrm>
            <a:off x="4643280" y="407664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0"/>
          <a:stretch/>
        </p:blipFill>
        <p:spPr>
          <a:xfrm>
            <a:off x="4643280" y="458136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1"/>
          <a:stretch/>
        </p:blipFill>
        <p:spPr>
          <a:xfrm>
            <a:off x="7667640" y="407664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12"/>
          <a:stretch/>
        </p:blipFill>
        <p:spPr>
          <a:xfrm>
            <a:off x="8043840" y="4581360"/>
            <a:ext cx="792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760320"/>
            <a:ext cx="8591760" cy="5981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62320" y="2852640"/>
            <a:ext cx="878040" cy="479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588000" y="2852640"/>
            <a:ext cx="87804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189240" y="3659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132000" y="5084640"/>
            <a:ext cx="935280" cy="432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203640" y="5603760"/>
            <a:ext cx="2160360" cy="432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203640" y="6180120"/>
            <a:ext cx="2016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09480" y="1433520"/>
            <a:ext cx="7925040" cy="3990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86328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524720" y="1484280"/>
            <a:ext cx="863640" cy="47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708360" y="2262240"/>
            <a:ext cx="432000" cy="436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4932360" y="3156120"/>
            <a:ext cx="1800360" cy="436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3276720" y="3659040"/>
            <a:ext cx="1800000" cy="4366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2973240" y="4221000"/>
            <a:ext cx="2103480" cy="436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2916360" y="4781520"/>
            <a:ext cx="367164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76801" descr=""/>
          <p:cNvPicPr/>
          <p:nvPr/>
        </p:nvPicPr>
        <p:blipFill>
          <a:blip r:embed="rId1"/>
          <a:stretch/>
        </p:blipFill>
        <p:spPr>
          <a:xfrm>
            <a:off x="281160" y="995400"/>
            <a:ext cx="8581680" cy="48672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3780000" y="188748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3564000" y="272268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3348000" y="3573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724360" y="354348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3132000" y="44085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5940360" y="43941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5680080" y="522936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0"/>
          <a:stretch/>
        </p:blipFill>
        <p:spPr>
          <a:xfrm>
            <a:off x="7020000" y="5229360"/>
            <a:ext cx="5763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8373" descr=""/>
          <p:cNvPicPr/>
          <p:nvPr/>
        </p:nvPicPr>
        <p:blipFill>
          <a:blip r:embed="rId1"/>
          <a:stretch/>
        </p:blipFill>
        <p:spPr>
          <a:xfrm>
            <a:off x="561960" y="285840"/>
            <a:ext cx="8020080" cy="6286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3168720" cy="479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1258920" y="2349360"/>
            <a:ext cx="316872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1289160" y="2997360"/>
            <a:ext cx="3168720" cy="479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219640" y="1758960"/>
            <a:ext cx="316872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5219640" y="2335320"/>
            <a:ext cx="3168720" cy="479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5249880" y="2982960"/>
            <a:ext cx="316872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1317600" y="4869000"/>
            <a:ext cx="3168720" cy="4791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9"/>
          <a:stretch/>
        </p:blipFill>
        <p:spPr>
          <a:xfrm>
            <a:off x="1317600" y="5445000"/>
            <a:ext cx="316872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0"/>
          <a:stretch/>
        </p:blipFill>
        <p:spPr>
          <a:xfrm>
            <a:off x="1347840" y="6093000"/>
            <a:ext cx="3168720" cy="479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1"/>
          <a:stretch/>
        </p:blipFill>
        <p:spPr>
          <a:xfrm>
            <a:off x="5292720" y="4869000"/>
            <a:ext cx="3168720" cy="479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2"/>
          <a:stretch/>
        </p:blipFill>
        <p:spPr>
          <a:xfrm>
            <a:off x="5292720" y="5445000"/>
            <a:ext cx="316872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3"/>
          <a:stretch/>
        </p:blipFill>
        <p:spPr>
          <a:xfrm>
            <a:off x="5322960" y="6093000"/>
            <a:ext cx="3168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7352" descr=""/>
          <p:cNvPicPr/>
          <p:nvPr/>
        </p:nvPicPr>
        <p:blipFill>
          <a:blip r:embed="rId1"/>
          <a:stretch/>
        </p:blipFill>
        <p:spPr>
          <a:xfrm>
            <a:off x="162000" y="1190520"/>
            <a:ext cx="8820000" cy="4476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714760" y="2031840"/>
            <a:ext cx="142560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5076720" y="2722680"/>
            <a:ext cx="3745080" cy="2938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7215120" y="1989000"/>
            <a:ext cx="14256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6324" descr=""/>
          <p:cNvPicPr/>
          <p:nvPr/>
        </p:nvPicPr>
        <p:blipFill>
          <a:blip r:embed="rId1"/>
          <a:stretch/>
        </p:blipFill>
        <p:spPr>
          <a:xfrm>
            <a:off x="314280" y="976320"/>
            <a:ext cx="8515440" cy="4905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302580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302580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971640" y="4724280"/>
            <a:ext cx="302580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826920" y="5359320"/>
            <a:ext cx="52578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5300" descr=""/>
          <p:cNvPicPr/>
          <p:nvPr/>
        </p:nvPicPr>
        <p:blipFill>
          <a:blip r:embed="rId1"/>
          <a:stretch/>
        </p:blipFill>
        <p:spPr>
          <a:xfrm>
            <a:off x="262080" y="1204920"/>
            <a:ext cx="8619840" cy="44481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3457800" cy="4791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45780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3457800" cy="4791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755640" y="5157720"/>
            <a:ext cx="6985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4276" descr=""/>
          <p:cNvPicPr/>
          <p:nvPr/>
        </p:nvPicPr>
        <p:blipFill>
          <a:blip r:embed="rId1"/>
          <a:stretch/>
        </p:blipFill>
        <p:spPr>
          <a:xfrm>
            <a:off x="257040" y="838080"/>
            <a:ext cx="8629920" cy="5686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971640" y="3544920"/>
            <a:ext cx="3671640" cy="4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367200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900000" y="4724280"/>
            <a:ext cx="367200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900000" y="5373720"/>
            <a:ext cx="3672000" cy="479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971640" y="6021360"/>
            <a:ext cx="4537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3:5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