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5E5-7706-48CA-9FD3-899E9253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6D6-8CB7-4E70-A88E-1FE5BE0B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2482D-F0B3-4321-8BF1-A489DD26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34B79-0F5B-4486-B733-9EDA80D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25A76-714D-44CE-B8A9-E6EB0D96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9F793-8E68-4B3E-B652-81C2B5BB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652B4-70FE-47D4-8780-AB8E57D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65E42-D6C8-47ED-A176-EDDD7F5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596DA-A5B7-46A5-9F71-6380812B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C0C51-8CFB-4288-83D1-2A8E9DCD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EC252-1B3B-4275-AA26-EB7D2B76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B49D4-841B-44AF-9652-234465E3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678-D6F3-4DD1-A3DD-F53DA55B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567B2-B709-440F-8A83-CAD65F2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CB882-60A4-4993-8DD7-82A00A5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3336E-FEFC-4455-B659-A62E8BFB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6DC0-CCFF-4D1F-8C26-0DC4142A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59F3C-086A-497D-B05D-015C0BB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2BF01-7ADB-4F87-AA91-5642917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88BCF-126B-4935-BCA5-06D646B6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1C4EC-4CF2-431F-BA42-2C738D3E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FB3EE-BFB2-450A-9ECF-DF76AE4A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BC893-7E33-4D30-AE30-7B32889C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7C5-DE66-4B0A-AF9A-9EDFF06E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C2E1C-356E-4211-A435-8322D07B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CFA7A-A945-487A-9287-0F4AE97B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2291-6ECB-4BF4-B530-35128CE0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94B2F-58B3-49E3-B408-637048B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46DF5-87C0-47C7-9D90-A1FDB312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DD558-C127-423A-A69B-2906E8E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52F0-9A76-4773-838D-8EF158B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1EC3C-0113-430D-A1D4-A0A6BEBC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A6709-66AF-4BD3-8009-6393618C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36DF5-2389-4E9C-9E51-8456AA8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86D7-A640-4609-AE0F-3ED19DF9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89808-CC54-4228-94F0-11C1DDB2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E58A7-29C3-40D5-B812-F52F5537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AA41-301D-4D7E-939C-2BCBE1DB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EEA7B-D16A-4867-A650-7DEBD034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ED7BB-AF18-44D7-B3D0-2DCC29A0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8D808-CBDA-45C3-A79D-41D5B863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9BD6B-70D5-4345-8442-F962C15B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B26D9-8E58-4861-AC8E-503E6FB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DAF2E-58F0-4C7E-81AE-7D1B4362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56A94-803E-4D77-B71F-864687D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AC5D-66F4-4461-8567-8EB2BC67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063D4-966F-44DB-B95E-A5E3EA5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8FE9-78C1-447B-9E8C-8399A65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3AB54-88F8-44F9-839C-F15C1DE6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07BD-8DD6-4223-9DCB-B0E41CBA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5397C-CE9B-4181-9CE1-6ECE570E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E3D30-AEC8-4A72-8A3C-E4DE46E2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34D8F-4EC6-44A4-B581-B1D5C6C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01E94-4E4B-4101-ABF7-0859D988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F38B2-BC1D-4D81-B9F4-C15C63B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714B8-6A46-487C-AE39-671CCB84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9C3C-9EA8-4DC8-A73F-6820DEA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E124C-AA36-4964-8F09-B7298A7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72A27-433D-44DD-A03F-00AA2B23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353CA-0202-4241-9880-FF4EEA7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BD9C4-9097-4CBA-9297-AE9EB82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92F8F-C7B3-4AD2-A961-A8830B2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00001-7041-4051-BE4A-659BB38E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2E64C-A424-4A7C-938A-ACBE5F37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F3A1A-76A3-482F-9925-517813CE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55F7C-592A-424E-B409-B9F009F6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EA21E-D0E0-45EA-AA79-3EB22CDC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9A08-0572-4120-A727-BABEA58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16EF2-EABA-4F87-89E9-F5B92048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A1E9C-5BB4-45C3-871E-D57FDB52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5E57A-6381-483C-A064-09AA44D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5D568-FA42-44A7-8B21-9C0C448D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845E7-690C-4AF3-9441-4105EBE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311D5-BF16-4F77-975F-3DD102BB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375E8-ADE7-4DAC-8FD8-C54389E2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776FD-D144-400C-8BAF-C85D7992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EE6B4-92EE-4E24-857F-25A96382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2519D-A129-4CFB-B40C-40D3CA62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2000-AA39-42EA-AFDD-B55F908C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FBEB2-C146-445F-B3FB-2132F99C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64DDD-46E1-4E08-A6FC-E671B278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4F664-8198-4625-ABAA-07F6F6A6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26921-675E-4A78-99A0-C9E9D56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5937A-96A9-409D-BFDF-33183B9F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A1405-2A17-4BB0-8C0E-F2501F4A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1C7FE-82F7-4394-AA06-55CFF0A1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3E635-3834-490F-9870-21C5D2A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4FDA0-A188-495F-B797-6149B33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C541D-F694-4424-A913-F2BB38E9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3FB-F9AC-498D-BACD-CD293F6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8B04D-CE8F-428F-B551-AA1DB91F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2170E-A47B-442C-8EB4-BDC2BF83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4B7B2-BE16-43DA-A3E4-16D22FD9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FD5D2-B408-47B6-87D0-8E24AD1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47170-BD11-428E-8EC5-7FF92EED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35A2B-9BD4-44DE-B994-6C0250F3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CFD4B-9427-4D91-B4F1-65989A4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D99C2-DD3F-4CF6-A9AE-F02C7A7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D7677-DFF0-4343-91ED-961631B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69F42-5FB1-4B1E-A8C5-0DCD55B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9C7B-D0BD-46CE-B179-EFBA282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C7669-BA92-405F-9A5F-AA30567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50086-E055-44BA-8E55-8599B019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13EC2-46FA-43A5-A3CE-A975A75A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5D18E-0440-483F-902A-7B843561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CAE193-100E-4625-AB70-6126B14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3E202-DC06-4037-855B-4892FD1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9DB82-994D-4319-8E6C-BB3DFCC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A2159-9370-4720-BEB1-E633C7A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63F9A-E594-485E-9CFC-93E034E6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09476-AF29-42F8-87A6-DBC68AA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781-897F-4D5F-A62A-092616E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1C8B-2B00-49B2-957B-9E565A2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63CD3-6670-437B-9667-C7B271A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C966D-224E-4E9E-A9BE-280A5E7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58C40-57EB-4461-95A6-9D72F0C4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81A6C-B4EC-495A-8A60-8EB4764C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28803-3385-4949-9E6A-E0937189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890D8-2D17-47F9-874C-C9132BBF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5C628-1E4E-4627-8FAF-85FC080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8A0A0-2CF4-4961-91BF-E2A1F3E1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A516F-1538-445B-801A-BC3BFB4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5CF05-D5DE-4B9A-A797-882FCA4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DFB1-D827-4676-967E-8A2A6DC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22F9C-E541-43E3-BBAC-C1752F4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D82EA-822B-4451-A69C-C547E31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C6A68-6805-4E0B-BFF3-0BD6065E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12678-9ED8-437F-BFA2-2E5038D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1D65E-451E-4088-B707-C9599CD6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A4C06-8F80-4A45-B70D-3C4E3665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CF8BF-324C-4B75-9B5F-946055FE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53DC5-8EAF-440C-BE97-20232144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CFC51-577E-4FF4-B9E1-CC2DDAF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691D5-08CB-4873-BA56-D274AC44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8DC7-AA34-42E5-BDE5-B503EB0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DE2C9-2424-4988-95B2-4C661B8C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3D584-9D3D-4736-9137-0601A8EB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75EF2-D25B-41BE-9324-F4190D46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16F0F-B47F-4979-B62D-D0062FDB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418D9-7C70-4754-AED9-CFAE167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B42AD-475F-4101-95F2-AF287DD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3AA42-E8AF-432E-8A98-E9C02086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C5DF4-2780-438A-B13E-436874F2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21725-DC33-4265-BA9A-3B6A1F43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A1D03-0AB8-4D7B-BFDC-A9404B23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45D-4479-4422-8C39-46956D3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CC7B1-1CDD-448E-B7FA-8288A99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BEA34-DACD-45B4-9EBD-36996BF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1875D-2E2D-4FAC-BAE5-796B4256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BA7003-B5AB-4C8F-99A6-1C50058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7417C-3986-4E36-A364-3BD933CC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FBF78-7D91-4B73-A1F4-C38F38D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0DC46-5A79-4FB6-9793-EDEFE684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A3CF26-345F-4274-A1E1-57A3E15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8047A-040C-4FCF-ABB5-405820F9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112F1-9356-4B2D-9361-469D46EC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169B-07B4-436C-AD87-CD4D4B1D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2BD2F-337E-4B5C-966B-70004E94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62450-D1E1-4A4B-ADBD-8E03DA05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AC1F4-9033-4901-A0D4-63CAAEA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68F51-7F7E-46EA-ADCD-D65040C5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9FC7C-3D31-466A-958F-D2946AB6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19ED3-8742-48B5-883E-125A971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1C406-4116-41CA-82EF-AFA3E76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57001-E1F4-4814-847A-939430D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EBBAB-F2E3-4D29-AA27-7C348DC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7BFB83-B68C-4F6B-AF6B-E089343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71C6-BC82-41BF-9CAD-5020F3E0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F6948F-6D36-49C6-9B7D-4091021B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E12AE-233E-4E9A-AF81-13A1C56E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E32F2-783B-4B2F-AD1E-F3261C44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4D16-5E47-45F2-8AEE-41013D7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FCE2-425A-4DBD-B4A0-88D6DE0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AC67-E4CF-49E2-B296-43D0EB4C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EB4A-9A1B-4712-937A-D888399F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3ED-925D-4FFA-BCC4-F555D8A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4607-1F32-4EB5-A473-D215C5E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1D3F-0FF2-4778-8CDE-0B2C4FC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4111-B586-423F-999D-FF0BC5A3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2A51-4036-4F8B-AE4E-5930E87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2534-4A24-487B-BA66-23439DB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E1FD-4EDF-4798-9CF5-95ED1615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27CA-1ABE-4480-93DB-8808166D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DDB8-2715-42D0-AAD6-91BC7E1E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1861-25D8-4B02-A6A5-BF8530C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FECC-DE43-4805-8340-32FF5FD8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62A-3777-4F1D-9E2D-D0C7F844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F64E-78E2-49C4-ACEC-43DA40C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2481-7DC6-478E-9C9C-01F2B74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C59A-8352-4051-B599-B536D162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F030-0ABE-4A5F-B44B-02F0B81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5109-48CF-4281-9031-AE53E63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6C36-3394-4246-A637-6335ABF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DC90-DA6D-418B-AC1F-658F016A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A139-9FC3-4E5D-ABC1-B5E14B61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A4F5-363F-4BE9-92E5-3481EDD3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9DCF-0B7B-4F7B-BE15-595F8B3E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CB1-7E0E-4699-A2E5-DE7B653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2AA39-99AC-4257-97B2-8936DCE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DF8E-2585-4681-95BD-B76E31A8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77B8-F6F5-4193-99ED-E761EAFD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BDD0-23BA-4D8F-B6B4-C2701B8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9385-7A85-4044-B065-F9B1E4CE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D202B-8850-4F8B-B0AC-D322D26F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0818-8986-4DAF-A370-4F88A9E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2529-5923-4554-A1BF-BEDAF5B4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E7F3-67FD-45D1-B734-EF874D71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A5C4-A0EC-4840-B2AE-A03D1DB4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97D-27D1-47F2-B24D-7FCBA1DA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5871-C873-4DEE-AAC6-6D93D28E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2A34-41A9-4CD1-AF95-75B52297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C2479-2472-4146-B08F-8E80555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EDBB-0AEF-404F-AA45-9E594DF7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581DF-5AD4-4854-8EFB-E1A51F0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FD52-FFA0-43A3-892E-2BA6253B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90F0D-68E3-4434-89A0-FB1C6B9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1E991-8E3F-4750-8E91-93BF291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0569-3F4B-4CDB-A1C0-2FE9E06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3A0D5-490A-4ABB-9402-BFA8718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802-C5F2-4C05-965A-8E83928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18286-C4F6-40C3-AF7E-937842E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AC0A-6E96-494C-9465-FB979FF2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7520-FBDA-4254-BEE3-AB56CC1B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3411-6639-4A40-9DAF-C2422FE1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FFC43-62B0-47BF-B945-37042A5E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1EF0E-4E79-4987-9CDF-16299CBC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7E04-4447-42E7-84C5-31D3B61B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21F23-90ED-49EC-A043-36F5DA55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240B-8328-4D2A-B3BE-B022017D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E65F3-5A28-4F40-89F4-C4F6C78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7B0-EF3E-4413-AB12-49B1E251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1D75-083A-4092-A331-196D4E1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A5E6-083A-44F9-93F1-AFB0501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AC20-5244-477F-A7A4-1C39F10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0646-2631-45DB-9625-D281A015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14EF-AA05-4AEE-B663-814236F7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E588E-B8EB-4FC0-9D22-90284740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8A601-D0D3-48C8-8584-3DFB1165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44FCB-2F73-4FA7-9BF7-9E69401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2AB8-F495-4408-AFAB-2AF0BC11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79216-B0BA-4C9C-BA02-184D4D6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703-5279-4567-AB33-6FA3656D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DBF3-61A2-48F1-816B-0D84B2C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ACCA-30C0-46BC-B109-18CD09F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69CC8-7980-49F9-8192-4FE6376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9E0E-83E6-4B03-81F3-CBAD45C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011BE-4004-4709-893C-5A1B9CB2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71F23-B374-4A1E-8F0C-7F6063E5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989B6-36F8-4EFD-B90F-668EEF93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869DB-07F1-4549-89E6-C63C50EB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48527-CE32-4259-ADA6-B436388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0D650-1112-4ECF-8F4C-0B284D83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6140-026F-4729-B0D9-C7266AA52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F8D0-0338-4FC9-8385-6EAF9EA1A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FB4E-C62D-4F67-AC4A-22F931635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CEAB-517B-49CF-8B6F-AD5FE55B1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D0F9-A982-420B-A4DA-8F953DFE8C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F86B-EEEE-420D-98BF-198AC2884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2F6C-AE9F-4E0A-9531-12612EA4E9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8D01-A1CF-4880-8900-75FD59357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EBD-52C1-4B62-B2B2-5867B35E5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4BA-4F71-4849-B208-EA9128776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6E0D-B995-496E-8DB3-7E577AEE2C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93C-16EF-4528-8E1A-59DFAC351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CD03-3F8E-44F4-A9C0-50D2FD89B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E9C4-18EA-4CF0-872E-38D486FD6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D47-1D12-4F39-B49F-7AD74BAF6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9BFE-FEA7-4C01-BE27-5FB2289DE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DBA-19ED-432F-8491-9A93816D6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C607-A79B-49F4-A990-971E59B67D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5324-F73F-4404-A03B-DD4508175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1CA4-75B8-4850-8579-573659245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3663-5E9A-4793-A45E-F713F55F8D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F105-D2AD-4124-AE4A-157414256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D5D5-871D-47AC-BBAF-AFB6D67F4E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CF87-D5E3-46F5-95D2-5167C930C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051-44DB-440D-9C0C-87C2E7521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962F-C960-4708-BCFF-FC7ECA5989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C671-A73B-495C-A302-F8583B855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7AE-C2CE-4C07-9C5F-FCA7D1BA99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F36-6E04-45ED-BDA6-966D91708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16E3-10FC-4C7B-9ACA-DB393E53B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114E-89D0-466B-9EBC-34F7F4CFE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5BCE-DD75-43C6-9E36-0D8C959A9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B8D-9BB4-4302-B0C8-A2D8840F0D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2CC-F222-49B1-9578-B656FF79A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7835-2449-4797-8A7D-19204DD78E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11A-9CE6-4E47-B4EB-B73F42974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F61-ABAB-4928-BC17-5A13A962F4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6F1-7364-4E01-9EA6-377743ABF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551-369E-48E0-B975-B25BCF1512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F04B-0F6D-4C0C-B8C7-5D8D9DC50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57560" y="2928960"/>
            <a:ext cx="4628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557280" y="1523880"/>
            <a:ext cx="8029440" cy="38102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64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876240" y="1268280"/>
            <a:ext cx="7391520" cy="2124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95400" y="3548160"/>
            <a:ext cx="8953200" cy="22572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66764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457880" y="2421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667640" y="2492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2124000" y="40194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464080" y="3860640"/>
            <a:ext cx="86364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431200" y="3860640"/>
            <a:ext cx="684360" cy="792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1936800" y="4653000"/>
            <a:ext cx="684000" cy="792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479920" y="4724280"/>
            <a:ext cx="684360" cy="792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459640" y="4710240"/>
            <a:ext cx="684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47520"/>
            <a:ext cx="8619840" cy="6762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76720" y="21034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36400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80000" y="3213000"/>
            <a:ext cx="165600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284720" y="3860640"/>
            <a:ext cx="16556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419640" y="50846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448080" y="63230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04920" y="923760"/>
            <a:ext cx="8534160" cy="5010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348000" y="2276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09480" y="1262160"/>
            <a:ext cx="7925040" cy="4333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093080" y="4365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1763640" y="249228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880920"/>
            <a:ext cx="8572320" cy="509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684360" y="288144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11280" y="417816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95280" y="479736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468360" y="5373720"/>
            <a:ext cx="828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95200" y="1395360"/>
            <a:ext cx="8553600" cy="406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70400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84360" y="3745080"/>
            <a:ext cx="7704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826920" y="428004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755640" y="4811760"/>
            <a:ext cx="770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496000" cy="3914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712980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898560" y="4221000"/>
            <a:ext cx="712944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26920" y="4797360"/>
            <a:ext cx="7129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314280" y="1119240"/>
            <a:ext cx="8515440" cy="461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612144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755640" y="4121280"/>
            <a:ext cx="612144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826920" y="4624560"/>
            <a:ext cx="612144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172120"/>
            <a:ext cx="6121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328680" y="1514520"/>
            <a:ext cx="8486640" cy="38289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84360" y="383220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55640" y="43210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84360" y="4869000"/>
            <a:ext cx="547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6:3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