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3C8-C2FA-40DF-BF29-B8BA7198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7A1-8FB1-4D66-A42C-88BCEB39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9F4FE-0AEE-44A4-8379-585E757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B1FDA-8F56-454F-A7DE-576692C0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B607A-1936-4C72-91FB-166CEC03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A9BF4-18CF-4E27-8C0B-CFA38CA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C96C5-B1F9-4601-A888-E85B9582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814C0-08B9-4C93-B698-AD014BD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401ED-5AB4-44E5-8D5D-C004BC9E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937E7-F47F-4BB5-BCFF-20ECDB83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EF380-CC4C-40EE-BC5D-2C5B6534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F74B4-E36D-4902-8F0A-6B3AC7D8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D5A-E494-4E2D-AA4C-A8C566A9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C5AA3-D8AD-4590-AF19-A6D9D50A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FD0F9-1791-4CE8-9860-078616E1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54A19-88F3-4351-97FE-3F7FAD25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9785C-2C78-422D-B60C-50FB29D2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980C5-97C5-4F8E-8E12-1CF5EDB3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A2569-9A89-4C81-8C74-9021AAB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A50DF-1D15-447B-A1CE-534B80EE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93B39-96D4-401C-B1F6-ECC96CB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CEFB7-93B1-4C92-8B27-F5962E64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28C27-DFCC-4016-9303-6FEC6B63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D03-B1E2-4300-B943-941CC894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0F3E5-0A96-444A-B5F3-C5E44C03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F15DE-E6EC-4745-862D-F59C94BF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C65D7-5F4E-4FA7-9E21-A29C9DA8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12C35-CBB3-4161-8C72-F224B4B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E9A99-9635-4F49-8A39-E90DC4BC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7019B-C2E8-4288-A7EF-39BA0A34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B7648-F988-4611-A05D-0401A310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F6F74-7011-4D79-BBA4-D326F69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9160-7F57-4FA1-A8B0-2CF5925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D7991-F6D6-47CE-9073-6EAB77BB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C3EC-0531-4617-9261-48AD8CA7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30424-1E48-44EB-AC8F-44A37ADB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86A3E-3EDE-4E75-8EBF-879CAC25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FE8B-7109-49AE-AAE4-EFDD0E06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AE3F5-95B9-4808-8C98-5FC24A38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9FEE8-475C-430A-A0B0-8BB3D30D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D2FA5-A157-4285-82CF-FAA42941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5738F-6431-4591-9DCB-C0B61C68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78785-9310-4F1D-B98D-2A50524C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E7AE4-361F-4624-84A6-CDEA82A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60279-EAAD-458D-90ED-526E815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0FF2-260F-4D9F-A25C-AEDDE88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1668B-CC30-4329-9939-11BA1165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C98B4-8E2C-461E-868B-127CD9B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97130-1C5B-4EB5-B931-9C1B31B0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80608-4FD6-4B1E-A3E1-99A2C305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9B4D2-AA19-41EE-8B0A-1C76C828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FFB05-0475-45D9-AF39-E6CF4DD9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161B4-28E1-4D38-BAEA-9584EB01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EC0FF-ACA5-43FF-B22F-933EC371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4372B-CDD9-49DA-9FE3-8DEBEEE4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140B4-36C8-42F3-9F84-B6040401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42D9-7E47-407C-928C-02D21169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61972-AD7A-4CF1-B953-0BD8BF55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E49DF-BA6D-4156-B825-AB31022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DDD80-45EA-481C-9CD1-6CD534AC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4699A-0254-42CE-A3F9-7D938AF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A0F15-034F-4D80-9FFA-AF888FB3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5D236-A71D-4AF9-AE91-464BBF2D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BEBD9-67D8-4CF1-B492-706AFE69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1391B-560D-40DC-8992-2D44FBC2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F6673-4F1A-49B2-8D64-4083258E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29165-B231-4F0C-A6F6-D8791616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A359-E624-4373-BD6D-AC603651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748B7-21DF-4D42-B0F6-5AC4BD97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B2D7B-7B34-4BBB-9281-EE556466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29CEE-F399-47BF-A6B1-F57A2F85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506FA-A989-457F-9018-DFFDF50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A57D1-2B38-4CEB-AD75-C500043C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D4001-60D5-4E55-ABAC-C2EBC60C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610F2-774B-45EB-92B8-BDA2CB51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59CD7-F52B-499B-8023-F244E226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31C99-F95C-43ED-9821-179F2CA2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CFA21-FFCC-4867-B14A-5A8A3D33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AB6C-BF8B-4622-8CC5-8184060C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845C8-391B-4A9D-9F9C-CE0FAB62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2658E-9E36-4C4D-8E00-68858BCF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CDE0D-D23C-4171-A319-7285D1D0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F9DE8-B8C7-4044-AE4E-210235EC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5E3DD-D343-4EC4-B7F2-FF1B0E23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936FE-62B4-4BA7-A0C3-68241BC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4E1D1-6FD3-4548-B4B5-C839F31D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D5874-DBB4-461E-80B8-E52391DE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6A73C-999A-487C-BD87-72DECB43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F14DE-7EB6-4058-A5EE-1BB2D3C7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24B2-B17C-4938-BA5E-059A4E1C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30B21-ACBF-4C3B-9B78-2FC4DD8E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BC9D2-342E-4E75-8747-96C0E1FE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53AD0-E117-41EB-8A63-A8D27069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6063B8-CF41-410F-BC1D-41E02F53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70627-A327-4F84-A6FD-C766C665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AB3AA-8EA4-4C2B-9907-91AB810F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B2187-039A-4114-A955-51005210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9AA33-96CE-4371-B9A2-295F6D76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54EE6-EDF7-4424-B860-35539D6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3DBF4-9A9B-43BE-AE63-E5AF60E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C3E6-44F1-4AD1-95C3-691F0D6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91526-D9A3-4CF0-87AC-98F6D2CE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AFAC0-A616-4BA2-B2F5-C2D89F3C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F0102-3B48-497F-80DB-06C889D2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2D7F0-7893-4663-8088-AB93C756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9719C-BB16-4CD3-B084-3879E91C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F0345-B0F4-4C9B-A60F-3A440594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88DBA-B5C0-4B4B-8DC0-22A89BE9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D2ECD-5BCB-419C-842A-90C9BCF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C5C00-15D3-44B0-83A0-3D2D543A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C0CBC-20A3-46C5-979E-939F25E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827-D542-4F41-A71A-D9E85FD4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E138-1625-4890-83F5-040C09C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02118-A130-458B-9E0F-50E149C8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48D1F-1D78-4E38-B904-915DA937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D373B-885B-448D-92B5-439EFD5C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E405F-8BA9-4910-B269-F8CADE00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64CB14-803E-4EF9-9213-F19FB1EE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76ADB-62D9-4201-92DB-A337270C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CE036-9631-4CA0-9C68-B5BB5AE2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B2D25-B898-46B2-B537-F1E48341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4AE88-7445-4AD9-8CFE-DF04ADAC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268EC-C300-4B63-93D4-D972155D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6A73-C221-4FF8-B879-45E0498D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88F1E-5EC8-4486-8176-CE8E3A33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0CB75-1FF6-4C6D-8B81-C2A564B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301BF8-A31F-45A6-AFF5-2F09EBE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82BF1-D869-4CD1-AC48-3B5940BD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11288-27A8-4B68-B501-08603B57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AFD4F-BAB9-405A-B30F-991F1413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0D112-BFAC-42A4-8D96-53DBE7DF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88FBCF-D352-4F69-B4A2-CC241630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F17CB-2614-4DC2-83C0-12FF7420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3FEBB8-89A8-4754-B2BA-05281EA0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03C7-5A55-43D0-8E94-EBF1C9AF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8B1C68-47CE-440F-8F49-E9E9064D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C4B151-E768-47A6-A31E-47BD8757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2966CD-7EB7-4637-9F0A-F47197B8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1C430-C1B5-4857-AE15-79DCFDF6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BCA0C-4970-4E33-ABDF-3BFA7ED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96C92-43D0-4A80-B78A-0E2C468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0C417-9EF9-4FAD-A035-2E6BB65B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0E79D-5DE3-455E-B234-3A107CD9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BEA10F-209C-42A2-982B-FE771E49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C06BB-58A5-41A5-ABE8-5679756D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EDD0-80DF-47F5-9800-5DA59AB0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F8C3BF-A6DC-4F6A-9576-052B3B23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65C17-646D-42F5-A2BB-C3EADDF9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95137-B985-484A-9EA8-AE9BBC96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2397C-8ED8-4123-B7AA-3873B042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27EA0-BF72-423A-8D32-DE84C74B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19079-E615-4442-A1F2-1AD23D2A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7C8BC-93A1-4E14-B9FE-FFEE1EC4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102AF0-CE49-435C-914B-18D254D8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07177E-E5ED-458D-936B-243A4024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E84FB-A947-4D9F-A8EA-463BA421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7126-3AB7-498F-96A6-840CA5C2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D4F01-9ABD-487A-96C4-0080B545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D1B9A-A1D8-4B6B-8E0C-77D67C7E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8E0AA-43F7-4454-BD28-79A3C5CB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CB5FDE-BD52-4DC0-8F95-F983B101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95299B-4F20-4F42-BE03-C8AF12F3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1D18B6-B02C-4F9D-B618-1B4B781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906B19-56A8-463E-9864-94AF0973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1E390-02AF-45DE-84DC-5B9C8BDA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4D8B8-6F51-46AB-A2EF-9FC2AFE1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238DB-D2CF-4071-8103-E9DE9205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B800-AE74-473B-8101-7BD946BB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E59D2-1DFB-47C9-A582-3963BF33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407B3-A0FE-44F3-A1D5-4DC1FF3E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65E3B7-A829-4ACF-B08F-F48D0707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725A-3D92-479B-A6F5-A1EE809D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51F0-D8FC-4D4C-9240-75F837EE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E30DF-47C3-461D-9F24-7A717EDE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1AAD-506D-45CC-8DEB-5C96C079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D6E-0F1B-4DE5-B8B9-973794C1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4846-9359-433B-9CE4-4DED0CE1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1D76-219B-454B-B80E-0C0D39B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9DCE-685F-417D-AD8B-EB3A8FB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FF1B-156C-4932-A0DE-3855A39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99723-1A68-4E6A-A5DB-F8B030CC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1EBA-6B5E-46B7-818B-299C32F0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BC5E-923F-4B28-A924-B29C3FA9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3F12-592D-414D-B1E5-1125CC56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0103-E254-4DC2-96C6-84FDF627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857C-4219-4D57-B82C-523C35CE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C65-BB4F-464F-80E5-C339199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8622-AECD-457E-BAA3-EDE84605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8E42-71EB-4927-A389-014AD112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A553-D528-4241-8131-1094AD8C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E70E-4B73-425C-9CF4-C3DEB225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2425-EA0C-4716-9997-B5AC8232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3B12-1ABE-4431-AE3A-62F9A433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97D7C-5EC3-4D33-865E-DBB34B02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5FFE-F0CB-453E-AC1A-A7CC365A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6466-6F87-4CD7-90D9-751C7D17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DA877-C059-4383-8868-C51DEAE3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8BA-80B4-4F8E-A7CC-39E8F252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EAAA-74E2-4398-A018-C1A395CC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9C4A5-0589-4D10-A5C6-CD123FE4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A999E-DCCE-4659-8A5E-F82FCEC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4FA72-BD62-44F6-A065-946582C2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7E8F-41EA-4FCC-A6E2-E8874C7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AB01C-71ED-4759-9E9E-E0F67050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312C-3E1D-44CD-A42F-1E5C25A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4F254-8870-42B7-93D2-89175CE3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B48DA-5259-4DBF-9B4B-F93D4F98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25A1-1823-4AAF-9211-BC615E62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AFD-AA0D-4E9E-8477-227FBC3E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5E84F-375A-48EC-9E63-7A5C1BDC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5C85-8EA3-4A9E-8ACB-0BB3421B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D99E8-5901-456A-AB3D-13094C1F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C875E-50BD-440E-A823-9ADB81FE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401EE-2E1B-43B9-838F-FC9BC2BD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01F3-483F-4861-B606-BD5DC456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5557-09C2-46A0-A0EC-C3CDFDB9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A2F52-06AA-43F8-A61F-0412AF73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EAA30-AF80-4E30-BD88-4223C45F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79087-472F-4F53-B5AD-8B5ED879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AEA-516E-4256-9C3F-D91DB5B3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E28F1-9731-47CE-94DC-6BE0E2D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2C9F6-B08E-46DD-BFEE-D4222D37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AFB09-8265-4E2C-975D-3B817FC5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0FD30-3F25-48D5-A428-B09C5D6E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52356-4774-4F85-8C7A-55563C55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612B6-11C4-46A4-9BBB-A26ABDFE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33878-D625-4BF7-B3E7-23DCE4E5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93FF6-3D46-4EA1-A91B-CA66E3D7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8606-3BD5-4343-A81E-C1463E65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E05B0-B582-4A29-AD3F-CC07D78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85A-13CA-4299-9CB2-E2172C4C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61F5-CC07-4493-A987-D8ABAFED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9CABF-FE0C-445A-9838-05948AE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ABCD9-BD28-40DA-8FB3-281291E7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5A44E-029D-4995-982C-B4BBCF15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5C427-2E17-4246-8F0B-8C0BCD3B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17982-7916-4475-90C1-875FAA2A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E5451-7EBF-4272-AFF7-B3C15E35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CD17E-DD55-459E-AC76-941EC1EC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D480B-F97F-485C-85DB-CAB24927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BA3A9-6446-4EE6-A8E5-5D374358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0E0-ACFC-488A-A4C9-B5E4D7D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99B8A-358D-49A5-9DC4-FDB88B45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5EA66-5ACB-4217-8C2E-B0C3A0BD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3952E-7CBE-41F6-903E-F29E148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DFEB2-989B-4252-AC35-C34DCD4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C9CA9-E19D-4EE1-BB2A-3E35FD78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88711-93BC-4D05-96B8-D61A2F34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21D95-50A0-4E55-AEF5-8DECA034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B9B07-50BE-4D52-815B-04660281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D90CE-F671-450C-B5F5-ACBD153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19716-F014-495D-9984-2FD6072A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0A3-A0CD-4A42-9FB6-FB68A1008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952-A9BF-4485-A739-C9B9F545BA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D584-07F1-4199-8690-2E99359606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E924-195E-48E5-9BEA-9C082583A8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B9B1-A7AC-4568-B307-644E7ABA7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02C8-DA03-4AF1-A3FB-178434D6FD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EEDC-FC70-4068-824F-8072278185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A290-589F-4E0E-B9D2-5799FFFCC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A364-6EA9-4BA7-AD3A-E4E96FF59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C0EE-B0A7-40E8-AC80-B47E799A43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93CA-B8CC-474A-9475-FDB3325DEB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025B-CCF0-4F41-8837-D7A96C2955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0831-DD8A-47C0-BD47-F59ECD90F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B137-9A08-428B-BFBD-B09C8DB04B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23DF-15A4-4084-8369-EE53E1675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5F1-7DEA-4CBB-88B1-0236D352B1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B09A-1E6D-4345-9DC5-CE2CEB499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69FF-FCA7-4895-A6F3-1496425A7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DF3F-3ECA-4143-A617-92BBF99ABB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B9DC-0387-4A98-A534-78CF27841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B62-2DE2-4FE0-9A84-D6305FFC0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0FB7-D876-40AF-B736-C7D6DAA3A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502E-3C92-47D1-9A40-7108FAF173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4D53-040F-4339-B42C-F3BAAF5F6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9BB-8AD5-483B-910C-A892667ED9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A340-AE20-4CAF-8DAE-20422A1D6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82AE-99DC-458B-9BC0-328A2812F8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4669-FFC3-4EB5-A13D-D30FC907D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1657-31FD-4615-B886-E823BA50E5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C58C-F257-4791-A82C-E396C0F485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11E-5221-4841-851A-1A7031579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4324-83AC-4363-9337-582D59D80F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56E3-0A04-4346-BFC7-A3C35CEB5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112A-6837-4E8B-B9F6-660AF634C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B712-211D-4766-82FE-AFFA7F23C5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8909-7EAD-472E-A982-7749D91CE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58B0-571D-4EB1-9EC9-F65E0A3C31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1D66-8F04-414A-ABF2-EA2A295342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31FE-644D-4E22-AD10-26B6DD435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0F2D-A811-4C1B-B31C-0314BA635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七单元测试卷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501480" y="1665360"/>
            <a:ext cx="8141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1" descr=""/>
          <p:cNvPicPr/>
          <p:nvPr/>
        </p:nvPicPr>
        <p:blipFill>
          <a:blip r:embed="rId1"/>
          <a:stretch/>
        </p:blipFill>
        <p:spPr>
          <a:xfrm>
            <a:off x="237960" y="1243080"/>
            <a:ext cx="8668080" cy="48290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1160640" y="4492800"/>
            <a:ext cx="723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1" descr=""/>
          <p:cNvPicPr/>
          <p:nvPr/>
        </p:nvPicPr>
        <p:blipFill>
          <a:blip r:embed="rId1"/>
          <a:stretch/>
        </p:blipFill>
        <p:spPr>
          <a:xfrm>
            <a:off x="414360" y="2438280"/>
            <a:ext cx="8315280" cy="22766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3" descr=""/>
          <p:cNvPicPr/>
          <p:nvPr/>
        </p:nvPicPr>
        <p:blipFill>
          <a:blip r:embed="rId2"/>
          <a:stretch/>
        </p:blipFill>
        <p:spPr>
          <a:xfrm>
            <a:off x="3305160" y="2982960"/>
            <a:ext cx="4076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1" descr=""/>
          <p:cNvPicPr/>
          <p:nvPr/>
        </p:nvPicPr>
        <p:blipFill>
          <a:blip r:embed="rId1"/>
          <a:stretch/>
        </p:blipFill>
        <p:spPr>
          <a:xfrm>
            <a:off x="1014480" y="1433520"/>
            <a:ext cx="7057800" cy="4781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3" descr=""/>
          <p:cNvPicPr/>
          <p:nvPr/>
        </p:nvPicPr>
        <p:blipFill>
          <a:blip r:embed="rId2"/>
          <a:stretch/>
        </p:blipFill>
        <p:spPr>
          <a:xfrm>
            <a:off x="6500880" y="2071800"/>
            <a:ext cx="1552680" cy="780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3"/>
          <a:stretch/>
        </p:blipFill>
        <p:spPr>
          <a:xfrm>
            <a:off x="6483240" y="3260880"/>
            <a:ext cx="1562040" cy="790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5" descr=""/>
          <p:cNvPicPr/>
          <p:nvPr/>
        </p:nvPicPr>
        <p:blipFill>
          <a:blip r:embed="rId4"/>
          <a:stretch/>
        </p:blipFill>
        <p:spPr>
          <a:xfrm>
            <a:off x="6454800" y="4483080"/>
            <a:ext cx="1514520" cy="666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6" descr=""/>
          <p:cNvPicPr/>
          <p:nvPr/>
        </p:nvPicPr>
        <p:blipFill>
          <a:blip r:embed="rId5"/>
          <a:stretch/>
        </p:blipFill>
        <p:spPr>
          <a:xfrm>
            <a:off x="6429240" y="5572080"/>
            <a:ext cx="14763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1" descr=""/>
          <p:cNvPicPr/>
          <p:nvPr/>
        </p:nvPicPr>
        <p:blipFill>
          <a:blip r:embed="rId1"/>
          <a:stretch/>
        </p:blipFill>
        <p:spPr>
          <a:xfrm>
            <a:off x="528480" y="1204920"/>
            <a:ext cx="8087040" cy="50101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3" descr=""/>
          <p:cNvPicPr/>
          <p:nvPr/>
        </p:nvPicPr>
        <p:blipFill>
          <a:blip r:embed="rId2"/>
          <a:stretch/>
        </p:blipFill>
        <p:spPr>
          <a:xfrm>
            <a:off x="920880" y="1849320"/>
            <a:ext cx="6943680" cy="895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3"/>
          <a:stretch/>
        </p:blipFill>
        <p:spPr>
          <a:xfrm>
            <a:off x="909720" y="2982960"/>
            <a:ext cx="7696080" cy="733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5" descr=""/>
          <p:cNvPicPr/>
          <p:nvPr/>
        </p:nvPicPr>
        <p:blipFill>
          <a:blip r:embed="rId4"/>
          <a:stretch/>
        </p:blipFill>
        <p:spPr>
          <a:xfrm>
            <a:off x="1260360" y="5135400"/>
            <a:ext cx="706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1" descr=""/>
          <p:cNvPicPr/>
          <p:nvPr/>
        </p:nvPicPr>
        <p:blipFill>
          <a:blip r:embed="rId1"/>
          <a:stretch/>
        </p:blipFill>
        <p:spPr>
          <a:xfrm>
            <a:off x="1409760" y="1109520"/>
            <a:ext cx="6324480" cy="5105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3" descr=""/>
          <p:cNvPicPr/>
          <p:nvPr/>
        </p:nvPicPr>
        <p:blipFill>
          <a:blip r:embed="rId2"/>
          <a:stretch/>
        </p:blipFill>
        <p:spPr>
          <a:xfrm>
            <a:off x="1428840" y="1071720"/>
            <a:ext cx="6391080" cy="15238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3"/>
          <a:stretch/>
        </p:blipFill>
        <p:spPr>
          <a:xfrm>
            <a:off x="1428840" y="2768760"/>
            <a:ext cx="6781680" cy="1733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5" descr=""/>
          <p:cNvPicPr/>
          <p:nvPr/>
        </p:nvPicPr>
        <p:blipFill>
          <a:blip r:embed="rId4"/>
          <a:stretch/>
        </p:blipFill>
        <p:spPr>
          <a:xfrm>
            <a:off x="1428840" y="4572000"/>
            <a:ext cx="70387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1" descr=""/>
          <p:cNvPicPr/>
          <p:nvPr/>
        </p:nvPicPr>
        <p:blipFill>
          <a:blip r:embed="rId1"/>
          <a:srcRect l="0" t="43177" r="0" b="0"/>
          <a:stretch/>
        </p:blipFill>
        <p:spPr>
          <a:xfrm>
            <a:off x="766800" y="3205080"/>
            <a:ext cx="7610400" cy="3652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" descr=""/>
          <p:cNvPicPr/>
          <p:nvPr/>
        </p:nvPicPr>
        <p:blipFill>
          <a:blip r:embed="rId2"/>
          <a:stretch/>
        </p:blipFill>
        <p:spPr>
          <a:xfrm>
            <a:off x="1190520" y="728640"/>
            <a:ext cx="7239240" cy="24861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3"/>
          <a:srcRect l="0" t="0" r="0" b="6560"/>
          <a:stretch/>
        </p:blipFill>
        <p:spPr>
          <a:xfrm>
            <a:off x="1428840" y="1179360"/>
            <a:ext cx="6838920" cy="2021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4"/>
          <a:stretch/>
        </p:blipFill>
        <p:spPr>
          <a:xfrm>
            <a:off x="4097160" y="37861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5"/>
          <a:stretch/>
        </p:blipFill>
        <p:spPr>
          <a:xfrm>
            <a:off x="5715000" y="38577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6"/>
          <a:stretch/>
        </p:blipFill>
        <p:spPr>
          <a:xfrm>
            <a:off x="7232760" y="38052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7"/>
          <a:stretch/>
        </p:blipFill>
        <p:spPr>
          <a:xfrm>
            <a:off x="3500280" y="44290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8"/>
          <a:stretch/>
        </p:blipFill>
        <p:spPr>
          <a:xfrm>
            <a:off x="5857920" y="44290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9"/>
          <a:stretch/>
        </p:blipFill>
        <p:spPr>
          <a:xfrm>
            <a:off x="7286760" y="44290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10"/>
          <a:stretch/>
        </p:blipFill>
        <p:spPr>
          <a:xfrm>
            <a:off x="4143240" y="50007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11"/>
          <a:stretch/>
        </p:blipFill>
        <p:spPr>
          <a:xfrm>
            <a:off x="5715000" y="50720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12"/>
          <a:stretch/>
        </p:blipFill>
        <p:spPr>
          <a:xfrm>
            <a:off x="7286760" y="50720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13"/>
          <a:stretch/>
        </p:blipFill>
        <p:spPr>
          <a:xfrm>
            <a:off x="5214960" y="62150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14"/>
          <a:stretch/>
        </p:blipFill>
        <p:spPr>
          <a:xfrm>
            <a:off x="6357960" y="6286680"/>
            <a:ext cx="306360" cy="260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15"/>
          <a:stretch/>
        </p:blipFill>
        <p:spPr>
          <a:xfrm>
            <a:off x="6597720" y="5803920"/>
            <a:ext cx="30636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1" descr=""/>
          <p:cNvPicPr/>
          <p:nvPr/>
        </p:nvPicPr>
        <p:blipFill>
          <a:blip r:embed="rId1"/>
          <a:stretch/>
        </p:blipFill>
        <p:spPr>
          <a:xfrm>
            <a:off x="809640" y="957240"/>
            <a:ext cx="8048520" cy="8287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2" descr=""/>
          <p:cNvPicPr/>
          <p:nvPr/>
        </p:nvPicPr>
        <p:blipFill>
          <a:blip r:embed="rId2"/>
          <a:stretch/>
        </p:blipFill>
        <p:spPr>
          <a:xfrm>
            <a:off x="366840" y="2214720"/>
            <a:ext cx="8410320" cy="45432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3"/>
          <a:stretch/>
        </p:blipFill>
        <p:spPr>
          <a:xfrm>
            <a:off x="4483080" y="1428840"/>
            <a:ext cx="306360" cy="260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4"/>
          <a:stretch/>
        </p:blipFill>
        <p:spPr>
          <a:xfrm>
            <a:off x="6858000" y="1428840"/>
            <a:ext cx="306360" cy="260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5"/>
          <a:stretch/>
        </p:blipFill>
        <p:spPr>
          <a:xfrm>
            <a:off x="8118360" y="1054080"/>
            <a:ext cx="304920" cy="260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6"/>
          <a:stretch/>
        </p:blipFill>
        <p:spPr>
          <a:xfrm>
            <a:off x="7858080" y="34290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7"/>
          <a:stretch/>
        </p:blipFill>
        <p:spPr>
          <a:xfrm>
            <a:off x="3929040" y="6357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8"/>
          <a:stretch/>
        </p:blipFill>
        <p:spPr>
          <a:xfrm>
            <a:off x="8001000" y="5857920"/>
            <a:ext cx="3794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1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8229600" cy="57434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3" descr=""/>
          <p:cNvPicPr/>
          <p:nvPr/>
        </p:nvPicPr>
        <p:blipFill>
          <a:blip r:embed="rId2"/>
          <a:stretch/>
        </p:blipFill>
        <p:spPr>
          <a:xfrm>
            <a:off x="857160" y="1500120"/>
            <a:ext cx="7000920" cy="952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"/>
          <p:cNvPicPr/>
          <p:nvPr/>
        </p:nvPicPr>
        <p:blipFill>
          <a:blip r:embed="rId3"/>
          <a:stretch/>
        </p:blipFill>
        <p:spPr>
          <a:xfrm>
            <a:off x="857160" y="2571840"/>
            <a:ext cx="7039080" cy="885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5" descr=""/>
          <p:cNvPicPr/>
          <p:nvPr/>
        </p:nvPicPr>
        <p:blipFill>
          <a:blip r:embed="rId4"/>
          <a:stretch/>
        </p:blipFill>
        <p:spPr>
          <a:xfrm>
            <a:off x="857160" y="3500280"/>
            <a:ext cx="7448760" cy="933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6" descr=""/>
          <p:cNvPicPr/>
          <p:nvPr/>
        </p:nvPicPr>
        <p:blipFill>
          <a:blip r:embed="rId5"/>
          <a:stretch/>
        </p:blipFill>
        <p:spPr>
          <a:xfrm>
            <a:off x="857160" y="5126040"/>
            <a:ext cx="7286760" cy="819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7" descr=""/>
          <p:cNvPicPr/>
          <p:nvPr/>
        </p:nvPicPr>
        <p:blipFill>
          <a:blip r:embed="rId6"/>
          <a:stretch/>
        </p:blipFill>
        <p:spPr>
          <a:xfrm>
            <a:off x="857160" y="6000840"/>
            <a:ext cx="7391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1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1" descr=""/>
          <p:cNvPicPr/>
          <p:nvPr/>
        </p:nvPicPr>
        <p:blipFill>
          <a:blip r:embed="rId1"/>
          <a:stretch/>
        </p:blipFill>
        <p:spPr>
          <a:xfrm>
            <a:off x="642960" y="2428920"/>
            <a:ext cx="7105680" cy="21430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"/>
          <p:cNvPicPr/>
          <p:nvPr/>
        </p:nvPicPr>
        <p:blipFill>
          <a:blip r:embed="rId2"/>
          <a:stretch/>
        </p:blipFill>
        <p:spPr>
          <a:xfrm>
            <a:off x="2251080" y="30002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"/>
          <p:cNvPicPr/>
          <p:nvPr/>
        </p:nvPicPr>
        <p:blipFill>
          <a:blip r:embed="rId3"/>
          <a:stretch/>
        </p:blipFill>
        <p:spPr>
          <a:xfrm>
            <a:off x="6750000" y="2992320"/>
            <a:ext cx="379440" cy="322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4" descr=""/>
          <p:cNvPicPr/>
          <p:nvPr/>
        </p:nvPicPr>
        <p:blipFill>
          <a:blip r:embed="rId4"/>
          <a:stretch/>
        </p:blipFill>
        <p:spPr>
          <a:xfrm>
            <a:off x="2246400" y="35719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"/>
          <p:cNvPicPr/>
          <p:nvPr/>
        </p:nvPicPr>
        <p:blipFill>
          <a:blip r:embed="rId5"/>
          <a:stretch/>
        </p:blipFill>
        <p:spPr>
          <a:xfrm>
            <a:off x="6761160" y="3564000"/>
            <a:ext cx="379440" cy="3222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4" descr=""/>
          <p:cNvPicPr/>
          <p:nvPr/>
        </p:nvPicPr>
        <p:blipFill>
          <a:blip r:embed="rId6"/>
          <a:stretch/>
        </p:blipFill>
        <p:spPr>
          <a:xfrm>
            <a:off x="1143000" y="4214880"/>
            <a:ext cx="246240" cy="279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4" descr=""/>
          <p:cNvPicPr/>
          <p:nvPr/>
        </p:nvPicPr>
        <p:blipFill>
          <a:blip r:embed="rId7"/>
          <a:stretch/>
        </p:blipFill>
        <p:spPr>
          <a:xfrm>
            <a:off x="1793880" y="4214880"/>
            <a:ext cx="247680" cy="279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" descr=""/>
          <p:cNvPicPr/>
          <p:nvPr/>
        </p:nvPicPr>
        <p:blipFill>
          <a:blip r:embed="rId8"/>
          <a:stretch/>
        </p:blipFill>
        <p:spPr>
          <a:xfrm>
            <a:off x="2451240" y="4214880"/>
            <a:ext cx="245880" cy="279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9"/>
          <a:stretch/>
        </p:blipFill>
        <p:spPr>
          <a:xfrm>
            <a:off x="3094200" y="4222800"/>
            <a:ext cx="245880" cy="2808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" descr=""/>
          <p:cNvPicPr/>
          <p:nvPr/>
        </p:nvPicPr>
        <p:blipFill>
          <a:blip r:embed="rId10"/>
          <a:stretch/>
        </p:blipFill>
        <p:spPr>
          <a:xfrm>
            <a:off x="5668920" y="4214880"/>
            <a:ext cx="247680" cy="279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" descr=""/>
          <p:cNvPicPr/>
          <p:nvPr/>
        </p:nvPicPr>
        <p:blipFill>
          <a:blip r:embed="rId11"/>
          <a:stretch/>
        </p:blipFill>
        <p:spPr>
          <a:xfrm>
            <a:off x="6326280" y="4214880"/>
            <a:ext cx="245880" cy="2793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"/>
          <p:cNvPicPr/>
          <p:nvPr/>
        </p:nvPicPr>
        <p:blipFill>
          <a:blip r:embed="rId12"/>
          <a:stretch/>
        </p:blipFill>
        <p:spPr>
          <a:xfrm>
            <a:off x="6983280" y="4214880"/>
            <a:ext cx="247680" cy="2793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" descr=""/>
          <p:cNvPicPr/>
          <p:nvPr/>
        </p:nvPicPr>
        <p:blipFill>
          <a:blip r:embed="rId13"/>
          <a:stretch/>
        </p:blipFill>
        <p:spPr>
          <a:xfrm>
            <a:off x="7500960" y="4214880"/>
            <a:ext cx="24588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1" descr=""/>
          <p:cNvPicPr/>
          <p:nvPr/>
        </p:nvPicPr>
        <p:blipFill>
          <a:blip r:embed="rId1"/>
          <a:stretch/>
        </p:blipFill>
        <p:spPr>
          <a:xfrm>
            <a:off x="252360" y="1371600"/>
            <a:ext cx="8639280" cy="4486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"/>
          <p:cNvPicPr/>
          <p:nvPr/>
        </p:nvPicPr>
        <p:blipFill>
          <a:blip r:embed="rId2"/>
          <a:stretch/>
        </p:blipFill>
        <p:spPr>
          <a:xfrm>
            <a:off x="2643120" y="3214800"/>
            <a:ext cx="571680" cy="785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"/>
          <p:cNvPicPr/>
          <p:nvPr/>
        </p:nvPicPr>
        <p:blipFill>
          <a:blip r:embed="rId3"/>
          <a:stretch/>
        </p:blipFill>
        <p:spPr>
          <a:xfrm>
            <a:off x="5286240" y="3143160"/>
            <a:ext cx="642960" cy="7146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" descr=""/>
          <p:cNvPicPr/>
          <p:nvPr/>
        </p:nvPicPr>
        <p:blipFill>
          <a:blip r:embed="rId4"/>
          <a:stretch/>
        </p:blipFill>
        <p:spPr>
          <a:xfrm>
            <a:off x="1589040" y="5526000"/>
            <a:ext cx="246240" cy="27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"/>
          <p:cNvPicPr/>
          <p:nvPr/>
        </p:nvPicPr>
        <p:blipFill>
          <a:blip r:embed="rId5"/>
          <a:stretch/>
        </p:blipFill>
        <p:spPr>
          <a:xfrm>
            <a:off x="2714760" y="5518080"/>
            <a:ext cx="24588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39:53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