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8F8-7231-44E6-A786-97B31760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C47-80FC-4933-B088-C29263A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DCDFC-FE9D-49C9-B8A5-7A76C1A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9F0E2-02F7-4009-BE18-053DD17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D60E0-925A-43E9-B52A-6EA96E83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1EBF1-20C3-4429-8B64-C37C0C6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12122-8DA8-4636-84FE-B9FE5752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FA650-9FD2-437A-8339-07F110A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AF38F-49C3-4336-807F-B621A8F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87F19-86DF-4388-B93B-DE29373B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0D46-1F37-4A61-82D7-F9C7343B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C1159-FD1F-4D7A-8287-4919BAA8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353-D468-4021-89AC-D0E19B6E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4A8A-677C-4DF6-81BC-AD7758F9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CEF91-005E-4730-A80A-BEA4D2A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C6F1-A239-4F5D-99EC-B7B29C1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2D31-22E8-459F-A014-A3A2AD9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31D2A-9117-40A5-AA43-A52C5C09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C4793-9C49-4605-A2EB-9765C9A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28FE2-A064-487E-B008-D9E09D4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FA01-B52D-48BC-9859-77FA576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C1554-9B30-498E-80D1-C5F3FC0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54DB8-8DFD-42A6-B97B-F039B9F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417-D3A9-4B42-9762-ECF6A1D1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35D86-48CF-45D3-93AE-3ABC5003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54744-B4A9-4FF1-A2D3-EF6259AE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29D2E-11DB-4B13-ABB6-72E765F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24BA-68F4-41DD-885D-2D13EE8C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D285-EFD4-4948-89EB-38A000FB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6DE92-6701-4B6B-8385-0B73073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A81B0-2692-4763-A397-9377C4C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2AC7B-9DA9-4378-9BAE-5E86851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9F10C-F978-4DAD-96ED-E04D404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BB4E-1EE2-463F-9805-752B7F2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E22-2776-460C-8F8A-95D3BB43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33577-00A9-4AF7-8AA0-576F721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3EEB-45F0-49BB-9FD7-8F9E9766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D08B4-0940-4F80-B234-4B395EB9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F151B-0683-4650-8860-4670313B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1128-E36A-4BC2-91FA-4A1D5FFF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59F20-7BD4-4627-9718-85574EAB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CC9BB-408A-4D60-B0FC-05E7DD1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1CD07-E4A2-4CA8-8BA5-00BAB90E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FECA9-4C08-41CB-AEF0-F258584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866C7-C058-46C3-BE1D-08AB82F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3CC3-207A-43CC-9886-49605A9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E03C-BBF3-46AD-A208-543740D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DCFB2-DF79-48C8-9DD9-82509F0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0D8B-E277-493A-B071-767F1987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68F71-4D35-4085-A96D-AC18085F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31E5-5A31-4774-A183-E049E747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C4CD8-FF17-4A2D-A984-856F9C0C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53389-9C90-4810-8A8A-032BB2E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2DF49-F6E7-42BD-AE70-D0E9C54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7B164-C2D0-4881-9726-212378BF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D41E2-A6F2-40BB-A373-0B04AFA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B21-B945-4702-BDB1-9887DE6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F7155-C9CA-45EC-8194-62B8932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9369F-FC08-49CF-A3D9-FF4AA76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948DF-2617-4E4A-A926-1A6CC7B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341BE-E309-488C-A6E6-28FCC245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90DDB-1A3B-40D9-A293-7B5EB5A2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4D564-C541-469C-BCCA-598383BD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C4C05-33C5-479E-AD6B-404ADAFB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D8DCF-D520-41E1-AD39-39225C8A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66B28-F803-4BCC-900A-9D1DB9E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CB810-8971-47C8-871C-981A877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8CC-DA60-4F26-B296-F8A842A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41696-817C-4D52-8943-F34544FC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5A170-9E1A-4FCC-9C2D-CA9D7B48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13609-8827-4DF3-BCED-1B073A8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E7A29-7449-44B4-B95B-0BE6F41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4499B-2E31-4404-B775-FCE4EFD5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73456-2155-4AFD-9089-476F432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D47F3-F56F-4BFE-8CA9-44DE167B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49252-2DE3-413A-909B-919D9C96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A9B52-4C8F-4074-8DDD-7E326881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87460-695C-440F-9296-34BDA5BA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1D5-41B3-41CF-8103-5E1DC86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13D2C-830B-4AF3-9B6C-0CEC9A96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437CC-946C-4CA4-9580-6A463655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BF481-922B-42C2-B923-C109DAF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0BF07-DFE2-4F90-8F67-CA081B1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324DC-11AF-4271-825B-ADD54ABF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1C034-AB20-47F6-AEFB-C19D6B85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E34DB-E89E-4B3A-80A7-A92A7A2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5200C-7766-41D5-9755-3C9D9F38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7EA32-97C5-4848-B010-7B2AE528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D5C38-F3AF-4360-996E-8389DF4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B083-A893-4AD4-ABC6-AD67A65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E4DDC-2C37-4E66-8745-7A51C72B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F64A7-3B0C-4A5C-88ED-46D998EF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BB9E1-D29D-4D76-BDCC-77161169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CCB9D-9B87-4387-BCC3-945CC91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C5FBA-232F-430E-AD01-A58BED08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1358D-5992-4ADB-9879-0F5F78C0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247D1-2940-4039-AB08-93F600A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68041-5146-4755-BCF1-7EFB0A28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30C48-8CBC-4834-A64A-57A11AB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5DF89-FEBC-4837-9162-62DB09B0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DA5-8B28-466A-AE7B-AE3C6E4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4D185-9E4B-40E9-B355-11514B9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BB995-19B0-4CE5-91CA-8ADBB146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84393-DEE9-44A6-8FD0-781AE85C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F65CB-CCBD-47DA-AFDD-487BD01A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B7C02-0DC8-4121-840F-3790CDB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BE15C-80AD-4722-83BB-5C17C103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CE4A2-ACF2-4340-88BF-AD46533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3A18E-A0D2-418D-B501-C82DAE2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BCBD9-4172-4F19-B188-62E54FA7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69445-6472-4D89-B703-F002447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1C9-2846-4915-9EB9-9295E383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619-6E83-4A3C-B1E9-2B5C09C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456F5-70FA-4FDE-9649-237170A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EB53E-B6C8-4F01-8920-5EB49A4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4A3FC-A951-493D-9337-1E850B9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DFD5D-C926-47C5-A5DD-10EBAC4F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A63959-CB26-4167-8A24-E1CEE0C9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FC06D-5496-4B97-8B15-3F2CFAC9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33C01-29D0-4871-83C8-A29CD8BD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A3A3E-879B-4238-90EB-06C1966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AB686-6403-44E7-8DF7-3632CD9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E29DF-B6F7-4B0E-973D-F6857964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085-1875-4551-980E-F30019D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F8890-52EA-432C-9BD5-2ADD0F91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8B3B1-C080-41E5-8D19-7F80586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6380C-2B17-4456-ABB7-A9B5221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AF43E-69F7-4211-B1A3-F5E2380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68954-E118-4FB2-9BDD-4BB8411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5ABD7-C0B6-4800-91AF-C34C16A4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104A7-35EA-402C-BE0D-C6716311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30AE4-858A-44FA-82C3-26062987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7B56E-FDD4-4266-B752-8DBF694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DC580-A239-420A-81A2-EC34763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C67-47FC-4E70-9020-A486EF36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9B89D-B377-4B35-B3BF-107BA01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EDBB4-8410-44DE-B6D3-BEE7BBB2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1E282-7C48-4A4D-9AF1-81EE1FE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1C63C-8FB9-4B2B-A02A-96D8FE2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966DF-A139-4C1A-BBE0-216953B6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F0687-970B-4D7B-AD7D-D903D91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8163C-B978-4047-AF43-E89072E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A1750-F9A9-40C1-A51D-80AFF6D0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E62DB-E1C5-4794-80A2-8A10DC9D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F4C91-1D86-4CC2-9D4D-1D8FAF40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F95-00A9-4BD0-B3FD-BEA5A41D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05599-DCF7-4913-8812-7856132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36DB9-3AC0-460B-9585-BFCB77E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CEBBD-114D-4003-922F-92DF511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4C5663-F0DA-41B0-B36E-15DEC0D7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3B4DF-57BF-4A22-B163-7D46597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105158-9A99-4593-B038-68D4230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C8C8B-DDF5-404C-920E-11539D16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C8735-0396-42F0-A025-692BB64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80B26-7DE2-41FC-8AAF-EFB0AB0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E4F91-66F6-4CA7-8576-6BE51C2C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1B6-F303-45A6-A684-C82A07D5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75CDF-995E-4D76-9B4F-2142833B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E4F48-7B79-49D5-A63E-03E8FC78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6BD98-BE32-4751-B6FF-C6EE3DF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6C304-0ABE-41D3-814B-90B7110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9CDA4-6C33-429B-81B6-DDFD1FC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009A1-737D-4FE1-96DE-569670B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8CD4C-EBF6-41EC-8B86-DF99217C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B8951-CDE8-4972-9347-569E09C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1449B-81B0-47F9-84F5-878B413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92926-71A8-4642-A0DE-AFE2504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CA2C-F7F9-4D7F-AA71-7417CED9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64282-11FB-4B44-A571-DD9ED7A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7AC88-1010-4F73-B596-C667DC7B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3B502-814A-4983-AB7A-E26C90E9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AD7350-108E-429D-BDFE-68658A0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EDA36-B76B-4CBC-B728-1CC8019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8B5D8-7022-4EA2-AEBC-9FC4EFA9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37C0E-97F1-4CAB-91EF-0FF854D9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CEFCE-E36F-4A7B-ABB3-A20BC52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01568-4411-422C-8E30-C734A0D3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F67CFA-66BE-4F70-A75D-611133E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9B9B-25E4-4201-B13F-96D8D6D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9EDD53-3730-4F0A-B0FB-BB5DB51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B6410-DE20-4155-85BE-69EFF93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1964C-C478-4475-89DC-132EE8AA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83319-1D9C-41D0-B49F-46F2EBED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2A91EB-659F-4816-AE36-73A27F80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B92D7-CBD5-486A-835E-3011D304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C780A-95BB-43CC-9D7D-91D9958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32E04B-FFE0-49D0-B46C-8DA8298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E48158-BDE1-4911-85A4-09035BC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D55358-5953-48B1-9E0E-B659D798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6C41-11F1-4EF3-920A-A23A6D02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698F68-CA58-4811-909A-196FEF5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054FE-B2EB-4FF7-98E0-071D738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E7491A-6941-4982-ABEE-7FCB916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F01340-DA0D-4251-A1DD-EE07E9B4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D8489-8178-4207-92F0-F408ECF7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C6B2B8-CD9C-4F36-99AC-EC12D7E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08593-884F-4943-80A2-AA0C841F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A82C-8942-4E37-8B88-3794732A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6140-866C-459C-AF9D-9F955EB1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347-FB01-48AE-855B-CF05FBB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437A-4D54-450B-9072-99A49DB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C284-268A-4E14-B442-2DB8BE2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0558-2DD1-4396-98E6-36B7D2E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BB2D-41C0-4695-B70E-5D33BE43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7034-2DFD-43E9-84CD-60129F0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43EB-E94F-4CBB-831B-899E83A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4C09-A76A-4B0C-A0A5-1BB5C3A0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C7C3-3052-42CD-9863-9BDD3EF8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6021-835D-488F-A53C-BDE596B1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5AE0-220E-496C-95D4-9FED5CB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C84-5292-46AE-B9DD-756628C8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99BB-9F8A-4113-909E-D0EF51D7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F78D-E21A-402F-859D-0DD422E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70D6-60D2-49CF-B813-20CC1DA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DC46-7249-452C-A907-1C5336A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3769-E2D4-4C8A-A62C-663CEA7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EDAE-58E3-4E0C-BECE-CE68A34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82F0-BBB2-44A1-A79B-5418077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0DA5-8DA3-489D-89A8-57FDEC01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C65B-A15B-4851-8E7C-2532E626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69CF-DBBD-46C6-9AFA-D0F8DA1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062-E1B4-4B12-B635-C3E38A0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AFD8-52A4-4943-B6D6-5784749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41B3-F9FD-4E8D-870B-B59544C1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2F30-B023-495F-BE7A-4539C35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1803-FAA9-4018-B686-BD16E871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D0BE8-7638-48C0-B150-A38938E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8FCD-D1BA-4518-B706-0E3DB7F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B7AF5-41F1-47C4-A086-DB234EBF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C88A4-6880-4FBF-8461-E14362FD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7FA1C-51B4-4DD9-B86C-2279F383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D60C-96B3-4855-B77A-F195E925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825-4B9D-4078-8A58-CA166087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C12C-C534-47A0-B7EC-1C8420AF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28D3-2936-4544-B7F1-D904F820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3E7C-AAF0-49E9-8511-7481B49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6183-3031-4086-9679-CD58CD8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37F9-E1AF-4EE6-B0B7-8108B87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AC90E-8A8A-41B7-93ED-5FF6408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0FD2-F7BD-415E-B862-A620C8B3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ACE8E-836C-41AB-95FE-D2FB775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3B1F-0E8A-4658-9551-5E63535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C932-5928-42F7-B7CD-B0334A2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73F-154C-40C7-ABB9-4D52875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895E2-BCE6-4E09-882C-0BD5A27B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0ED0-6A4E-46C2-B2AE-737E591D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AAECB-5242-4081-8416-978E3D67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A2EB-6237-4707-888B-037418B0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76CF-7FC1-45E5-A8A2-3F298300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2B90-DCBA-48D9-8061-783B91A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C931C-5D45-4856-9714-5BA76DF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C7DD-B082-429D-A40E-1F9BFCD8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DA1A-C240-4130-8650-D55707E0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84AC-7280-45C6-97C5-3BE99EB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F70-2FF9-4F74-BF02-B6EF86F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3049-2263-4025-B9D4-37A041D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BE9F-5983-4BE0-ACEA-A1B83C0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7A94-E0BF-4AEC-B236-487977A3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50046-8F0B-4E22-A744-667A93F6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85BA0-B6A3-458E-85EC-E96CD83D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69B5A-16A5-46C2-8649-4FEF2768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5A71-151C-406D-8386-775088E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6F9D-04F5-4045-A57D-74EA82C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B8620-D5B9-4C2B-A015-F65E99F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6573-280E-4B3E-8438-225677C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686-8AE3-47F0-9FC5-8BA2FA54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A2BB-7809-4F71-9D04-71AB377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DF729-0D3A-4FCC-9ED4-5185847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D43B-6431-4E31-A716-57340F3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B83B-3918-4BE5-9B5E-5A11E63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3F4C-4C44-4E7B-B707-F3BA8761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F019-366D-409C-87A0-6F8C7C79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3844F-3B77-4997-98FB-F53F7825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58762-D6E4-4338-A7EF-D8A566FD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CF55F-2896-4EB8-84DD-F833B3A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BE44-2CDE-47A0-9130-DCC7514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44D-6AF0-4D2F-B981-467DE7E8F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21B-5476-4F3B-B178-6720F2B851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1C9A-99D2-47A2-B728-E50CAFD94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5E0-7BBA-4165-B750-1600480E2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F9F-3E1C-44B8-8084-487C5575B6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1C9-DA04-4626-B99D-FFF8E6B73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FA1B-A83F-4BFB-8384-6C41CB7CF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83A8-6CB5-45A9-9861-24B9E2A21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09C4-A9DB-49B6-9952-6420273DF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1356-C3D8-4EB8-8269-13239164C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EE04-2C8D-4324-B1CB-535AE49CB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DF0-017E-4C1F-BB7A-20CEF5184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877-BA25-4C38-B767-5C867AEBE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F134-D6DE-4652-AF19-14E8541A86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974-6778-480A-B81D-C142D2ED3D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30D6-6E3C-4C8C-9406-A47E17BBA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7E2-7D9D-446E-BA57-9BD6F6B671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FAB-6E16-4818-81B1-8D4B234AC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103-AA1D-4BF9-909E-B20683768E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500-9268-4FCE-8C21-F0A3405E1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21D0-0AC7-4159-8657-259CC7A73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1A8C-9E7C-4CB5-B592-E580F42F3A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2748-3DC5-4ECF-8156-C0DEF98F1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992B-511B-4D1E-87AE-5E866F21C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4645-D49C-4A57-BD78-EC259CD01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E29E-4677-4992-B6EC-333A896DF0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112-481A-4C8F-851E-853E4E59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937C-CEEE-4D78-A032-904BDB16F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843-8D74-47E3-8A6F-FD1474E84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FAD-EB14-4D84-9428-3D3AB535A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B65-2ACA-4D34-B05C-8CC499B28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6D3A-E7A5-4681-9A76-1682578B6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0B8-A02C-4532-B1BC-5D9DD03CC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CF5D-E5C5-4891-866D-DCF12CBC33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C4B7-D3B7-4BF1-8AD0-EB62A1662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1EAD-2BA9-49E3-9466-E74563FD58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CDF-F677-4A6D-88A9-47D9CB019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F305-97CB-419C-B598-A111141F82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552-FD1D-4490-96A3-6851BD1EB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66BB-AFE1-440F-806E-9A074A017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AAA-B98B-4860-9CF3-6E7B0C376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EA7-7F79-45B2-8AC4-E71A61FEE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6160" y="2776680"/>
            <a:ext cx="87501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38040" y="792000"/>
            <a:ext cx="8467920" cy="5886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55156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1641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616800" y="4164120"/>
            <a:ext cx="1612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300720" y="544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307120" y="58910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276720" y="1700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6153" descr=""/>
          <p:cNvPicPr/>
          <p:nvPr/>
        </p:nvPicPr>
        <p:blipFill>
          <a:blip r:embed="rId9"/>
          <a:stretch/>
        </p:blipFill>
        <p:spPr>
          <a:xfrm>
            <a:off x="1158840" y="2319480"/>
            <a:ext cx="3124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38120" y="104760"/>
            <a:ext cx="8267760" cy="6648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7170" descr=""/>
          <p:cNvPicPr/>
          <p:nvPr/>
        </p:nvPicPr>
        <p:blipFill>
          <a:blip r:embed="rId2"/>
          <a:stretch/>
        </p:blipFill>
        <p:spPr>
          <a:xfrm>
            <a:off x="1549440" y="2550960"/>
            <a:ext cx="1942920" cy="2419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364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3132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5148360" y="59198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71440" y="936720"/>
            <a:ext cx="8601120" cy="5324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2411280" y="5473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80000" y="2695680"/>
            <a:ext cx="2592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66720" y="1195560"/>
            <a:ext cx="7810560" cy="4466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2195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295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600120" y="909720"/>
            <a:ext cx="7943760" cy="5038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348000" y="18730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76800" y="2492280"/>
            <a:ext cx="2952720" cy="3168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192800" y="18018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895320" y="1114560"/>
            <a:ext cx="7353360" cy="4628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38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3262320" y="1125360"/>
            <a:ext cx="1886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52280" y="628560"/>
            <a:ext cx="8839440" cy="6077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979640" y="42642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3203640" y="55450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3564000" y="599292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20760" y="803160"/>
            <a:ext cx="8696160" cy="5972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43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00000" y="440856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60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