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41AE-637D-4059-BCA1-24967D62C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5048-79D4-4FE5-8956-2671198E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2E720-0687-4427-9605-DDA485E5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727F9-2BBC-4FCE-A5EB-8C7DBCF3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DF169-6203-438A-9BB3-117F30BA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C9BAC-23CE-4E47-99A7-DEBC2789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84C16-BBF0-4D8C-BD05-09AAFE6C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7CF15-6B87-4E18-8B48-80872DF5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4DBB6-DB3D-43BE-8228-67277913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854E07-6F36-4C6E-AB4B-D87A5C6C2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D9132-9971-473E-AC28-5C6A75835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5BD863-7A17-47A7-9A63-799D0E54A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DCAC-9E55-41F8-94BF-5C84D357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4BFE7-04FB-4D37-BFAC-CAAE7F65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30211-2DA1-4312-9798-FEBA7A91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63705-C928-4DC7-826C-5C93CF67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962358-7083-4D36-A7E8-0A83185F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72D0A-E760-4368-B718-B096CDEA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C62025-DC0A-4334-8ED6-ADE8544F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6EE26-B4BD-40E7-A8A1-88BAC883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F9CC00-0983-411E-BB9C-A67AC5DA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99D96-D117-40CB-9234-87B89ED5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45746-94F7-4EB1-AF62-A38245537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308D-C098-4CA9-A6BB-5CF44884A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2DF2B-8A1B-41B7-9A2A-ACFA703B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05FD3-B6ED-4CA0-A32C-CC535914C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B0492-24FC-4B9D-BB46-F84F0C84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96B63-F50D-4039-962A-3BAA110A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B2A3C-913B-46D2-BA1F-995AAEF3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7C1DB-D88F-4B58-B683-75284DEA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C013B-3D84-414A-9853-13BEFADD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B5171-0E98-4F9F-90D6-C180BAF3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4759D-B79E-41C4-A002-D9954924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A512B-4F0C-419F-BAE7-58BEDBF1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7412-6595-4FB9-98B6-D43EACED2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150C3-7941-46BC-B1EE-65B06543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5D87F-42B1-4819-AE23-88535EC7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3095B-4207-42B8-9BC1-9FCF1C982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8F15A-22FF-4710-A9CD-98BA022F6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093EBA-76DD-43E8-8C21-DB7CBFA5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91DDE5-8141-4144-AA46-9484A034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AFF74-6D2C-4B05-815D-AE0463C3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799BC4-A94D-4724-AC5B-53712586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0B432F-0ABE-4ED4-8490-C384BF0B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EFB24-760B-4E3D-B952-131C4454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5947-B89E-40A6-BFA3-EEC5BD69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160D6F-C0E6-4220-91EC-CF4B7A92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2912B3-D7AD-4508-9C48-52280772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DA801-A8C1-4367-ABC4-E390682B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515175-2CB2-417A-9241-250546DF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EE071-9771-46FE-846F-F4048523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FE60BF-5739-4F6E-BD4B-8D619B26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F31AC1-1656-4916-8E00-1FE986C2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FCBF56-E538-4EC3-82A0-4E54F67C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9D3551-88FB-4C5C-8B14-451410FA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F7A325-432D-499D-80B3-E2799D9E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CE36-FC22-47FD-BA38-873BD344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C54F8C-FB5B-4353-A689-6DB30F73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2A0F9B-3BC6-4770-B30A-27D9DAF9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152BE6-7977-475D-8F66-4509E63E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3F3C9A-8A4D-46BF-B18B-A3BCF2B1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370169-99C4-4E0C-A955-71057D4D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C20A67-538A-4D18-8BAE-CFDC3C104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7CCF33-DC86-47A1-BDB0-253734F46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04F20C-4A3B-4AAA-8E94-5E7FEF34F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764840-E598-4FBC-8947-E4C29C9E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107783-8E7F-45C9-BD35-7B51F45B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F49B-CD01-4FB6-8362-8CD4555D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26A030-6643-40A1-91C7-0D974B5F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7C33A7-E92A-429F-90BB-D8BF9446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88FE04-32F3-4B0D-9B87-6F9F5C58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3D9757-9E62-408E-9F2B-67AA8915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132F31-6AD3-486E-9E6B-2F207540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6E7411-983D-43C3-83B8-4D3D096E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77B323-AFAE-4022-8209-7FDC3EB0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CC7C86-5455-445D-9B0B-8815E11ED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AC7295-1769-43B8-8301-E31D368F7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4DA3CE-CE11-4EB2-9B11-6F50D6468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CFA4-88BE-4E9B-AB13-FFBEC608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B8AA0C-9BFF-4A3F-B491-940CCA79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69F9DA-6B06-44F2-B7FF-007AF52E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DCA08D-9977-4E70-9094-CC2C774E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FACC19-D49C-4C60-9C49-8C4A3357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BC2783-CBD6-4ADA-9605-D95F7884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3886F2-2386-4680-B1AB-82DA2BD2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7B06CA-8726-4AEF-851D-3E32488F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112991-E968-42B9-B6E0-B1DC3579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C5E23D-83C2-401F-A410-AEC4DEB6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509427-E70A-4049-9661-640A073E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8755-A358-474A-A878-1C4C4EBA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7C1D2F-458D-4217-843B-CFBF82997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1FCA3C-7028-459E-AAC7-9084ACC2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CE623C-B79F-4AEC-BF34-30E6B7DE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0614F8-DDC0-4878-92E4-7B70D2DF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E1B37C-54CB-4F00-AD49-45E5B51E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11C613-2893-42BF-944E-02CEBB70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587D5E-6963-40D1-9BF1-2A36003F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9D7D5F-D6DE-425D-8266-BF1C75A2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4BC866-C824-4A91-8A15-3BD58955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1A810F-BD42-4E84-B1DD-453B9C11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AF81-6033-4998-8452-53F36EAD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236828-BCB3-4FE9-873E-78E952BA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5216A6-8328-4D65-8F27-CBBC39248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32DEB9-3782-46BB-93A6-CF5858A7B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5D3A0C-0FD0-496C-8600-16A421CF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775236-0F52-4319-8877-1617EB00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50C138-05B4-4F4B-848E-FAADA28A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8950B4-E339-4BD6-8031-7810CF93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CB07F9-A163-4E93-8354-A8A39D8A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B7EAB0-AC37-4781-A5BF-0ADF0AF4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58DC6B-B5C5-403B-A584-A1BEBFBE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FAED-B9C4-49BE-B452-0DFC734F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9F4A-8351-4785-8DF5-A7FA7704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D93B88-9B4F-4BE1-9E26-8F7F31DB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EEF599-F85F-4627-9811-417B1596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02EE57-B808-4ACE-9AFC-2F5A5270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BFF23D-7431-41EB-ADD7-BD217FED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3DB977-2934-4A15-96EF-E86FBDEA9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042D21-5C31-4EB8-99D4-23A4B848D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771B47-359F-4B4F-A7B4-6E4AF1D1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A34B30-4262-42D8-AA97-D2AB382D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0A079D-7546-425F-A6A5-4AD7F519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264701-0D12-4A49-8177-3C0E4F20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D263-EF25-46FA-860D-76CC0BEB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2E1D64-B6F5-4563-B494-E63FDF52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987D99-9F9C-42B8-9580-EEA9F898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DC3734-1F7A-4A26-A78C-9590AFF6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9D98A8-31DA-43BD-8E4F-6B8B11EA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E47D7D-3C22-4071-B202-081A0D61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4DD5B6-4E36-45A2-B06D-092298507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885CA2-0A67-474F-B7E8-3F6136F49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34D9E6-BBA3-4946-ABC0-60DA537EC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7A91DF-E21F-425C-A696-E174D10A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C96745-73F4-49E9-9DAA-8997ED9D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C276-E613-4B96-A67F-24544442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40CACF-BC4D-4A16-A0B7-6E583429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8E44AC-6648-4185-85FD-48F707EF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6B3853-C913-4774-8593-4240317F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199A40-2ED4-42CC-9AC1-E6F7BCDC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8C3D49-2C9E-405F-A0D3-02B2A06E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9CB32C-ACA4-499D-B843-FC825C37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BED494-0011-4814-8F16-916FD08B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FF43CF-D12C-4D99-B7C5-7FBCD202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F47C6A-BBF8-4DC7-9D7A-9F4BB3188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025348-10F8-48C7-9447-2F037E1C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92A3-028F-464C-BCA5-AD45EDB26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CC7DE3-E61F-40F2-A480-6D95DBE4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E7D8BE-6292-4714-9FBB-8C3588D8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E3BD45-6905-4650-AAC5-A10D7F95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E81364-5989-4878-9117-5E53B8B9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90E750-CED4-4D0E-BAA1-05927F6D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929BB6-39D4-48AB-BA78-3C9FE423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1EB66F-43CE-4AE6-8C3F-D8CBC1AC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53C116-7CA6-4E5F-959C-874D4E9B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D40BBB-EAC1-4B33-A1F9-1401DF92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D6E2AA-8C15-4432-8DD6-2B191965D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3405-A3E4-4301-B250-918B58B1D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7D455A-A555-4023-B3D2-D62226059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BB69A3-85A0-4A8B-984F-9C12054E2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D12971-C667-4A9A-89C2-04A092B3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F3C6ED-6422-4F36-AF8F-7AA19F3C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D089CE-8C90-46DA-AA96-A6F08456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E2A4C1-3BE3-4D04-A71D-BFFFA160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6E020D-839B-476D-8787-9973085F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39A2D1-60FF-4A27-A7B5-918BC23D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C37301-3D58-49F6-AF0D-CBA3854E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59129D-723A-411A-B01C-1C525751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7152B-AD00-4189-B9C0-30303A64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53B8C7-B8CD-47E3-B238-52646465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2BFB67-6E52-44BE-980A-42DC76783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5D2168-B82A-49DE-877C-643ADFE37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0921D2-695D-4E75-8D05-9A51E8D8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1702D9-6DFA-4C05-AE8A-31B1A5D9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BCBC31-24A4-424C-BC38-74343FC1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ED7B7D-FDE7-4671-9538-7756FC35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F8C832-5687-4578-88F2-A2A862C5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68169C-7564-4A0D-8110-62A70FBE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F69555-7250-4110-806B-C8FFA650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2976E-FB61-40D0-ACA8-BCDB1AE5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B22F0F-08E5-427D-9FC2-D1F6AE48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0F40F6-D8A2-42FB-B3C3-98A2EB03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53443A-B874-4530-B364-53732322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A2E689-1128-438E-A83E-DE8F01231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31FFCD-A0E1-4E7C-8AEB-82BBDCD23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BCD834-08CA-4383-BACB-E7DCE2D29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07E988-6CF1-435F-B025-935E038D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44E49C-38B3-48D8-A2E5-B46D5D78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848C87-656E-4C1C-A57C-F2EA9952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DC0D2B-9CB1-4498-8161-83EC4AB7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940D1-49B9-47D4-B4C4-E022B899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50A7EF-AD72-46EB-9180-247848DB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4BAB7A-2C3C-4FD4-972E-7F362505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25830E-A25F-48DB-8221-A44C5FAA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8C6794-CD85-4591-973A-60CFA9C0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042282-0D79-42CB-A6B7-1C887DFC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413C9D-200B-4ED7-B86F-0BF0DE617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FDA5BD-2B14-4136-B353-D9B3526FC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69505-57CE-43AA-ADC2-E8F4BC09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91265-A698-4989-9C7D-E47119A1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CEB3-8967-42F2-8D6D-B72908E2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DA42C-08A3-44CC-AD35-F35C4D71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4B921-243A-4434-8512-95D44583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6A080-0514-40EF-A839-A889FF7D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85CC8-A571-418E-9620-C45E44ED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DB1D3-99ED-4646-9B20-684D7F46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708F4-E43B-4C4A-95A7-4380D044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E5562-3458-4094-80F9-8A2813424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E3557-F992-4B88-AE8F-D2664462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69774-1748-4CA4-A690-2B25DBF3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D1C07-299B-4390-A1A5-7B804D8C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B78B-23C9-4112-BB54-21D794F9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2F49E-B05E-4304-80CF-07CEB45C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EF73C-F7FF-41B0-BE11-44539684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A163C-92C3-4A5A-90C8-1E43B196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6EEFB-040D-49C4-BEAC-EE2EB058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9BA3D-9151-4C33-BF2D-728D98B3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62E26-5BCA-4FFC-89B3-ECA82596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4B2A4-5F30-4145-9FF5-6523CD6F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B0226-2B6B-42E5-9CE6-2F9884DEF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3A417-4EFE-4A71-AF9E-F4C6AFCDA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738D7-1CCB-4E12-A7E9-F1607A0B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194F-7B6F-46BD-8382-0DA2E8B3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A7550-F245-419A-B604-E96BD248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64DBD-9034-4C8B-BD79-2250B4AA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4D0B7-C9FB-4E51-AD98-A61C63EA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61BBC-0D1B-45C4-8D80-C8E5B9E9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41290-30BF-4F24-AFA3-3384BB0F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10CE7-2575-4222-B143-9767D3B5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B41AB-AE35-402C-B0E3-9CDA729E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AA554-3C8E-4CBF-9B03-5FBA2EB7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94836-0008-4D54-832F-9BC5F4D2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954A8-510D-4507-9778-D5A4BB1F6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2A40-97CF-4BEF-BD76-2DBC12B0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FE1B9-62AE-4C3A-AD15-EC7A64331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02D0B-0D51-4C4D-913C-685EBC52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A9CD1-BA1B-4313-B244-2DF0C48F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982F1-FBB5-4DCB-9E93-CCF7A289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A8216-2ADA-45B7-9B30-2ED50A76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5C9CC-B25E-4BCE-ACB1-9D40DC03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B9484-C508-4951-88C8-A2E3C6B7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9C912-5496-4620-B46E-55357E1D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22488-6435-409D-AC80-FDF86B41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14AFB-EAA1-4656-8174-0397DE49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2E04-F418-4A6D-9314-4EE93AF8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85F62-0E41-40C0-92FC-431DE56B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5A37C-FFC4-4E75-A9D8-024034811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772A4-547B-49F0-9795-F1B5AACB4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5069A-11D6-4F90-84AA-90331ABF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816D0-DA0A-4E6A-BF36-EEA6B5BB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F9461-5703-4385-A34A-01B0688A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6DF63-FCE0-495D-89E2-BE919D62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2D517-C55D-4DD6-82A5-0AC188D6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9D7F8-8B1A-4D2E-9E25-D62E1E26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005B2-577B-4A28-A267-9EE9B5AD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824B-554A-45A0-813D-B3D1ACA2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C4CE3-5A36-4FBF-80C8-9F118E86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5E058-5CFF-4381-A32D-43F55CB8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E8AC6-B618-45A3-8B32-CFD8835A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5DFC8-AEEB-4B84-92A8-1069D460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C8F27-BDD2-4560-A4BF-E8CFAF68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8AD55-3160-447C-8CCC-27A26B6B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B016B-7B51-4C26-8078-26AD07E3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AFE91-C9F8-48C0-AD19-34CDEDE1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865E5-9296-4247-AC0D-2CAEA96F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9571B-E26E-48B9-A5B1-BCD9640B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474C-7EC7-4B76-AB0E-29045465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C5C7B-ACE7-4333-92F9-9D5580B6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CC967-4FB6-42BB-817A-277B1680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0F09C-0614-4BFA-8227-42DD3E0E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6E538-90F2-482D-A118-195EEC9A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B9F32-0179-48E2-B545-D4C2E239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D8C61-3F76-4F0C-83BC-098B64238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1B137-3208-4C57-A076-586D85943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1B092-9934-43AE-AC26-771802B70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5E9AF-991A-4F8A-832E-56BC40FD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B2870-9D85-49F3-9125-F483C6B9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4C6A-A2DD-4F66-86E7-50BDEA2D9E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230D-35FF-431A-9B8F-B2DDBC872A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F3F4-9BE4-4B72-BCDA-F663F880DE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1942-51B9-4731-B53E-0EE46DA3B4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4704-B5DD-4DA6-8292-AAC2247423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2A48-EC33-4602-BE91-53DB11030C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8368-8BDE-46C5-AABB-BC662DC90F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8747-B6C4-4A28-8A61-3D83AF693F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966D-3ED3-4102-B5A1-9506C4A7D9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80C6-0AB6-4F13-BDB0-AA50F73292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C136-DA80-4882-BA1A-EA086AF919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AC88-9E7C-4291-A7A0-C494E669C3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2B59-91D2-4E41-8819-0117726565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9591-4823-4369-B6FA-A7B3F424D1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DE34-7C35-4026-A4F3-6A2BCC179B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137F-8032-42AC-A986-CDFB3D7589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677B-A42E-4452-A593-33863A1B7A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F737-2989-4762-8194-A38C90B8FA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9869-4605-4348-A576-DB78BB3BC7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5CBC-AEAE-4115-B21E-4F9F980579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2C6C-55E4-4A84-9408-C48733C9C9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D532-9380-4A2C-9599-0F8D33EE6A2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E192-51B3-4964-8BF5-62B7170534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BFCD-ACE3-4709-85C8-711438DABE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1C6B-D67C-4872-8CC6-CEC5618CDD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CB93-357D-42DA-8C93-B31613A083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C11D-102D-4EE8-B23F-C9A9E4A741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5770-F1B8-4ADC-890A-7FCB59DE50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AD5A-A3E9-4DFC-9786-E1302810FD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EF4B-1F36-4126-8F3E-0D3649F9CE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43B3-FBE6-48A1-AF89-B06C33058A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292E-A5C4-4AA2-A915-38ACA50868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877E-3A91-42D9-AFEE-6A0BC85916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0D2D-06C3-47A2-A4E4-55D35CE7333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9B0E-ACBE-4489-BA61-F122663FEA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85F6-AE07-4F5B-BAB5-C55C858CC4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427C-1C27-4C73-A6EA-126180F83F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8067-B797-489A-B508-77C021C45A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F476-460A-455E-9312-AE8F427844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1BDF-8C92-4916-A8E9-62C18E5406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C2B5-28C4-4887-9646-E19FB169F8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35E8-1068-43B2-96A5-F327B83F64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333440" y="2405160"/>
            <a:ext cx="647712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28600" y="852480"/>
            <a:ext cx="8686800" cy="51530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6659640" y="2349360"/>
            <a:ext cx="1152360" cy="4478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4643280" y="3645000"/>
            <a:ext cx="115272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2050920" y="5560920"/>
            <a:ext cx="576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图片 1" descr=""/>
          <p:cNvPicPr/>
          <p:nvPr/>
        </p:nvPicPr>
        <p:blipFill>
          <a:blip r:embed="rId1"/>
          <a:stretch/>
        </p:blipFill>
        <p:spPr>
          <a:xfrm>
            <a:off x="619200" y="2838600"/>
            <a:ext cx="7905600" cy="118080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2"/>
          <a:stretch/>
        </p:blipFill>
        <p:spPr>
          <a:xfrm>
            <a:off x="6804000" y="357336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图片 1" descr=""/>
          <p:cNvPicPr/>
          <p:nvPr/>
        </p:nvPicPr>
        <p:blipFill>
          <a:blip r:embed="rId1"/>
          <a:stretch/>
        </p:blipFill>
        <p:spPr>
          <a:xfrm>
            <a:off x="247680" y="831960"/>
            <a:ext cx="8648640" cy="584820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2"/>
          <a:stretch/>
        </p:blipFill>
        <p:spPr>
          <a:xfrm>
            <a:off x="7885080" y="2349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3"/>
          <a:stretch/>
        </p:blipFill>
        <p:spPr>
          <a:xfrm>
            <a:off x="7885080" y="3573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4"/>
          <a:stretch/>
        </p:blipFill>
        <p:spPr>
          <a:xfrm>
            <a:off x="7885080" y="4869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5"/>
          <a:stretch/>
        </p:blipFill>
        <p:spPr>
          <a:xfrm>
            <a:off x="7885080" y="616572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390600" y="809640"/>
            <a:ext cx="8362800" cy="523872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2"/>
          <a:stretch/>
        </p:blipFill>
        <p:spPr>
          <a:xfrm>
            <a:off x="1332000" y="4149720"/>
            <a:ext cx="504036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3"/>
          <a:stretch/>
        </p:blipFill>
        <p:spPr>
          <a:xfrm>
            <a:off x="1116000" y="4797360"/>
            <a:ext cx="504036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4"/>
          <a:stretch/>
        </p:blipFill>
        <p:spPr>
          <a:xfrm>
            <a:off x="1116000" y="5445000"/>
            <a:ext cx="5040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图片 1" descr=""/>
          <p:cNvPicPr/>
          <p:nvPr/>
        </p:nvPicPr>
        <p:blipFill>
          <a:blip r:embed="rId1"/>
          <a:stretch/>
        </p:blipFill>
        <p:spPr>
          <a:xfrm>
            <a:off x="1052640" y="1243080"/>
            <a:ext cx="7038720" cy="4371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2"/>
          <a:stretch/>
        </p:blipFill>
        <p:spPr>
          <a:xfrm>
            <a:off x="1547640" y="3789360"/>
            <a:ext cx="6985080" cy="447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3"/>
          <a:stretch/>
        </p:blipFill>
        <p:spPr>
          <a:xfrm>
            <a:off x="1476360" y="4437000"/>
            <a:ext cx="698508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4"/>
          <a:stretch/>
        </p:blipFill>
        <p:spPr>
          <a:xfrm>
            <a:off x="1332000" y="5056200"/>
            <a:ext cx="6985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458640" y="79200"/>
            <a:ext cx="8460000" cy="66996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971640" y="2492280"/>
            <a:ext cx="302400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1187280" y="3213000"/>
            <a:ext cx="3024360" cy="12956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1042920" y="4695840"/>
            <a:ext cx="4969080" cy="447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1042920" y="5516640"/>
            <a:ext cx="4969080" cy="447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6"/>
          <a:stretch/>
        </p:blipFill>
        <p:spPr>
          <a:xfrm>
            <a:off x="1116000" y="6222960"/>
            <a:ext cx="684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1" descr=""/>
          <p:cNvPicPr/>
          <p:nvPr/>
        </p:nvPicPr>
        <p:blipFill>
          <a:blip r:embed="rId1"/>
          <a:stretch/>
        </p:blipFill>
        <p:spPr>
          <a:xfrm>
            <a:off x="228600" y="847800"/>
            <a:ext cx="8686800" cy="56386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2"/>
          <a:stretch/>
        </p:blipFill>
        <p:spPr>
          <a:xfrm>
            <a:off x="900000" y="3514680"/>
            <a:ext cx="424836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4248360" cy="447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4"/>
          <a:stretch/>
        </p:blipFill>
        <p:spPr>
          <a:xfrm>
            <a:off x="755640" y="5041800"/>
            <a:ext cx="424800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142920" y="406440"/>
            <a:ext cx="8858160" cy="62578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971640" y="1468440"/>
            <a:ext cx="374472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900000" y="2205000"/>
            <a:ext cx="37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900000" y="2997360"/>
            <a:ext cx="3745080" cy="447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900000" y="3789360"/>
            <a:ext cx="37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6"/>
          <a:stretch/>
        </p:blipFill>
        <p:spPr>
          <a:xfrm>
            <a:off x="826920" y="4508640"/>
            <a:ext cx="3745080" cy="447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7"/>
          <a:stretch/>
        </p:blipFill>
        <p:spPr>
          <a:xfrm>
            <a:off x="900000" y="5300640"/>
            <a:ext cx="37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8"/>
          <a:stretch/>
        </p:blipFill>
        <p:spPr>
          <a:xfrm>
            <a:off x="900000" y="6093000"/>
            <a:ext cx="6193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30:13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