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B57B-8E5E-4702-8D5D-55B3206F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3F46-8E8F-40F9-8357-546E777F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12264-3FA9-4270-A047-A5120A76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FF514-6700-4DAD-9FD6-95BB427F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25C9E-B50C-40CF-A462-65864F7F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65DCA-2218-4FC2-8F43-1F16FDBD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822BD-453B-4E1C-83CA-9CDF4FE8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DDEF3-4418-4F59-9D53-B4239769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269A2-48FC-4E5C-BB14-C7EFDE81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F29F6-CA0B-4CEC-8063-46EE9E28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8E8AF-8BFD-4CA5-8EBD-F887EA0E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9A027-A88B-4D07-BEB4-C215C562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75C-2704-420B-820D-E126A3F8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EC4F8-B8C4-4432-B350-FCB9B144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75791-6B91-4F27-B800-059C77C2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FE781-8240-43FA-BF23-3A2F7423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FA8F6-554C-4B02-81A9-6B808B98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59BE2-E2DC-4474-B316-253C0B83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56BF1-689D-45AE-81AE-F1AF2543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9BF47-8D7F-4BC0-8A3D-5C8A0E1E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25A2C-24E5-4A05-AA3D-9992D134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5DB84-2F8C-4520-9F2E-2F45EBFF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FEECC-62AA-4FC3-9B1B-1EC3555C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F9C8-D45F-4E89-878A-7805C68A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8F8AD-C305-4FD5-83F1-B261CE9B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8894C-6CE7-45E7-93A4-4704B0DC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60786-BEEE-431E-B873-F2A63E2B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1BBDF-0A49-41AF-9C0B-66C56251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47A6C-25C0-47FA-B8E9-B3771EB1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14B77-667C-4B29-A7BC-96A36010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657DE-DC6E-4163-A460-F5BEA2E4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0A889-A40C-468F-9485-F4CF0995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77215-B6FA-4206-917F-11B4CF08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6A9E4-97A1-44E7-91EA-99E89AC7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45B0-0208-441E-B4A2-950EE8E0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77398-4EFA-48CB-A79F-28E589B1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F9D36-BD31-4D75-BBFD-52CFB68B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48986-7F7E-40FD-BF68-281B550E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0ADFC-E42A-44DF-8DBD-209A5031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D2C58-380B-4B06-AF71-DF58CAF4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F7C7A-8692-41BA-AE7A-5FF902E3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0BA42-FFE8-42B4-BDFB-C909C17F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B9913-F1CB-4C12-AF15-AE4B795F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4868D-8CAF-46AF-9686-62A9B24D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F9852-2E3C-4A30-B7FF-B2592D05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F2B8-EBC4-495B-9D95-7FC9FCFC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25BC4-19CB-4496-B24C-BE465464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5977C-FF17-40B0-BC1C-EB4D4A11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631F6-A77D-4F53-9679-1EDFA705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D7A32-A4E5-4BF3-BD8E-9C0CF38F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FEB8A-F002-479E-BAAB-DCC40E8E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EFBAFB-FCF5-46C5-8BFC-992C98FC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11FEEC-9B64-40A8-911F-C0D3E002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DF4A50-DAEC-4A6D-AB81-83B9DD90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25F869-9ACD-4F5A-9B35-3E00BD6C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37DF09-0D78-4A93-A691-B7F6946D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9E87-237C-4803-9C0D-374448AC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77CB5-543B-400F-9928-8C9B2CA3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72934B-713D-4B9A-B9F6-3E04ABA8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778E0-019B-435B-8248-5FB95386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A81879-5C5F-4386-8295-2C322690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D87FFD-AC94-4F7D-95CA-E19E1389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4BE39-A4DA-40B7-AF3A-BEF91C65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18D985-6E25-4676-82F9-26BB9A14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D2F199-3DA2-421D-BE7C-F02E99AC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790311-A933-407A-BCD8-2D0AFABF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28C523-6B0F-423D-8165-24A62D82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3549-2E63-4AC5-AB05-D278BD0B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B937F4-3316-4831-9049-03754F7C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B6F791-860F-458A-A17D-50ACB214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29E807-3890-4096-B3CE-598BCE2F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2B23E-9EAB-44D3-BC28-66B26A0D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310023-7851-4184-A133-0B6F708C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2A5789-0AB9-4954-94B0-B7B9379F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D1BF4F-D3F7-4D9E-BA82-EDC64B14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F046BE-4D34-415B-9880-FEFA81AA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DDFC15-2A58-48C5-90FA-73443A79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5B70BC-1209-40C0-948E-4397A420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3430-60D9-4C73-BE72-ACDB04B6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74E65A-463A-423D-AA46-5E412F9D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9CB455-1468-4E79-A06D-247F50ED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A8FA81-C15E-4BCA-9398-437486D5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3C6CEA-E623-4CF7-970A-2B7A809C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4CBB91-BE76-4F82-8F80-76281E06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9BE366-B3F7-447A-863E-F9EC588A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A64AC9-E5A8-41BE-A667-E5487630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85E34A-FE89-4A81-B2A5-3CD68426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485B28-4F92-4240-8354-E554F2C4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BC7296-DFA1-457C-ACE2-334C7EC0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8598-2019-47AC-B8B8-03CFB9BB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1837DC-C249-47F4-A01E-B5187319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D6D796-43F3-4AF2-8E70-AD8AD9F1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10B0FF-0290-4DFF-AA32-D7B28FE2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6EE87A-203A-4DB4-9EA2-4624E6A7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6F03E7-22A9-4A36-961A-223B9096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EAB0C3-8C2B-4D42-A390-C3C760B2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133860-6256-47B0-8380-C3FDB285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FEE1A5-DED9-48EA-89B9-6C097A92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A09D35-2AF9-4114-BF16-83CDD7A8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49AE72-330D-4640-813C-14417A4B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8132-628D-4DBF-BC99-1A08ED7B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066EE4-FD57-4488-B63D-CE516C27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35AA52-0775-44DA-873D-31E6D69A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A6D8DF-ACF7-4DA5-8D4E-0F52693E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56D6A5-8A84-4F9C-9F98-BD18E472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1C26E6-9A8B-4D78-8ABA-BC996435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A71A1A-40F4-4B8B-BB02-7A9E07D3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803440-9F02-4E17-98B9-A8FD33E8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32B1EE-E8EE-4C4F-8153-0FDF693C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981335-47F0-47AD-B94D-823ACB62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51F866-1009-4148-933A-712BA216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CE87-C1E7-40B1-B33C-0A1A8522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1A9C-DC89-4748-9BEB-B427B31E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8DBE26-FE53-4492-AEFF-6E8327B9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DD132A-E142-4C78-8934-C154CC18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C268EA-73FA-4125-ACB0-A1626EA0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B589C5-05DB-4B93-B7FD-E9C24F88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6BF32C-594A-47A1-BB84-38046A0B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AC1185-3789-45D0-B150-3D2A6CE0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6C845C-9840-4914-BFB2-E3F701A6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DF21EF-27D7-4053-83B3-D8DE322A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07EF38-CDB3-4050-9D60-A4F03DB3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AFD9FE-11DD-4EC9-8C1E-A07AFEAC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FE3C-F1F3-4BC5-B08F-53F2A7F7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572BF9-B6C5-4328-BA44-C6073824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849BE5-10FB-45C1-96ED-6AF33DA8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EBCCAA-960A-4C18-9D99-8CBF15B9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D33BBD-1FBE-4824-B950-3E214EE2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C13854-7D24-404D-B60E-27FA089E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0A9C72-29D4-4A62-A4FA-5CB8A979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950A36-12F0-41BD-A67D-C1D7B786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1BC525-19FB-413A-A8B6-91D9566A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BEC40B-44ED-4B7D-A577-984D41FE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15FCF1-8FE5-4246-A386-6C8A6382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79A6-9F16-433F-B222-56E6F3F9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E7AE02-36BE-48A3-9551-5BC42DC2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0A5169-86C2-40CC-8FFF-170F8548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C4425C-6955-43C1-A1F5-14CCB162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EF1EA9-C8ED-4D27-9BDA-69D4F5DB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AE32E2-AAD1-4F72-8EB1-1D7BBA7F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817E42-2047-4293-967B-522FEA39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92E3D1-0F12-48C7-96A0-9C1BBF6B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DE8A61-484F-44ED-88EE-9DC81180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50CB2B-EEC7-4E70-97D6-09DE8638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9C07F4-0ED6-4243-80CB-138973D1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8419-CB3F-4864-B93F-C68CF848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F4F631-1E28-4136-9164-F6335686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700F33-30A9-4F69-8571-C701B309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B9D6FF-EFE9-4DBC-BFE7-313FC10F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B37E81-EEF2-45C3-85F5-871A84CD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93B8FF-C33B-4E51-802F-41CD4B2C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9AEA19-8092-4205-B17A-559D09E2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FA525E-1917-41B8-8F5C-196EEF58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5A4416-DCAE-442E-B7BC-43306111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910382-9D8B-4365-A033-018D9AC8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4D1224-BEC4-4E0B-9346-C7C32DB9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2092-49D0-4512-91C2-59A5B7D8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668BFD-32A7-43ED-9403-ACB9086A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631DDD-A717-4A53-A6F6-01F2A77F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E5AA49-250B-44EF-9B57-34D768BF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652160-684F-4B88-8792-35A8148E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A6093A-7B30-402E-BDD7-B8AC0146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031880-1B97-4F58-B780-D3573344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C5CD0C-CCBE-47CD-B8B9-18568008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AA3D16-DD35-46C8-A9FD-04F75849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3FDE25-9B09-4921-B22C-92AA0D57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5ED907-4021-4115-8DE7-EE20F555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4ECFF-CFE9-4632-BDA9-8D00CDA1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E2C27B-4EED-4168-9C0F-4B8E9D35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BC8BEF-8B06-40E1-AE79-BA3DA90D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C1FF86-3267-48BB-A2D0-2110F0EA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70E254-8BE2-4B68-8F9E-0C4115E8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12F77E-A198-431C-BCA1-3A20B510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2D3533-3D6E-4611-9F43-DE0701C2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328C90-27A7-4BF2-8AEE-A774E615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E31CAB-8214-4464-BF0F-EF1CECC8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9DC779-8D7C-497A-9243-4955016D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D977A0-EA8D-4859-A924-DB153A09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C8F62-A488-4F75-B2B7-FF6C29A8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E3E62E-9E5E-4097-A9FF-E92C21CE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8E753B-9520-4319-A6B1-8A287F20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5297BE-29AF-4A49-B600-A7005132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2ACEB7-4C62-43A7-9DD4-E3D583D3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971189-331E-4D13-A542-81CF22AC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54EFD7-1F65-48BC-9994-BDC41961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E3D737-49BE-413A-BB8B-5D7D4B3C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A9F563-D827-4ED5-95B3-56DE2183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B424D5-D238-44AF-B23D-B94B9AA1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5509C3-FD79-4CD0-B31C-4C8B64F0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B8EE3-CC80-474C-B058-5E90F534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237C0D-BB6E-4706-9145-78F65234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30DF60-6CEE-46B2-92B7-5B589AE9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4D0044-42E7-4FC4-9DCF-F157B9E6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D61270-A529-4E67-AD04-19A27F12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49CCD4-7ADB-42C6-9A33-0A1BFD15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76FC74-6337-42BC-A089-68DB8EC7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3FE881-6DE4-4A98-8476-92FFEF0B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902D0-7371-419F-B4A2-0094E1F4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3D76E-21DE-48F7-897F-F6526144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67E3-33E5-4D52-8354-64FD89F9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47AFC-2E88-462E-9893-F1DC5A70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D18F9-092B-426B-BEEF-1E4A886B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A120E-83D8-4C4F-90F6-F3765440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8FE33-035F-4AD4-8A66-4A43224F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BEC31-A851-4A4B-A581-4F868EC5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784B5-CC51-490B-B1F1-A22F09CC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77815-8AF3-44E5-B4A9-93E50D06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8108E-D0FB-41A1-9E84-01945B61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63683-0A6D-4453-9F4F-7C234361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0248D-D039-460A-B0A5-586E7658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734-071A-4783-B762-D8243EAB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FABD1-3821-4301-98F3-902FE2CF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FA077-0A7E-45F3-9D54-867518F2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6D8DC-77C2-4CBB-BF2A-A1096A83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1D27C-08BE-4D85-96E2-947D17AC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1000F-B395-4E52-9C53-D5CAC41C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47B94-D686-4A22-8A65-5917FEE8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467B6-3FFD-47CA-AB05-3083F394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D82FD-2B27-4E4E-8188-372E8571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116FE-B13C-4012-A4BC-DD3FB638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2D6F6-0B27-44A4-B60F-B8E45362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4843-C0E9-464A-9C6F-2EFD79CA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A2D0C-5842-4094-A7EA-49FFFBD6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96A91-77C4-40D9-8B26-B970904A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71C76-6FAD-4BE5-AEC7-9D678B60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4DAA6-F438-4E06-A870-C5410C27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F1A2F-615F-4313-81FC-BEE8C1BE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20A5B-A916-40CB-B2AE-C581786E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DE693-682A-4BC1-887F-7D534AFE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29A91-F6FA-4404-A55F-3C684360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D6EEB-261B-4239-A4F5-A8D0E5A4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546FB-2B57-420F-BD6F-49BB14C8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E374-1633-4C9D-9A54-92B31B43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5C3EA-91CC-40AD-8014-B847B832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CE365-A4EF-4FB3-B510-D5F981CC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358A0-8728-422E-BF30-ADB23609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4B26F-D85F-4931-B50D-87AC05F4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8D7F0-A34C-4078-8467-E900AE98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83A49-B2F4-4736-9EAD-3F235DB1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62507-CAF1-4017-915F-0D3EBEFC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C5278-7DF7-4335-8353-23D276D6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4C10F-98D3-4292-9E21-FD1CA806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C01A9-ABBD-4165-8375-242493DB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D4D8-7077-49EE-9396-E8D0D503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63DC4-517F-4F46-8DC9-CBCE988C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DF979-2505-4C15-90CB-5EFFFCAE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B7885-BC6B-4D66-979A-48B48BC4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C51DE-BC54-43DA-8008-AF3C0195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50A3A-CF37-4D2E-A10C-93644E0C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1412C-E9BA-44A1-8AAD-4EB2DFF4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FA34E-A015-4B7C-8A63-9E1048DB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968A5-3E46-41D9-8B14-FA862542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BB887-2E79-4874-8687-20B75A81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3DCB0-CC6F-487E-8F6F-509EE8CE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582-B606-4636-8C98-1572A3B1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D225E-3914-4BA2-BD02-A85B7143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35883-2803-4124-A6B3-9A45DE4F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FBA6B-986B-4569-90DD-15AEC938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F884A-24FE-45FF-9407-1370877C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35023-A5DF-4AA0-853E-5E9FC2CB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E4A4C-FF53-4BFF-8AB9-956208EC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151CA-4858-4DF1-A1F9-C5F30F77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91B3E-3C6D-403A-9917-A0558025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BCC4E-F29A-4BED-A946-54FD09D1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7291C-BBF6-4A97-9EE0-22007B7F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231C-3313-44C1-B5C4-38B57078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C493E-C6E2-4C87-93BB-80C055ED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12314-3B1B-441C-B530-B290C8C0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95967-4682-4CA5-B414-9664B906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69149-CE26-4A2A-9A4E-C114F137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C002D-FD00-4DE2-8116-409A8BF5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9E0FD-4B10-4A77-AB71-12642C15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E8D31-A0E7-49DA-A858-443B4074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794FB-6140-4D43-8E3A-5400567D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5A710-163B-44B5-95DB-F8C6362B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60723-EDDD-46ED-9353-214B3157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5BEF-7D8D-465E-A6E4-8343A3B5AC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0547-CA7C-46DA-A53F-0C645879E3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F058-A48B-4306-966A-1AABB6AB74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A19B-3E21-446C-8D8E-43154253CD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9311-FB26-4B31-9F06-A4FA856A39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EF9A-18F4-414D-ABED-2709C8F5BB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3949-6514-456C-B287-73F35A1E76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CE3C-773C-40B2-99CF-B9BB670A57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D3D2-7616-4958-AC95-4EF3B1E14B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5D4D-F74E-4F6E-B730-1EA4D48A9B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F192-B351-409D-AFA9-EAE0A23404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5FEA-CF1E-4B6E-A6C5-75EBB21DFB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1A3E-61C3-4D67-9B61-FF9E81D012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FEBE-F4F7-44E3-A6F4-46BD67EC3C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0DBC-2163-41EA-BC82-CD0842A529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D845-944A-4195-8CEA-C39913E0EC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2827-B917-4E7B-8EE2-49AFC0A9D0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4C4C-39EC-48CC-B492-487404699F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726B-386C-4D36-BCF4-22C13F1A91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900C-2C2F-4283-B21B-76F21FC0F7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BF2F-4A36-4ECA-911F-ADCA24CACA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5345-FC16-4539-B9A7-CA8B7C95A9D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C027-B67B-427D-90A0-84B8EC8BB8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64E9-E73D-4BF8-AC31-3BD230F9A7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0111-3627-4A1B-8AEA-7F4B451646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1035-1A34-48FF-B0D1-03E2D402BC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46AA-E4BF-4596-81EF-88BF46C145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A6DB-512F-46A3-97E5-F40A825BC3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7E3B-E61A-44C9-BDB8-DE5D311E85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95FA-6461-477C-9567-086D6DDE4C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4E57-3C14-44E5-8EBA-605EDAFC8E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D758-5349-49A8-8087-675AF92E4E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6A99-B41D-4FD3-AD0B-7076130C89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0AD6-8D0E-42FC-8BC6-6714EF363DE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19F3-CC6F-469A-9C88-029B8A4D70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29EF-3ADB-4ACE-AB3C-AEBDF19E31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265D-9B81-4D1C-86EA-1FD0C4C4AF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CBE6-7574-4499-B85C-8B9C64D4B5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8733-B3D8-48F8-A0CE-4F0202DE29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288F-5FED-4A07-8386-3F9204BEC4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404C-5D9E-4F90-AA66-F8A3BF4B8D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9FCB-4852-49D9-A2FB-315D0611B5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28520" y="3024360"/>
            <a:ext cx="8886960" cy="80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533520" y="155520"/>
            <a:ext cx="8340480" cy="65484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6127920" y="5575320"/>
            <a:ext cx="502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466560" y="2614680"/>
            <a:ext cx="8210880" cy="16286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5867280" y="2781360"/>
            <a:ext cx="100980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1403280" y="3587760"/>
            <a:ext cx="1009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33280" y="933480"/>
            <a:ext cx="8677440" cy="49910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258920" y="4292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6156360" y="5099040"/>
            <a:ext cx="136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图片 1" descr=""/>
          <p:cNvPicPr/>
          <p:nvPr/>
        </p:nvPicPr>
        <p:blipFill>
          <a:blip r:embed="rId1"/>
          <a:stretch/>
        </p:blipFill>
        <p:spPr>
          <a:xfrm>
            <a:off x="423720" y="1343160"/>
            <a:ext cx="8296560" cy="41716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2"/>
          <a:stretch/>
        </p:blipFill>
        <p:spPr>
          <a:xfrm>
            <a:off x="3780000" y="393372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3"/>
          <a:stretch/>
        </p:blipFill>
        <p:spPr>
          <a:xfrm>
            <a:off x="4067280" y="472428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图片 1" descr=""/>
          <p:cNvPicPr/>
          <p:nvPr/>
        </p:nvPicPr>
        <p:blipFill>
          <a:blip r:embed="rId1"/>
          <a:stretch/>
        </p:blipFill>
        <p:spPr>
          <a:xfrm>
            <a:off x="399960" y="1138320"/>
            <a:ext cx="8344080" cy="45813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2"/>
          <a:stretch/>
        </p:blipFill>
        <p:spPr>
          <a:xfrm>
            <a:off x="6372360" y="4221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3"/>
          <a:stretch/>
        </p:blipFill>
        <p:spPr>
          <a:xfrm>
            <a:off x="2268360" y="5027760"/>
            <a:ext cx="1511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409680" y="1019160"/>
            <a:ext cx="8324640" cy="48196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6372360" y="3573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4859280" y="4307040"/>
            <a:ext cx="122544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1619280" y="508464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228600" y="1271520"/>
            <a:ext cx="8686800" cy="43149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6084720" y="194472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4140360" y="3184560"/>
            <a:ext cx="86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4"/>
          <a:stretch/>
        </p:blipFill>
        <p:spPr>
          <a:xfrm>
            <a:off x="3059280" y="4033800"/>
            <a:ext cx="86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5"/>
          <a:stretch/>
        </p:blipFill>
        <p:spPr>
          <a:xfrm>
            <a:off x="6804000" y="4379760"/>
            <a:ext cx="863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81000" y="990720"/>
            <a:ext cx="8982000" cy="54576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3492360" y="394812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7596360" y="3903840"/>
            <a:ext cx="71892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3564000" y="5257800"/>
            <a:ext cx="71892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7524720" y="5272200"/>
            <a:ext cx="719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447840" y="2228760"/>
            <a:ext cx="8248320" cy="2400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4427640" y="2751120"/>
            <a:ext cx="15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5651640" y="4048200"/>
            <a:ext cx="86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119160" y="128520"/>
            <a:ext cx="8905680" cy="66009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7451640" y="19303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4067280" y="2781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7524720" y="3500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5"/>
          <a:stretch/>
        </p:blipFill>
        <p:spPr>
          <a:xfrm>
            <a:off x="3995640" y="4221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6"/>
          <a:stretch/>
        </p:blipFill>
        <p:spPr>
          <a:xfrm>
            <a:off x="6746760" y="51134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7"/>
          <a:stretch/>
        </p:blipFill>
        <p:spPr>
          <a:xfrm>
            <a:off x="7596360" y="508464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8"/>
          <a:stretch/>
        </p:blipFill>
        <p:spPr>
          <a:xfrm>
            <a:off x="7567560" y="610884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09:38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