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1F8-7EB9-493A-8474-9E467949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5B3-96EA-4A53-9D44-3528B3FA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2A50A-6D2C-4D6F-9BDD-5E18392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2C2D2-D047-4345-8CC6-69740C88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63DC2-733A-4549-9E90-A7578A1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20BEC-44BC-4258-824A-E1D1EC3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BC99C-3D17-450E-9D3A-868014CD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95542-806B-4197-BC44-09CDA987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1A582-3FAD-48CF-9946-FC0125C8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1A5D2-4066-445D-AFE2-F68A9417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7DB33-8967-4818-9C81-5C35AEF5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F9316-203C-4C0A-9D06-E8FE36A2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858-BE19-4263-A6E5-4FE3DDCB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310EA-3323-4A38-8308-0831FEFC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5C406-495A-4223-B6CE-23CFDD29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87279-519D-4332-82B3-989D981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97CF8-5777-4583-94A5-27E32D00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75745-576F-4418-94A9-100DA9E3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3166-EAFE-4A8A-9337-E1F6BC1E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E6E2B-B88F-42C8-BB1E-E6362D7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1B0C-903E-4878-9CD2-11A2CF4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86E54-92FD-4AF0-BC93-9DDA3C5A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7B3B2-992D-403E-9775-3ABB368B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24A-0567-4E57-9627-B1DF12BA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D0714-62D5-4560-9B18-FF400200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07710-56A0-4449-9BD8-4ADAD313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FDC3F-1A3C-43F4-90D4-59505935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ADCF8-2825-4C19-AEA8-FFB32BDE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1FFAB-7795-4D58-BB33-48763C3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DE549-0010-4806-B682-6BDB3EB1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D3D07-9268-47FD-917F-160B11F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E9DE8-79AB-4A95-81F3-56CB591C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6AB14-58AC-4869-8BED-702A4C08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13B16-537F-4062-81F7-CA91D4D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D01D-249D-45AA-9AE4-548D822C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FD60C-CCE1-4439-8FF4-8E2DB40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08BDC-73E9-4A12-8D87-3075C878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8C682-990F-4626-8AA0-92227203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03CF8-D91D-4200-915D-B09F36B8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201CE-D8C8-4B78-9D5B-69FB8325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909C0-B3C0-4201-A90B-9D3C7529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A6A8D-C577-4152-B8CB-55B76D52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6C04A-6D12-4CEB-A56A-8A078316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7A52A-4FF7-4600-84EE-34FB609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5ED41-390D-48B8-B06D-3702FBCF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4ADA-2E53-42B5-8BBD-D31C37BC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452CF-2496-498C-B1DF-E21A48BF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C2D4B-14B1-4258-AC13-9A937BC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1A041-6FED-4AA4-9D04-8CEFD3D4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DF258-CF99-4579-9F69-0E28284F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EC7FA-5E08-44A3-A391-477855B8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9E82E-BA8E-4151-BC25-521BEB59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D335F-2366-47A6-9205-A73B3374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9F3E4-5EDF-4F0A-AFEE-E0756264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3C6C0-7F3A-48A9-ABC8-25C996C3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BEC07-39F5-44AB-A75B-AAD3FCA3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B16E-5584-46E3-B17F-28F2E735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67407-FD41-4506-8E6C-12619123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F5F62-EEBF-4C95-A328-D421763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BC47E-3A60-4E0E-ADA9-D2F26B8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89833-3AC5-42D2-9E1B-0C11181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5B248-9484-41FA-99B2-4658DFD4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0F8E2-4437-4BBC-B9ED-E0BCB06F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6555B-74F8-4E6B-BF41-A6F2FE15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A9D78-89FD-4DE7-BB32-B6CF3176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11445-42D0-4DE1-9C23-33096B9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5180D-05F3-415E-83EA-D81B0293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4D7F-B888-4CE3-BEE8-4AFCEEDB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98A9F-9DA4-4142-A492-0F229EDD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89432-D3F0-4171-859E-DAEB7BAA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CA221-FC2E-4D25-BFAB-A66AAD5B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7644A-A538-492F-B83D-4C88321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64743-BFED-45D0-BA8E-4C03DA0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D5FD1-4040-4992-A833-DF71A8D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250F9-DD95-44CB-8535-7AEA67AA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2F157-F754-4A25-BE3C-A292F0BF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EAF1C-3887-481E-9A33-17B82A7B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671F7-11AA-4C53-BACA-B37243F1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A2AE-D61A-441C-8F8E-7F466403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2EE28-90CA-4136-9B10-AC16E947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3E0FF-3D4A-450B-A2DA-674A9C95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5851B-A688-42BD-822C-75B76DE9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68D56-CB9C-4D98-9B2F-D443571B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78DFC-A7C9-4C1C-A773-63373843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9E53B-4AC4-4EEC-B173-77F4D46A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83FF0-2BBE-4A57-B1CF-417AC8D2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6D235-50BE-49A0-A818-9EB1E0C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647D7-3A58-453E-94AE-0FC06A7B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A8CC1-1184-47AD-906A-97F86E04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ACEB-A622-4685-9ED1-D62CAEA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5D9AE-E1F3-46AE-BE2A-6E7A4D4E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F51C7-313A-4A50-8F37-2A2EDE53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7E278-9780-42C3-BA30-9C104E9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E832A-911B-4BDA-9A20-7E2BFCE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4062A-FFF0-440E-8885-07191332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D7DEF-DBE0-405C-AD1F-C6AED304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7D428-355E-4EDD-9187-7FA302A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DC3A1-3886-462D-B005-A4609BF9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239D6-3DDD-4AF6-A768-EBD0897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FD451-F23D-467A-8262-0C588D32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0F29-45E9-40C7-8D4C-4673C55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8B67E-5B0A-4839-96B9-A1368F4C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1904D-860D-496E-B16C-7C13A635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F7928-69DE-47F0-AC43-03A02289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2B32B-86AD-4E2C-9CC6-0832AF8C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E7E89-FAE8-47C0-B2A1-1E30A45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9280F-3EB1-4285-922B-04BBD1FE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6686A-A27D-4447-AA43-50E5B787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A0EE0-B4CA-49BF-B13F-7687CAA2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58346-7507-4D82-ACD4-0B4748B2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E6025-2145-4BAD-918F-439D565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42B-1742-4E3B-86A3-7E1B7A2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ACE0-28C6-4209-B2D7-C6D037C9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EAF4B-63BE-4FB6-8968-10592F18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481EF-AF23-4FE8-9CEB-9FC545A5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A4F687-10F3-46DE-8EC5-82356A5B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237D1-F219-4CF5-ABC4-7BAA0711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01F60-FDA6-4009-8909-12E6C97F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80BC39-BFD9-4396-AFB6-A0DFD2A0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E9908-BA31-4AA9-AB86-5798F419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41AC1-53FA-458A-8821-6ADC9F0E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1E89A-25ED-4769-A9BE-CF5FAB77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EA9C9-6221-4756-9547-8EC38D1C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43EF-BA00-4E84-A9E2-059F5D59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44EE85-2132-4402-AA1D-C97A488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8AAD8-1D94-4371-B421-62F07539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D1A99-417F-4AA2-BF6E-E7EC44C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AD082-E8BA-44CC-8C21-20A8A2B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C8CB6-9ED5-403E-B066-EBEDAE2D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C3962-53CE-436B-A204-2B1280CC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63E7C-8FDF-47FD-8331-1181232C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C3202-BB19-42F9-92EB-FBDC13E2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8271D-F2FE-402C-A053-12E13FC7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0F536A-7163-4C95-9FDE-DCB7E0D1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CC2B-119A-4CD3-920C-98A5FB93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C5161-5168-4A69-81A6-32F40CAB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4D722-AE65-413D-9BE6-2A22FC78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46EBD4-B635-4969-8579-2310BB60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C9CC1-0323-41A9-A602-2DCF5EF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FF707-F0B4-4CAE-8EAF-0DF96599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ADFAE-8412-4188-B955-1BFD2EB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F5D9E-B260-4656-884D-D5E2CF2B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1E1D1-E179-4CCE-9E61-E9F8C1DD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3756E-9230-4215-94D8-9C1EDC79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541FC-1500-4193-A05F-6E13EA24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DDCF-B41F-4626-8468-54B19DFE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05474-0B25-4520-81D3-398F9FCC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6CA71-0308-4092-AE38-0A5E4D02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3347E-A591-4AD5-AACB-DFF9D629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B911A-7D3E-460E-A827-962E1DDB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30131-E83F-4084-8921-B97F5C34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5F5A9-61E0-4A90-A1E3-7376ADA0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6D8E3-4949-40A0-B78B-5D119B34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94045-16B6-4FE9-B645-4D90AF71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3E1F4-699E-4FC8-BB9A-067715CB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694DD-C78A-4516-A133-C717970E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15FD-2BFC-4B06-9601-CE4B55AE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5D3D5-8AA7-4443-BD81-14BF46A1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9F418-DE3E-4C80-A388-15F4A9FE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43785-3F17-46A9-9075-ECE832BD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36F9D-5144-40C5-9950-357D282D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EE7D6-65B6-44A4-9A65-627F7B3E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49889-0E73-4048-9599-B53E4222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B044B-245D-4BF1-BF01-6ACC9F4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5180A-B1DE-4F77-BB38-F3890C4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99C5EF-6BD2-48B6-A33C-866DECD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2AB94D-90AB-4E08-9B73-E677462B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6D9E-B8DA-4415-8531-383872C7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9FC92-5943-404E-BDF1-3F15742E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15E6F-5DA7-4F34-8EA7-5DF21585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2655D-F851-4C7C-BEB1-C9BBF2C5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569C77-4A62-4D58-B808-F0845EEB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5305AB-8FA9-4DCB-A557-51E347F4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2DF06-2CC8-4A94-9098-4BA62A25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C2536-B204-4CD8-8442-CEA93EF1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0BEDBB-BFF1-421C-9967-1FC17073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05F45-BB48-4625-99F2-4E1B271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1A8512-60F4-42DC-9709-D46B5B8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8178-EA7A-45CD-90F1-E55A616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9A1739-5C0F-4ADF-8D14-FD7367C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ECA95-71F9-46D5-9DA8-EF13D25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BBB5F-C0D8-40B5-AF98-87062F6C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29518C-B3E9-4BD6-8B18-57961856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96723-8CA7-4006-9AB2-3C432D1B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9FA7A4-CFE3-4C2A-87EA-005A1969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D3F932-72E5-4259-8BCF-F5E4F32A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30C0D0-57FF-458D-BC98-431CFE0E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75FE6A-DE4E-45C9-9719-BA19CC84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731A00-1135-4E91-BBA2-A685BE7E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0940-BEA0-4667-9719-AF9D9F73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4F4F52-0DBB-4776-A29C-0D2F639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2349A3-8938-4E1A-93B0-B5C1CCF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D2434D-585B-4E3C-B91E-8E1B0BDA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5D0A94-7E3D-4E1D-A07A-CACAA09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1E3868-B663-4F85-ACC3-F8AEF971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CEF98A-7100-4949-9D58-D0DED8A9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1528B2-A1D8-4BAE-BA74-66C91CCC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34ED-8B27-4A4D-80B5-3B4E7D5C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038C-725F-4E93-9F3D-693C49F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26D-5550-4D25-9711-356E2AE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D2E6-1ED7-421B-A5A3-68A9779C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6C58-016D-4550-A230-96B9BC49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6966-5487-409E-A8F5-4153F90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2308-8FFE-4FF4-809A-3D8325AB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C4A7-E001-41F5-9E2A-52F9BCB3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1569-7E3E-492D-A8B0-30228804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ECD8-4AE1-4E3D-90EF-6B7C72CB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85DC1-4B68-4D82-AF9A-1D66E86B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D96D-3434-49C0-9AA9-A0AB181A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80B7-8D3F-4A3F-9C78-5D33E965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72C-F4CD-4795-9A1A-24F42630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2333-1D6E-4E39-920B-8A48F1AC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3155-E660-478F-9594-6AF620F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C99A-975F-449B-9C6F-7C2C48F5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6EF19-B19E-4377-A1F4-DA607AB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86A8-2AED-4316-8555-0339BB49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0E2A-6A2A-4A2A-9ABA-DB868A94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970CE-F0D1-4253-AB28-5519C307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52FC-FF4B-464A-90E8-EB65AE07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8BBA-BB35-4F3D-A3A8-3519B973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AABD3-AC29-4392-A5DA-D3C32939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2DB-0033-49E4-8E08-A6F16B2D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1C0E-3645-4170-AF10-8A121194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C658-B17D-41C6-BE11-5B6E77C2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A0F13-A21F-4A2E-A057-1C3A0E67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E50B6-F86B-48F4-8D1E-2E78F9F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6574F-B47F-4363-A7A6-7CDD79D3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ED1C1-298F-483C-8DF7-BC32E54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E74AD-43AC-4FD7-8ABB-7A894DE7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8FD7-F1CA-49F3-A31F-9F409889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23C77-4359-41D3-92B0-FA4A082D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3296-BB0F-4315-B0CD-7E920C1B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F56-0418-4BA7-9E0B-D4BFB087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2EBE-FA18-4F2B-A005-6AFF0389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C2C6-E4BD-4318-8390-39C8E3B2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E6FC-8532-47DE-A08B-34AFEBB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04A5-1CE3-4CB5-9FF8-46BB24FC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2B9A-A61B-40FD-BAE9-E1F7A0DD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EB72-14CF-4B20-B253-608574DD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529DB-0A57-4F3C-9D19-0F13A5D1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6700D-F9DB-4034-9788-6FC3993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9F1B-30A7-4E55-98C5-559E2910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7F35F-91B3-4BD4-B8CE-CE62BF3F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847-AD29-4967-AE78-6D60B46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734CA-E248-44C6-A462-A97F88B6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E551-BF0C-4465-8D64-47CDCAFF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AA0F6-E461-42CA-B088-909197C1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2CE2E-E4A3-4193-871A-D18598A9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E01B-43A1-43AA-B8A3-FF8569A7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F8FF3-6730-45B2-B615-961DC643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FA61-5BFE-48C2-811A-6A2A2288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8E1D1-2E03-4083-84C2-D53245F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C530B-943E-4B42-A7D9-46912C64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CAAFA-F98D-44CB-B6FC-4974233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06C-FBF0-41CE-BC17-F9559885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9A50-DB49-47AF-A5CA-79BE62A9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2B96A-E87F-43D9-8DC4-37A29CDC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FD3E-4602-49D4-86E6-537565E3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D7D9D-E247-4125-9FD4-08856CAD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F96CF-8D68-4CA0-ADC9-1C4DA595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53A10-5F97-4D6F-BAE8-0354CA54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56722-6216-4CC0-9660-5816D13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081AB-6DDA-4279-8BC6-090B13E7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BA34A-449E-4734-B4B8-7E469419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EF630-4DAF-4B59-B921-C64C04F9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B34-518F-4DF9-BEF1-B1BED50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0DD7-BFF7-4C73-81F7-6F151B56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C6DC3-A057-4B33-85E5-1A5206D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C6E5-5DFA-4F14-BF98-D0B7E12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69081-545E-4D14-9B61-EA6673E2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7A4A5-CAB8-4DBB-86EB-9DBB7B6D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320DE-7D92-4FBE-9D3F-4DC6788D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778CB-4476-4194-A16F-8773AB5C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36CFE-6FE8-4F81-A921-9E98424C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AC35F-9D3D-423A-90EE-90946F5E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47774-A52A-4EC0-9695-D551C18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44A-1F4D-4303-BF47-4777D72A5F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0787-64B0-415E-9404-26F972588D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046-AA2C-49B6-BCB9-D7111A93C7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D695-C0F5-4334-AC11-62AD197C2C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3CD-019D-412A-AAED-0CAFF3631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C131-0C3F-49AD-A590-3814E71E72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0123-48C3-4019-B92C-C3B79C857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33B1-00FE-494B-A331-A0F422594A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6007-DAAC-49F4-90D3-FD3085C715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4CC-E4BB-4BED-9F2D-A32893AA7F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AE98-C5A2-4598-AC03-9CA1A4BE7B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F2AE-43C1-4FAE-8888-F11750F53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BD53-5831-4775-AEA5-8C6F72918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6D71-E76E-4C1D-9FDC-35F8EDB36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A703-EF1E-47E1-BCFC-B76344C79E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AF4F-C27A-42E6-BB81-04D235C69D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B528-BF10-427E-8B3F-7FE557D43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35F5-96F9-4CDF-9777-390C9C6B46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EFC-8496-43CD-B9FE-A4AF61E43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7B79-DA7B-4CDC-A5F6-DD6CC5A57F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D7C-7BC9-411F-A919-F6F948E7B7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6530-08D0-41D9-A961-0DEFB2B846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AEA7-C21A-44CC-A880-950625EDA6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2B06-F554-40BB-A064-404BA592A8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E545-F706-4CB1-9A49-0F1D19130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9289-EB9D-4386-9EFB-F02F88763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1D1C-A6FE-4E57-A411-2C2E0150A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477F-378D-4368-81D2-B92BFCD66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A17B-7048-475B-836F-90F7D4DED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1CC3-5918-4529-98A0-F611116183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1127-0225-4159-9302-EE433DD26C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9342-F41B-496F-BCAC-D323936C87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952C-14E7-4141-840D-B655B4BFB5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5142-8EFA-4967-9548-4DBC18D806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B791-9AAB-4E99-B34E-4971B21780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F9AA-D3FF-4BBB-9C31-663E9F5199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BE72-83FE-48F2-8B8B-22BBB9CEDD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1B10-02B5-4780-A05F-70812EFA02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101E-5F62-46E9-9BC4-95D64347E1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272A-D1EC-4200-825A-855C51A209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E2D-0E39-4C26-9E4F-3D12832335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C681-A5C3-46EC-8FC0-4E0979A62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98280" y="3160800"/>
            <a:ext cx="8947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08000" y="1003320"/>
            <a:ext cx="8724960" cy="18730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257480" y="3471840"/>
            <a:ext cx="6876720" cy="22766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298764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298764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364000" y="1484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565600" y="1989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791352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028000" y="20034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2987640" y="41497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2987640" y="4797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5940360" y="4076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5940360" y="472428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1080" y="407880"/>
            <a:ext cx="8781840" cy="6305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276720" y="566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80000" y="6093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6148" descr=""/>
          <p:cNvPicPr/>
          <p:nvPr/>
        </p:nvPicPr>
        <p:blipFill>
          <a:blip r:embed="rId4"/>
          <a:stretch/>
        </p:blipFill>
        <p:spPr>
          <a:xfrm>
            <a:off x="5867280" y="4005360"/>
            <a:ext cx="23050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2338560" y="2548080"/>
            <a:ext cx="4466880" cy="1761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10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2340000" y="3241800"/>
            <a:ext cx="410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09520" y="957240"/>
            <a:ext cx="8724960" cy="5295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187280" y="350028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971640" y="5661000"/>
            <a:ext cx="453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214200" y="1100160"/>
            <a:ext cx="8715600" cy="4657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568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826920" y="5013360"/>
            <a:ext cx="7561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66680" y="138240"/>
            <a:ext cx="8810640" cy="65815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619280" y="4581360"/>
            <a:ext cx="410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547640" y="5084640"/>
            <a:ext cx="41054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1476360" y="5589720"/>
            <a:ext cx="41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1403280" y="6093000"/>
            <a:ext cx="684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318960" y="1566720"/>
            <a:ext cx="8506080" cy="3724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187280" y="33577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1116000" y="442260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37960" y="1143000"/>
            <a:ext cx="8668080" cy="45720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29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755640" y="5056200"/>
            <a:ext cx="763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04840" y="1138320"/>
            <a:ext cx="8734320" cy="4581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388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71640" y="3457440"/>
            <a:ext cx="388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00000" y="3976560"/>
            <a:ext cx="38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826920" y="501336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4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