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551A-CB6B-49A7-9593-F4A87F799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BE1E-CA88-47DE-98F5-6C741467B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9F8E1E-EA36-4FFD-9DD1-8C9F602B2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9ED53E-E54E-408D-A9C8-D3A9F4A75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B91B37-1F6F-43B3-93CC-57A81D6AE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60C163-AFA0-4112-AEC7-9BC7AE7A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92A504-2089-42EB-B9B2-320A7775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110F24-4ECA-450D-AC3F-6A4A910B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A99574-5976-4C7D-AF33-58CEDB06E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9E8B8F-9099-4DE7-B696-F01B1C952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3ECDF0-0A8B-4A7D-AE34-6E99CEBA1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1AC4A3-9B2C-4DB3-AB4D-BD3DECD3B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7093-F7B8-45C5-9F81-733DBB5D4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DC6316-44D1-4EC3-A05B-3296EE240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864BF3-9708-49AD-AA06-164210EA8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FC74BD-5DA4-4C84-96F2-7F1384FAD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CE384F-D4C6-41C8-A49C-0292172AA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704434-A285-4F1E-8156-5F5D6AB60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C7C0D3-E51B-42D1-8650-AAAD6579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9BE258-0BDF-461E-9EB0-0BBDD982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1D4A2E-01D3-43B9-B598-670E0B60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74856C-75C3-4CAB-96D6-0D312CE5C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189C93-78A9-4015-8F46-5330744AE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8A48-5557-491B-B454-E121B1EA1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77C031-7EEC-4528-8E95-8A761180A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C2B257-D34B-452D-BC74-C3C7CE70E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EB8A20-D92C-4EEA-93EB-E144443B1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90CA89-FF79-41BD-9119-B17EB1034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D9CA97-775C-4307-8E97-B30024255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9B2552-4B88-4739-9645-90EA89924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31F712-E2D7-4D5B-A996-CC34612F7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890FAA-DF3B-4ED9-92DC-E086F40C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96EE8F-CCF1-4498-8712-86A0D982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6E24BD-C87F-445A-80AA-25AAE6B6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9B878-FF6D-43B4-AF99-285E9E3B1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0018D5-C771-4C02-88FF-8CF23C72D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F473FA-A97C-4267-854A-376E6BEC9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309010-A5ED-4A0E-B4EC-7E2D3F12E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69BA76-7814-478C-BA39-D97C44F22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371E53-B188-4488-B2C7-AED756F7F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63075F-27A0-4A31-947C-512F038D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A984AC-1EC3-42EF-B9A0-0DA86E397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AD2039-9C39-41BA-A63B-2F36F8DD9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503DF2-AA2C-4C5E-899F-891BDE828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954524-01E8-4C66-B85F-8B219A61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4A5A8-0A09-431E-A625-3B2E5E55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86C4BF-F545-4CF5-BE4B-0C1A9F27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8EC0F7-3183-426D-B46E-10B9F5A1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7CEA5C-60B5-4507-AE55-0DCFD5F5F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286344-B809-4F37-AFA2-669B546F7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2F7935-DCC4-4BD8-8868-D87F640E3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FA233F-6C79-490E-BAB3-A4C4AAFEC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D41A47-4B26-4BD1-AE1D-F7DDE0113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F97A94-A580-4F90-A2A4-329B220B6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FDEB12-CA5A-417F-908C-3E731B3E1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E79DC3-F0EA-4B05-B39C-5889723B8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9E5D4-2815-4DF3-805B-ADC84C798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C740D7-D7E1-4B2D-8CE0-9B702E42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555137-6EA2-4F2D-8FF7-FAABD004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47CC5E-5673-4026-B208-EF856B84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DC73E6-6902-4C7E-A2EC-D2D7855E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8FD6B9-D97F-4773-944A-784DA71A9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D124F2-01CD-482A-B269-8BD6F44D6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3F6A43-3830-4932-8579-F7BC9E322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BC7073-9A32-4522-90A2-35FCE5ADB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EBAE72-5176-4276-896D-4111CEF3C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3A838E-02D9-40D9-A003-AC25276FD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167C2-CF34-4B1D-B7E6-A9F50AB84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67737C-6680-46E6-AC4E-DD214E976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44234E-C008-44FA-BB72-D566BDA20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FAC66C-99A4-4193-935E-596507BF1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C19752-1BDB-400F-956B-579FB2B1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A3D76F-F92B-469D-BCFC-16D6F0EA7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922712-6F64-45C8-B1C9-C4BD55C3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AC389F-888D-43A9-B09F-547E2F3B5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E1C953-558A-4D53-A526-82633C6D3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E6327E-5E50-4472-9449-CB5EB0D6C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F93254-DBBE-47AC-B41C-4CC1B4F00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5C81C-6304-4A2A-9F97-A2CB8A2CC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E7EB28-8746-4E95-8765-16815E90E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6D4DB0-795E-4990-BA29-B17FA3F51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48BA34-75D2-46C5-A70D-725DE6236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478562-BB9C-4B85-849A-524AC09D0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7E5352-00C2-446F-AB2A-7BCBC73BC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EC94EF-62BE-4C68-8303-BED3C081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BCB6B6-444F-4A1F-B56B-97A76494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EAFA35-C2E5-467E-B5EE-102E2700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787C5F-1405-4FDA-9C8A-C9EEF7DA0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B37F04-E101-4037-9DBB-DABF90424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7698C-9B92-47B9-AE46-338C74B97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1ED4D3-7434-41DE-B6BC-3A958A2D9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6E4B40-5175-40E4-AAE5-797ED0C95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490A37-2B5A-4AF9-AB39-395E89BB2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ECD12C-C65B-4C83-9BCE-260BC4086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3D30D1-ACE6-47E6-B5E7-E12F7297D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A5C6B9-267B-4689-8ECF-F20F4026B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1CCF98-F138-4A81-A6C6-86F7EEF3A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A21AD2-F6F7-4A17-BF7D-B5CB8F2E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F9F8A4-5BCE-41F5-BCA3-D2AB8638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0C7814-EAC1-4D9E-84A1-A15D74CA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F27DA-3BA9-483B-85A4-5AF47B9A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4FC24C-B0AC-4C77-A23A-DCE75F4AD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449E0A-96DF-4AB0-B230-5A0938D16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D3A380-3611-4972-A652-36C9FC015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BC76E0-E898-4E6D-A5BF-F03030CAA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5128C2-50D8-4773-B7F5-8325EB589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BBFD7B-7441-4452-9FEE-B90157F5A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EDFE03-1CB1-4CE4-B99A-27AA8DABD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7D0A50-D294-417B-9B33-7ED1104DF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37A82E-87DC-4CD1-8EF2-AD0884AB8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4B5164-7C42-44A0-8B1B-B284B6DA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D46F-927E-475A-B29F-361D54943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7DA0B-BAF2-4931-9DA3-A98FEAAB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BCD69F-400B-43FD-8250-E0007195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0D1196-C307-423A-9DD5-E2CE5846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789365-99D3-4F3D-8E70-3E2F7A29B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09B060-C891-42F9-8E02-76941B55D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A05B5D-600C-427F-A1B8-33B136F39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CE642F-74B9-4589-ADE3-FF4DB0588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451EEA-DF42-44F0-AF42-418449000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67F046-994E-4C5A-9B50-D18255B67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5BCC98-5F0D-45BF-9A16-97FA1C6EF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5B5B31-9E78-46F8-BC44-7E2EBA282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6876A-7325-4960-A552-FFBBB6AD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AD99FD-E11E-413C-8D06-7BF93EBDA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377C23-B0E8-402A-B378-815FC0E7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6CBE7D-B922-4C4C-85C7-E5C9DD5B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CC7E7C-3AE0-4CBE-A5E5-D03E6954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CF4D6A-B0C2-4D00-91CD-B4E68CF57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6AE7C9-486A-4827-BAFF-317A4570C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61D358-CB52-4D0E-98F2-2DDCFC2FA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FBE85B-FFE1-45DB-9644-7C5ACED2D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9072A6-18E1-4AB3-9E9F-780ABEAF0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D22F95-74AF-4E82-A6B1-4C2BFA5DC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DD7AD-0420-45C1-A1B1-C811E0EFB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C020FA-E7E3-421D-A00B-C47902F46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A213BE-B308-4528-A271-FF6B4579A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E9C805-D0A7-4A55-AED6-CA7AE69DC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B7F788-94A6-4EF5-A26C-FB69D93B6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95D363-E024-4F51-8489-DEB762E0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802AA0-4BB5-4E81-BE0C-0AFA2384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5CFC09-0C2C-4E3A-BE51-8B5DD4AF1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8F50E4-A3B7-431C-AA21-16F6DB922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160F1B-B7D8-4998-9BFA-1320A0D82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8EBFE6-578C-4B5A-9A24-6A82F0725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5E775-B5D2-42F7-9E6D-79DBF78CD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6EE1F2-2F59-4FC9-B0C5-B01FF4D83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17AC9B-33D7-4AA5-8507-1EDB773E5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C517A1-A9E5-4773-967A-BE34BCCA9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A81A84-C344-4E05-8FC7-2DB7E7020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5FF8D0-9E7F-4A9B-A050-18A55CBEF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4A4ACE-3083-4090-956B-DC291867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D4AB7A-C0DF-49EB-9955-48F3EEB5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ACAA73-F67B-4675-B8D8-2CD1918E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19F0CC-8CBC-4BA4-B16E-63411EB2A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140B78-87C7-4B49-9ECE-75E06B6BF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5C937-0B77-4408-82A2-454C5CE0F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94322F-4CBD-4B64-9956-39D481F8C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59315D-6D16-45FE-8476-61D2BAE0B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FD8914-8E8C-46E8-9C57-4D8DBC894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50B428-5FA2-42E6-80CE-126E37C2B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F11948-1504-4340-8A88-3C639B6D1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56D9E4-0BA9-4854-A3E2-DFCD33EBA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67D978-283E-49ED-AE5A-E9590EDE6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C9DE98-1932-48B4-8E0E-79C9E0DC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EE34A3-65B9-4832-BEC2-C784797F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65CDF4-4D81-415C-B308-895A247F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C9928-7B4F-494F-B154-983A41B57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841867-9B0C-47CC-8C41-50918C985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EAFFFE-6627-46A8-AC19-B21970156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49F128-AEA0-44D1-B9FF-A71EE16F6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4C386C4-1E45-41AA-9418-5504F82CB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E000448-1B76-4C22-8D94-6EE6FCD98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6E8272D-9BA4-4C59-9444-51DF18840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B3DEA61-A2AB-4FA6-AFA0-6A15219DF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4AA5104-0C36-4ED1-A8E7-C215C5629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F2E7E7F-0406-42E6-9134-0B57B2728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E99BE3A-5267-4E90-835F-2BF07B1C2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27BCB-A6E5-482E-9E5F-B8332198C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F56D476-7D7A-420E-A985-93E2187E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9CF5483-99FE-4AEF-9475-580CC1E5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CDF47E3-AE4F-424E-8E74-0976D0A11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700557F-CDDC-4139-A2F0-77252AD2C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856D335-3211-4F92-B421-48B1E49E1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1555B9F-076D-438E-AD2E-DE9FF58A1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34B1CC3-3B14-4C59-8531-95BF5E59F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68CC51C-88E4-49AE-B9AD-F1CE1FF73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28590FF-209C-474F-BAA8-BB6E4920D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5923D9A-D6B9-437C-BFE7-404942CB0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28FA5-9C9D-4C19-8B2A-6E66D2CD7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719A88-4D34-45BA-960D-CAB199740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A2EA3F-C52C-4D11-AB70-F14392D1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9958A7E-1EAE-4175-A4D0-18AF8A16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B0B8CB5-7C65-4AF6-A712-26B828B5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BE22BBA-0FE4-4CE2-9C92-331F8E541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BABE5C5-F19D-4C8F-A925-F22CC7756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B76E523-93BE-49C0-BB6B-51B6F9B72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D387C-772E-4BF3-9647-B882BF4CE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F0829-4890-49B5-9238-F4948C62F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45BD-F5C1-4A0C-A286-3E858ADE4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2BE49-636A-4C98-898F-81E55C561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B0250-64EE-4141-BC5A-F16EFFDF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20F66-90BB-4590-B286-16478874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38469-4E89-41F2-BE3A-22A7F3FA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5E02F-E84B-427C-99BF-153A02ADA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27D0E-216B-4C83-9A43-49A2FB3DE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C5D57-329C-4FCF-9704-26090E6CC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5F753-B05F-4A62-89AB-21E15B28F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C1949-DECC-449D-9CC5-CF1E34980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2CC5A-16BB-4E95-B628-0E61160C6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430F-CE6B-4BC7-B630-D52521B27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033FB-82A8-4711-9DCB-3C1D47650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97E9F-64DA-4A94-A048-884CC70C6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DE846-4C55-4958-9895-10064949A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51735-BBDB-44A0-9D55-8A6CB224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A2E93-B031-4A68-B28D-A1AE5C2E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EC92C-FB12-4424-9207-A80FECE3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F457E-CE4E-4EB2-B392-869C20E51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01048-F91C-445F-9762-706EC49B0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0401E-4811-4927-95C8-8869E5A79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7F45D-2E04-468D-A1E7-2B7D62CB5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C3EC-2235-4DAE-90CA-AA02B4141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CC5DC-B76A-4F35-B94E-C6CB78543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27213-D4BB-4311-938B-8F589BCD9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D8DED-ADD8-4A30-B6C5-CEB3E47CF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8288C-1567-4181-887C-EFAC46E57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FE1EA1-D991-4B9A-8B97-89076BDC7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AB6CD-954B-4837-9E19-F4B768E8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30379-A366-4941-AFA5-657BC981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D3B73-8923-4B8B-8136-F933906B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4E2B8-694C-47B3-B735-457917632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40B3F-F656-418F-8592-297390D72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6411-F424-4E24-9373-F7BE09202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EF465-31E7-49EA-90B3-4E39E5B4D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16F90-961A-4730-9AD1-7B1933CCB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7336B1-6115-4E71-B847-ED78D27AB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20248-0B0E-4107-97D2-0556C5A5B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E5A0FB-0863-4813-AE29-5728BC23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F54E8-DE26-4022-9E5F-2FC0B7971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AC01C-928B-480F-9B4F-8F62195E6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64C76-A0DE-4004-AA03-5E99ECC2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85772-7218-4883-B168-54DAF3BC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B58607-EE1C-47F3-94FF-E8245B71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5AFB-EC6E-491C-A421-3A0C897B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D3B0B8-0505-48C9-AA5F-EAEA2C93F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C87A0-6D10-4DCD-AE9A-4FF310350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FF3DE0-5078-4071-A705-E2013A673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EB603A-89F1-413C-8B71-5297470D0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A71C75-9114-4655-A17F-9923E306E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41CF4E-12A8-411E-874B-726244CC7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8EF74-EE93-4116-92DB-6659963D5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CE670-0E9A-4172-A4DF-1382AEF6F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40B1DB-2A8E-4F7B-A73C-8BA465AF7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717E0-1AF8-41C0-905B-CF61C31F2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8956-C64D-4450-8AE7-7CC2201C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1BDD53-6D52-43B7-AB79-D45C2099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C5D8E-FECD-4032-93E7-E9B69F26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EE64DE-31BE-4223-B214-B46FEC9F5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A67242-4DC3-4584-99EE-BFA426D2A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B892C7-1A88-4BE9-A7D1-D973C9BB4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0329DF-96CC-4579-BD36-2B762567E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B2CD61-498B-43DC-95F0-E404D9279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935AE4-6984-444F-A4F9-17251BBF0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0D1FE4-18EE-49BD-B145-FB39AE03E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152AB1-5D1F-4720-A55E-6C69B50B8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4224-E576-401A-A017-B8CF8F64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713808-094B-4269-B0B8-2568464B0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2C9299-40C9-4B3C-BA0F-08EE036F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070CC9-CD93-430A-8F95-86BBA6BE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C2079B-D5E9-47F8-807B-0FFE8043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3C53A1-CEC1-4BAD-ADCC-D48E48F81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5697F5-DF5D-4C4A-989E-B49E84C0B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D5C31C-BDE2-45BA-B85D-FBCFA608C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CBA269-0034-4C21-9E19-FFBED976B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B14139-CDD5-4D8A-8945-EE4225CCE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4269BE-DBEB-4E5C-8C04-4CF47BF0D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A61F2-7E73-4AEF-BA29-311D82B9202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71071-81CE-4129-BC07-B064449DE2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A2040-C2ED-479D-80D7-FB77F6AA24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D591A-EDF7-470B-A4F2-2B3A300E55F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7B90D-FFFE-45DD-B4E5-FA48E819B1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FEF82-E5E3-4BBB-BC47-DFF832684C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FEF46-95F4-4968-BE24-77B8864EAD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B1750-07B2-4098-B241-28B4818ED7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05EB1-F223-4E13-AA7A-5BBB1FE6CB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F37D7-11ED-4E74-A886-DB5D779297B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25E5A-A197-4328-A94C-252665222A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0D3BD-BBDC-4760-AD55-FC88B0A693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DC5A7-6034-4374-B5E7-AED257DE9A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79A9A-DE09-40E2-836D-71627C7146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D103A-86A0-4B3E-9A27-CC2D2CBED7B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3689C-4C92-446D-ABF7-94495AB09E0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FA488-BE99-4D9F-BF55-B3D1C27E69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07EF-6B3D-4F2B-85B2-EA78E4A146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04AA6-8206-4996-80DA-7640551B6F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73ED4-9CAA-4AFF-93E8-7025BB8C0E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AD81D-343C-415A-9A5D-78CEE48252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24EE6-327F-4548-BD50-BA6A007752A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5F87B-66F3-45FD-B306-D9DB4D4A1D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F76D8-67CC-4E9F-9D90-C20A5CB13F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46AD5-6D68-4C15-925B-5A8B6FA9887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4411C-F3E6-4FEE-B5C4-2A37497FF9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EA2BD-F9B7-4B57-900A-ED631C71C7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0C954-AB51-4666-B11F-FDA418F841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D2565-1BF8-4116-AD16-76B8E552D0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46B14-686C-409A-AAD6-E13539BAA3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EAEF4-1AFC-4051-9B14-A8A67F2A06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F9205-70FE-4258-A225-F3ECBDC01F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54744-E49E-4D12-AFAF-A31E6FF94AC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0C2B5-BE68-4FED-8CBE-AFE420CD9DF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BAFD0-501F-4D02-975C-EB58DC7C3D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C2FB1-53DF-4A1B-8818-10320C144C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22A7A-98D6-41AA-B7A0-B4D17EEE51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CF619-4FE8-4D0F-BE96-BCB8BFCAA5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58E3F-042B-4AAC-92DC-E284BA78F1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FE578-17E6-4CB4-BAE4-7C267157D8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FCA11-DE30-413A-B993-F45C68D767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C3696-6CE7-462B-8305-64B280A6F3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23760" y="2143080"/>
            <a:ext cx="90964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209520" y="942840"/>
            <a:ext cx="8724960" cy="557244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2700360" y="1916280"/>
            <a:ext cx="1338120" cy="4249440"/>
          </a:xfrm>
          <a:prstGeom prst="rect">
            <a:avLst/>
          </a:prstGeom>
          <a:ln w="0">
            <a:noFill/>
          </a:ln>
        </p:spPr>
      </p:pic>
      <p:grpSp>
        <p:nvGrpSpPr>
          <p:cNvPr id="1008" name="组合 6150"/>
          <p:cNvGrpSpPr/>
          <p:nvPr/>
        </p:nvGrpSpPr>
        <p:grpSpPr>
          <a:xfrm>
            <a:off x="5651640" y="1801800"/>
            <a:ext cx="1657080" cy="3917880"/>
            <a:chOff x="5651640" y="1801800"/>
            <a:chExt cx="1657080" cy="3917880"/>
          </a:xfrm>
        </p:grpSpPr>
        <p:pic>
          <p:nvPicPr>
            <p:cNvPr id="1009" name="Picture 1" descr=""/>
            <p:cNvPicPr/>
            <p:nvPr/>
          </p:nvPicPr>
          <p:blipFill>
            <a:blip r:embed="rId3"/>
            <a:stretch/>
          </p:blipFill>
          <p:spPr>
            <a:xfrm>
              <a:off x="5651640" y="1801800"/>
              <a:ext cx="1338120" cy="280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1" descr=""/>
            <p:cNvPicPr/>
            <p:nvPr/>
          </p:nvPicPr>
          <p:blipFill>
            <a:blip r:embed="rId4"/>
            <a:stretch/>
          </p:blipFill>
          <p:spPr>
            <a:xfrm>
              <a:off x="6732720" y="4292640"/>
              <a:ext cx="576000" cy="72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1" name="Picture 1" descr=""/>
            <p:cNvPicPr/>
            <p:nvPr/>
          </p:nvPicPr>
          <p:blipFill>
            <a:blip r:embed="rId5"/>
            <a:stretch/>
          </p:blipFill>
          <p:spPr>
            <a:xfrm>
              <a:off x="5651640" y="4998960"/>
              <a:ext cx="1441440" cy="720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2" name="图片 1" descr=""/>
          <p:cNvPicPr/>
          <p:nvPr/>
        </p:nvPicPr>
        <p:blipFill>
          <a:blip r:embed="rId1"/>
          <a:stretch/>
        </p:blipFill>
        <p:spPr>
          <a:xfrm>
            <a:off x="733320" y="2266920"/>
            <a:ext cx="7677360" cy="232416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2"/>
          <a:stretch/>
        </p:blipFill>
        <p:spPr>
          <a:xfrm>
            <a:off x="2627280" y="321300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3"/>
          <a:stretch/>
        </p:blipFill>
        <p:spPr>
          <a:xfrm>
            <a:off x="1476360" y="3645000"/>
            <a:ext cx="13669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5" name="图片 1" descr=""/>
          <p:cNvPicPr/>
          <p:nvPr/>
        </p:nvPicPr>
        <p:blipFill>
          <a:blip r:embed="rId1"/>
          <a:stretch/>
        </p:blipFill>
        <p:spPr>
          <a:xfrm>
            <a:off x="257040" y="1604880"/>
            <a:ext cx="8629920" cy="364824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2"/>
          <a:stretch/>
        </p:blipFill>
        <p:spPr>
          <a:xfrm>
            <a:off x="7956720" y="2349360"/>
            <a:ext cx="502920" cy="44784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3"/>
          <a:stretch/>
        </p:blipFill>
        <p:spPr>
          <a:xfrm>
            <a:off x="7956720" y="2997360"/>
            <a:ext cx="502920" cy="44748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4"/>
          <a:stretch/>
        </p:blipFill>
        <p:spPr>
          <a:xfrm>
            <a:off x="7956720" y="3573360"/>
            <a:ext cx="502920" cy="44784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5"/>
          <a:stretch/>
        </p:blipFill>
        <p:spPr>
          <a:xfrm>
            <a:off x="7956720" y="4149720"/>
            <a:ext cx="502920" cy="44784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6"/>
          <a:stretch/>
        </p:blipFill>
        <p:spPr>
          <a:xfrm>
            <a:off x="7956720" y="4724280"/>
            <a:ext cx="5029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图片 1" descr=""/>
          <p:cNvPicPr/>
          <p:nvPr/>
        </p:nvPicPr>
        <p:blipFill>
          <a:blip r:embed="rId1"/>
          <a:stretch/>
        </p:blipFill>
        <p:spPr>
          <a:xfrm>
            <a:off x="561960" y="106200"/>
            <a:ext cx="8399520" cy="664560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2"/>
          <a:stretch/>
        </p:blipFill>
        <p:spPr>
          <a:xfrm>
            <a:off x="2124000" y="3341520"/>
            <a:ext cx="4319640" cy="44784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3"/>
          <a:stretch/>
        </p:blipFill>
        <p:spPr>
          <a:xfrm>
            <a:off x="2050920" y="6135840"/>
            <a:ext cx="43196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609480" y="177840"/>
            <a:ext cx="7661520" cy="664524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2"/>
          <a:stretch/>
        </p:blipFill>
        <p:spPr>
          <a:xfrm>
            <a:off x="1403280" y="2851200"/>
            <a:ext cx="3097440" cy="44748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3"/>
          <a:stretch/>
        </p:blipFill>
        <p:spPr>
          <a:xfrm>
            <a:off x="1403280" y="6267600"/>
            <a:ext cx="30974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图片 1" descr=""/>
          <p:cNvPicPr/>
          <p:nvPr/>
        </p:nvPicPr>
        <p:blipFill>
          <a:blip r:embed="rId1"/>
          <a:stretch/>
        </p:blipFill>
        <p:spPr>
          <a:xfrm>
            <a:off x="181080" y="957240"/>
            <a:ext cx="8781840" cy="494352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2"/>
          <a:stretch/>
        </p:blipFill>
        <p:spPr>
          <a:xfrm>
            <a:off x="1187280" y="2997360"/>
            <a:ext cx="4537080" cy="4474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1042920" y="5445000"/>
            <a:ext cx="4537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图片 1" descr=""/>
          <p:cNvPicPr/>
          <p:nvPr/>
        </p:nvPicPr>
        <p:blipFill>
          <a:blip r:embed="rId1"/>
          <a:stretch/>
        </p:blipFill>
        <p:spPr>
          <a:xfrm>
            <a:off x="295200" y="52560"/>
            <a:ext cx="8553600" cy="67528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2"/>
          <a:stretch/>
        </p:blipFill>
        <p:spPr>
          <a:xfrm>
            <a:off x="1116000" y="5041800"/>
            <a:ext cx="3672000" cy="44784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3"/>
          <a:stretch/>
        </p:blipFill>
        <p:spPr>
          <a:xfrm>
            <a:off x="1116000" y="5661000"/>
            <a:ext cx="3672000" cy="44784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4"/>
          <a:stretch/>
        </p:blipFill>
        <p:spPr>
          <a:xfrm>
            <a:off x="1042920" y="6237360"/>
            <a:ext cx="3672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图片 1" descr=""/>
          <p:cNvPicPr/>
          <p:nvPr/>
        </p:nvPicPr>
        <p:blipFill>
          <a:blip r:embed="rId1"/>
          <a:stretch/>
        </p:blipFill>
        <p:spPr>
          <a:xfrm>
            <a:off x="576360" y="1398600"/>
            <a:ext cx="8342280" cy="1787400"/>
          </a:xfrm>
          <a:prstGeom prst="rect">
            <a:avLst/>
          </a:prstGeom>
          <a:ln w="0">
            <a:noFill/>
          </a:ln>
        </p:spPr>
      </p:pic>
      <p:pic>
        <p:nvPicPr>
          <p:cNvPr id="1035" name="图片 2" descr=""/>
          <p:cNvPicPr/>
          <p:nvPr/>
        </p:nvPicPr>
        <p:blipFill>
          <a:blip r:embed="rId2"/>
          <a:stretch/>
        </p:blipFill>
        <p:spPr>
          <a:xfrm>
            <a:off x="1233360" y="3568680"/>
            <a:ext cx="7029720" cy="229572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3"/>
          <a:stretch/>
        </p:blipFill>
        <p:spPr>
          <a:xfrm>
            <a:off x="3290760" y="18446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4"/>
          <a:stretch/>
        </p:blipFill>
        <p:spPr>
          <a:xfrm>
            <a:off x="3348000" y="231948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5"/>
          <a:stretch/>
        </p:blipFill>
        <p:spPr>
          <a:xfrm>
            <a:off x="5651640" y="1844640"/>
            <a:ext cx="502920" cy="44784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6"/>
          <a:stretch/>
        </p:blipFill>
        <p:spPr>
          <a:xfrm>
            <a:off x="5364000" y="23493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7"/>
          <a:stretch/>
        </p:blipFill>
        <p:spPr>
          <a:xfrm>
            <a:off x="8143920" y="1844640"/>
            <a:ext cx="749160" cy="44784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8"/>
          <a:stretch/>
        </p:blipFill>
        <p:spPr>
          <a:xfrm>
            <a:off x="8272440" y="2349360"/>
            <a:ext cx="749160" cy="44784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9"/>
          <a:stretch/>
        </p:blipFill>
        <p:spPr>
          <a:xfrm>
            <a:off x="3348000" y="4278240"/>
            <a:ext cx="749160" cy="44784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10"/>
          <a:stretch/>
        </p:blipFill>
        <p:spPr>
          <a:xfrm>
            <a:off x="2973240" y="4869000"/>
            <a:ext cx="749520" cy="4474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11"/>
          <a:stretch/>
        </p:blipFill>
        <p:spPr>
          <a:xfrm>
            <a:off x="6732720" y="4221000"/>
            <a:ext cx="749160" cy="44784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12"/>
          <a:stretch/>
        </p:blipFill>
        <p:spPr>
          <a:xfrm>
            <a:off x="7093080" y="4869000"/>
            <a:ext cx="7491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10:09:05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