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8C1-D2FA-4BE2-B33B-D410CDAB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89D-AA0A-41A0-914F-C715E08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1945-548A-4C04-ACFB-E4D58B6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3AA57-71F8-4F2C-B316-41B09FF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15A8-587A-476A-A3E2-DE4AD2C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0E8E-2C84-4298-B5CC-E51692E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A0845-5DC0-4677-8F97-9614CB0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C591D-C767-432D-A194-A62474D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DAE28-311B-48CF-8EDD-B8BEDCFF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2B2B7-6BC9-42DB-A7EA-84D3933A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4A51-DB35-4A9A-B92A-F7E1A96C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C26DA-12AA-4ED3-B160-F9BE1EB4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A39-240E-4E80-8CBE-6C1BAEEB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68D7C-BACE-42C4-A5DE-A45A4A4A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BDA2B-1DFD-4BEC-B28B-D4B92A13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D876E-6BDB-4393-8DA1-A8A101B1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B9D77-7D6A-4A3B-AF4F-3AE3326F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71E0F-0C3C-4FED-9725-CC8B0DF6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AFA9-604A-45E9-BDC2-EF971C9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FC6FB-0900-4511-86B7-244E35D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98187-AD27-4CD3-A5B8-0616E65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1D766-4B17-4FF0-9AEC-BD27B036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2BC3F-C082-496A-BC84-3DDEAEDA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130-0851-43EA-8A7B-42118BD9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522F8-5C85-4B77-845E-2F19FD64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9F10F-6D4F-4CB9-8579-69E28B45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AE9E6-3142-4DF3-AD2E-8A682BC6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1F660-E645-4575-A1D6-75A6B2FF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ED56-02DA-429F-AEE2-39403735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915D9-2940-4674-B779-E0584FB4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6F34-2FA6-4EC9-A633-601466A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F3640-F386-4931-B286-6D0F3C9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0C6A-AD43-4551-B222-6D3AF10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6D7A0-D948-4BFC-9335-1CEF5E7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7682-F2AE-4F49-B177-C1224A1F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0C637-1AAC-46A5-A324-3F2E20FF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3225-1182-4829-B401-F0A5425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CC6D4-9FAA-4FB9-9CD6-07F42BC8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82C4-8F69-43DA-8FC6-0B73BE72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DFB0-4A3F-4420-A74B-37FFFB6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21895-1F95-4A80-B9FD-A6577F4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53BFC-E91D-444A-87CA-CD7AFF0A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0F478-100D-4BA4-87CD-DD94893E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535E-C8C2-4BC1-8AAC-87D1AF3C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0154C-4B5D-4DC3-BF63-28B01630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2482-FF9E-40E6-99E7-71E32ECE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BD45-1D55-4EFB-B014-EBEEAE3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3639B-7983-4D2F-B1E1-B8FC433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2B14-B106-41DD-81CB-8385F58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83B20-BA4B-4FF4-BC49-3677C858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665BB-21A1-4DB2-94DE-67B8B5F0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ED01B-76BE-4BE0-B61F-52581C03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D4673-3FB5-4D30-B5D5-1ED478A2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03C8B-DDCF-44D8-BA8D-6008DB2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7349D-C5D8-437A-8E03-8863D5D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40F78-597D-4BE6-8C32-A6217E5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00C2-00AD-4302-9C02-9C73A47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53961-7619-4238-B0F3-B79C154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55A6C-B175-4020-AD67-F2CE030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B4169-32D7-4928-8A5D-3371FDE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03BB2-E478-4967-9C4E-9028392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AA937-45C3-4A38-93E3-3CCB5BE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C39D7-1355-4E9A-AA3D-8502F1FE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20995-32A5-4A61-8C74-E13ABBEF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6CB47-9783-4FD8-A5BB-C08027A7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CBD7B-2854-47F7-BEC3-FB17AFD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F5F1B-6F1D-4FB8-B7FA-B18CA2C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3654-8609-4FB8-A761-80E95D7F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DB361-1211-4E6C-A6EA-3EC7656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F67F7-8B3E-4A6A-90E4-DCEDB44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ADB87-CC5D-4E1B-B119-DB5AD1E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E3B49-E4CD-44D8-B6DF-4A485D6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43ED0-C6D9-40FB-BD4F-A9653DD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67F85-8D4B-4B0A-BFF6-1F0BC04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1D2C9-F8B1-4EAE-828B-C6A833A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92864-9497-4F41-AD44-7B5F8205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882D4-85F4-4EB9-9331-60B01C0C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061EC-9C8E-4492-8E35-9A6249E4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02CA-5360-4EB2-95F9-C5DF17F8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0673D-6702-4CBF-B695-D28590CD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F3B54-5F36-42D3-A381-2301BD0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44503-97C0-41B8-B175-ABB448A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60370-ED65-4909-95A5-711BF73A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8724C-63AA-45C5-B43E-E8CA5B5C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F702B-D4E4-4F13-8740-B5C30A7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017BD-A075-4E42-9E3C-17C2ED3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7B8CC-C522-4BD1-9ECD-E7D5018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1FC78-AAE9-479B-810D-B86BACF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7A71F-8074-4CE6-873E-2F1F5AAA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1B6-CE5A-4B57-B3F4-102B336B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A7183-B338-413F-8C9C-07CE69F8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389CA-5548-437D-AB02-7D4B8FD8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2492B-9E3B-4CE6-A2AB-86CAEAAF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FAFF7-C84A-4C99-A733-561D69B4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46068-4727-457C-BC21-A245023C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6D306-D365-4372-9ED5-4A8C096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A19B5-CF77-4662-B9C6-87F38AF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33FA1-CF3C-4132-8109-FD15BAC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EB7AD-2B4D-4661-9313-26EAA9A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3F762-71FE-45A0-85FC-E7EF61B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6545-6E8F-4840-81A6-B7AA656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20AE7-987A-4E13-A231-8C585BCF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D5BC9-4885-43EF-9B7F-B1BC21F2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1C693-93D3-46CB-9C08-3A22EDD7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60140-B5E7-4E0D-86D4-C5D2DAC4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0E29F-F773-40DB-9735-12991C24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D9E43-119E-4BD1-94DF-14FA218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63B01-9DDE-473C-BE14-3FFC271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C3C56-BAB1-4B59-AE51-CDAB76E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7241C-9720-4197-A4CC-C1A6586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C0094-796E-4C22-AAA6-683358B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753-EEB6-41E3-A273-1D44947F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4CD6-2E1A-448C-91B3-E3D28D9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34DDE-DD3F-4EAF-A6A7-DB68B1D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92F85-DEA5-49C8-8063-72196BD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482EA-0113-45E3-A59F-C57A2F83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23A6F-F511-4943-8362-4475DCDA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AE3BE-CE0E-456E-81D5-D3CA5B33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FB827-C7E6-45AC-AC8D-0B006A48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0C803-53CD-4AEB-BCFB-09E4C4F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A438E5-548C-4E9B-9555-5231DD9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66C19-AD33-4BC9-A7F9-4553676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3DB40-9330-4618-9CB8-DAC8590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C603-EE60-4510-A2B5-F1B3800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10959-0182-4BC8-8337-2F9EC4A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D607B-D48F-445B-B6FF-E2D2BB7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AEE64-96BE-434B-8E59-E40B058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4B88B-20C9-4094-9E72-86E50B8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06945-20DA-4E23-A053-91FC875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5D42C-FAD1-41AF-8D65-E59D6FBC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5C849-2257-4A60-BE00-ACD09810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B8F20-441F-4249-8090-6AB76533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2CAFA-F1D9-4106-98D9-0F0B7E3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4C2E9-00EA-41AD-AEC1-2C486C4D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5B5-2176-4499-9813-74AEB8A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4C057-A2DE-48D0-905D-115423C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26001-7F01-4952-AB61-C5E8207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71481-5A82-485B-A687-1E0BE18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66C0F-D345-4FE4-857B-36A9ECE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5C7B8-C2A0-4289-8238-8C3C53D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AC91D-2F35-4ED0-8B8E-AE9FBEB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21E0A-0AD3-41D8-A927-CA5404B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16055-45F6-4908-AF88-86B2904E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DC172-23A5-4500-A02F-C26C08BA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E0C5C-AF74-400C-BA3F-A55A2268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E20-B42B-47A7-8B75-09957755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2E7CF-D49A-440C-9EC2-5492ED11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9FC82-8115-4426-8F9F-8FD9255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325C5-55AC-4D5F-9647-BD32901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1AE74-F65A-440F-8D9D-D9D5BB9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87D32-608B-4FBA-B653-5654F3F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E851E-FA57-40AA-935F-B554814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D9B8A-7535-4B6E-89B1-84AFC13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D19E6-DE5F-4904-B82E-5C9596FA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3B94B-A384-4910-AF76-F0722A1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977D6-296D-4B85-ACBB-70D9A36A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F43A-D186-4C25-83A0-43B67ACC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62947-3E0A-4C89-9F0B-EDA89880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9048B-A990-490A-8102-2DF39AD2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5DF1E-4966-446F-A91F-4FAE6567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DE9F3-DACC-4683-A9E3-AA78C6C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70C95-19B5-4C92-A4C1-EC5C26BE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ED783-E33C-4A49-A98D-E7A9285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6AED4-DA5C-491C-880E-5363BD6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99C30-1257-47AB-9697-6B54391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55527-271D-4E4F-AFFA-3E9A8E3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8443F-97A1-4EA7-AA82-7B2389C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15E6-FA1E-49BD-9050-134BE7C3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D838A-D09D-4202-9E63-63511C93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AA7E8-D85F-4FC6-BFE9-C09F690E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65818-675E-4C5A-B2C9-39381DAF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B4CEE-1780-418F-AC41-06924ACF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3DAAE-A77C-4EE3-9F93-72D6EEC9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E98BE2-6D3A-42FB-AC79-85CF36C0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19162-12F4-451C-8546-565DCD3D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7BC54-8D43-4923-9C14-2877D24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B5845-0C67-49B1-A747-52E33FE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7A839-1547-4E75-904B-12C77B7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3A81-0A7D-4881-B94C-A6D2D5A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E6BD53-F323-415E-AE9E-AD9AE19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59082-3AE7-41BF-9A06-A0F8D6B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D5EB1-28B0-492A-9F2B-E6E096E4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CE7A2-9A34-4B23-A7F5-DF6F3E61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1FF41-48DD-4C0A-B1D7-E2D90B3F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A7F03-13D4-42E4-9450-74514033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EFBE2-7A18-44CE-BC6F-D42C25F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C27D3C-2623-4CF0-919F-9AD9DFA3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40F9B4-AE49-470A-8AE2-0C0A89D1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46417-B384-4DB6-8F51-F283E4E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B0A7-AD4E-4085-92CE-E547D946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98FC57-1BC9-437B-A0EF-30C722B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CFD7EA-6DBF-4ED6-99FB-3FC5B0D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B1139-9FA0-40C8-9FC4-3CC9BE9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D0B01-8DD4-47B2-8051-812EA15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EBAA15-E996-488C-BEE5-05E9B70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FB54B9-B624-4389-B5FD-FDED172A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33C17-1069-4D44-993D-08D149C2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95BA-4CA7-4B98-9CB2-A3D299C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D000-4B9B-4C49-BF50-6970902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068-1F02-4BF3-88DC-4274CB5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1742-C7D6-4EBB-A4F6-F1D71EB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2091-23EA-47D0-8DA5-20E3D17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15E4-D56F-425A-899B-24FCE8B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1874-B6B0-49DA-A814-09F0B97C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2ECB-3FCD-4ACD-9E28-613656EA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E666-05DA-4329-A59E-08A1FC0B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F123-D059-4D2B-B33A-673DFB06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759A-7C36-4CB8-AD33-8B01F967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8B6A-BC9A-4755-8D2A-A550A2F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2EB8-F94A-438E-BFA8-06D0190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2B7-167A-42B2-8494-3F1F1A2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0F73-C62C-4D24-B906-7C48B95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C1D2-B7C2-423E-83B3-0A297C8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CBB0-2890-48F7-BE3D-3238E87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5E06-88A3-415B-A5C3-BD383A5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8C73-7B22-4919-BCE6-8EF16110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BCF83-31AA-4713-8F2F-A94D674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AD9A-BF90-45C4-8CE0-65A1BCA0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14F0-B183-4A2A-8E6E-CDDF8518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CAA6-6138-42BF-BFD5-A90F6A78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D0AB-F00E-4189-8A84-F15E769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FF6-5260-4884-985A-3141743D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9D8E-18E2-4B59-8F03-E30BF97A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DE59-EB72-47EB-B8C0-AD75C199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4DF8-7F05-4E86-A782-E942489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596B-B1A0-44F4-A8D3-F8DC88A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35305-A485-45CB-93FD-DDFDA473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7971-0171-4C34-99F8-A87AF76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7558-CBA0-49AB-9E68-18A0121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56D6-0710-4C27-AA4C-41DFC20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AA91-22B8-4933-BAEB-5EEE1F7A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1ACF-0F49-406D-B92B-46DA458C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706-677A-4BA9-9506-53960AE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97C1D-C0FD-4885-AF19-89A1EE8D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6FF3-C551-4958-BEB4-FA6B6B0F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8033-C700-448F-A578-A384443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7C65B-70C3-4433-BC67-BC4464A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3A56-8190-4F5A-BA03-238363D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35BC-C029-45EC-A6C8-3727150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D3BC-D9EB-4B16-B9E5-43BC775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8692-E5A2-46CF-AA69-8AFB13A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FE71-8E44-434F-AF10-C7D5FB2F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B7B9B-8AC5-4B8D-A2F8-F684711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7BD-0625-40C0-9FE4-507E394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5CC2-7832-4CCF-8987-16FB87D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408A-6493-428B-941C-C8929A99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4A58-FA22-44F6-B724-EBA5F4AF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6A93-DAB6-4E82-BF6B-BDEDFED2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8F65-962E-4354-95FD-A9F5F536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2434-3D1F-4608-8D96-91C5551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0E91-CB5F-4D70-A08A-B6B5FF24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983F-9F0F-4248-9C9B-A014AB3C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F8DAA-B732-4D1D-9979-134AD75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996A-8F5D-4949-A818-8D03144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B89-8EC2-4134-A9D1-8FFC33BA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BE3B-CE23-4939-8E8A-0FD4997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83A2-6719-450E-9C07-6ACE389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169E-AF5F-433C-B570-6841A16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58E5-56F3-4CB1-865D-7412C518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44A7-CD95-4711-9A0F-5144321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31F2-C61B-4557-A2CA-9DE5E56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76E95-A62B-4A53-A301-A7CB06E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75EF-0332-4208-9C4B-76F6F2E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D2881-4431-45B1-B1F0-6D03586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A95DA-329F-4A47-B40E-609DD31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F87-B081-44B8-A80C-E78F3397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E5936-449B-403A-A298-818BC5D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65FA-1DA1-4E39-8AE9-A3E5B1D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0223F-DFFA-4A0B-87EE-6B48E3B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A5A4F-207B-4E02-9B33-C601E8B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4EAD-8411-44ED-9DE5-6D3DAE3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D6DF-87FD-4235-9B31-E83B603A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F396-E913-498B-9A40-8AB6C670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DA7F9-8766-47B9-8065-5569F292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E2B9A-706E-4C7B-AEC0-56F4113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47F97-042D-4E57-A195-A286D6A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D72-A8C1-444C-8ED7-B3B3D28D03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36D-8F55-4F85-A33F-737100050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87F-DFF9-4C2B-9207-B607BF296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7EBA-0628-412B-9FEA-8102F13D5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7769-2E4D-4865-89B3-99E883607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5E37-6A46-4E04-AA64-9AF9C6EDC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648-9D28-4C56-B903-2D21FED71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021-767C-4A8B-9EBD-13C2ACD21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443-C2F5-44EA-8034-2C8BFFD78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383-5E70-44BA-AEFA-F46BC31411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F2B-A27D-45EF-BF12-FB5F66696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FC7-A1BC-46F8-9874-61DD75F63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401A-B5B5-4981-B7DF-598C6C40F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FEF4-1AF3-4F5E-AF88-B4609BF3A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632-70E3-416C-8086-A10CA5C9DC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3A8B-F28D-4D9C-BE48-132CBE637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F593-C26D-48FD-85AF-48977C779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71B-2E04-4A98-8F0A-8253E71B0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2A3-7DD9-40DF-B283-22578509A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62B1-AAAC-4AF7-B8D6-E7B0D291A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753-4936-493D-B68D-32784E5F4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6305-669B-49EA-85E0-F26F6DB796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FE2-ADFC-4021-AA69-7B11EE559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C2F-44B5-4C18-AC4A-1580D46C0D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89A-CA41-4FAE-A2F9-401A025D0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1B38-6453-445E-923A-108C95CA9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19D-9656-4A2E-9553-9D1A1C9C4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87AC-A3FE-4317-BFA3-D8E3DC622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0A5D-DFEC-489F-B1CC-54822400A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C2B9-3ACA-46F3-91CB-3784BC3FE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7C6-59BD-4C22-BD02-A6EA6BCEF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873-0029-4099-8875-1BDDA193F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F6C7-90B2-49BE-9C8E-F55551984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64E-1774-4DBF-8E39-8831F41F9B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C98-D588-4DBB-A227-A6EE227AD3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64D-4334-41CA-B4E1-E691C0BE2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03C4-7326-4702-848C-45FA57AED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18E-B717-4747-9403-6E5E14A44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B3B-F3A7-4D65-8679-63CEB6F876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46B-CBD7-4E65-8395-C66344B47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188-8705-4D27-954C-B4B7153BD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D9A4-9C19-4450-9CC5-DEECEE9E4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0440" y="3089160"/>
            <a:ext cx="8763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4200" y="797040"/>
            <a:ext cx="8715600" cy="5981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58341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58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971640" y="5734080"/>
            <a:ext cx="58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900000" y="6324480"/>
            <a:ext cx="58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122480" y="701640"/>
            <a:ext cx="7221600" cy="6046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19280" y="43210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43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1476360" y="580536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476360" y="631044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414360" y="76320"/>
            <a:ext cx="852012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042920" y="5229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1042920" y="574848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1042920" y="63532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81080" y="876240"/>
            <a:ext cx="8781840" cy="510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332000" y="491184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403280" y="5516640"/>
            <a:ext cx="547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581040" y="1528920"/>
            <a:ext cx="7981920" cy="3800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042920" y="28368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971640" y="4495680"/>
            <a:ext cx="70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3280" y="52560"/>
            <a:ext cx="8677440" cy="6752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463716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172120"/>
            <a:ext cx="56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56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332000" y="6265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542960"/>
            <a:ext cx="8191440" cy="3772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42920" y="272268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442260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3360" y="1273320"/>
            <a:ext cx="9017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1379520" y="3760920"/>
            <a:ext cx="6896160" cy="2181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10356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5796000" y="1773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43564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323200" y="17445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8445600" y="227664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291636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059280" y="4941720"/>
            <a:ext cx="68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01200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2"/>
          <a:stretch/>
        </p:blipFill>
        <p:spPr>
          <a:xfrm>
            <a:off x="6357960" y="494172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