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780-617A-4FB6-942E-C9CA19CC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A26-7B7D-4B8E-BE2F-E960FC27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ACB36-969D-4A06-8165-B2C4C3C9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4A303-29C6-4FFF-998C-935B6C0D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19715-4A2D-42FC-91C5-D5F22551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93616-181A-4710-AACE-045B88A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201F5-0B81-48D8-B00B-18C6C5D1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331E6-D801-4F6B-9C63-67209189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83563-02C5-4E73-AEB0-304CB4C1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7ED96-DFDF-4E4C-B01F-8D56DF6C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FDBBE-F0D2-4C8B-9A68-571AD443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B0610-5DEC-4733-96A7-395AB748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609-D633-4E19-A29E-A427C706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E06A4-33A4-408E-9900-BC6243DC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0B1F4-EDAA-4242-9C00-C8007375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79AEB-25E1-4079-9A73-994CA9E0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A497B-77E5-443B-89D0-D86BBFBA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25318-0858-45C3-994E-B9EF01B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08A49-4C7B-45FA-91EF-52CA1B39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DA8EB-4176-4B03-9592-A8A68B91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BF8A1-D9E0-4FB7-BE89-104B5E49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4D2C9-D6E4-4AA3-89BC-27D9B4FA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CB4F0-7965-40D1-BE39-4536A3DE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1F9-A0B2-4A51-9842-589F0039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B77BE-0D91-4800-B1D2-238ECE66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D6B80-E6C4-43B2-87E5-378F399B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E54D0-75C7-4893-85AF-9CCEFDE4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05C04-183F-4FC9-9480-9065F874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F8A80-B993-4899-B40A-9EF19ABA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7F240-C610-4FF1-8526-9ED33A97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B35B9-6CC8-4FBB-B85D-0394407F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B3894-6BAD-4182-B1C1-9C06A19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F6D7B-6B38-49D9-8C05-2E7D907E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F5225-E2E1-4742-ABC8-BCB31AED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5325-E560-42F6-BE8A-11B4E4FA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47905-4607-40E8-A218-1AD82632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24B29-5954-40EC-B840-63660AC0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30EC1-1A54-42DD-8EE9-D45532FA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918B6-A5DA-4E78-BB2E-D01D78B7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0B14D-8F1B-43BE-994D-1144FA46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3BB72-6960-40AE-9470-95575F59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BA5B6-BC9E-413C-A5FF-9A62801D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FD31D-63FE-4E8B-B16A-4A0993AD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5EAF0-48C5-475B-ACF0-C38ED163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76C8B-90C5-4DF1-9A4D-D50B3BEF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3B44-690A-432A-B532-587B31D7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38E98-BC57-478B-90DA-A7122F53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A160B-699E-4A7B-8C27-80B551B3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D061B-7479-4CB6-AC67-8ED7AEFB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3A523-DC6D-4926-B3CE-4E23A242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E2FD6-95C4-4542-B9D9-E4B1E0A2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77C7D-95E8-4D79-B3EE-326C32DD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4B099-E200-4465-A145-36982DF3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8568B-C320-4A66-B6C5-C70AEAC7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72B8E-B246-49E8-807A-82A9DC88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07DC1-068B-4DF5-8707-1D3AAE84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DBFC-7EDD-44D2-9DC4-78C594B5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21A92-350F-444D-B1E0-59B54C85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D5C9C-61D0-4068-8A3A-E815384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FFEC0-04CF-4436-9DF0-36DFC51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D2B33-5109-4E99-90DE-3F04CDA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FB437-36EE-47F6-ACFA-087E4C74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3D669-3DD1-443C-B966-30880199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8EF0D-6461-4968-B4A6-15208872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289B2-EC50-43A0-822A-7D402802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56477-A4EF-4A75-A0F9-71E699E8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68963-D6FF-4FFD-B5C7-B1BC0FC3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BFA0-C774-4E52-87AE-6DCBF450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C7E6D-FD36-45BE-90CF-ECF45B90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5AD21-422E-418D-A600-C5B0695B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DB80D-862B-4C67-B242-4804FDD7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B9A0C-2949-4128-9446-DD6F496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71298-C3EA-4C67-9957-F632A3D3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87D9A-B7C9-4F17-9B8E-7859C618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A5042-8BD5-47E5-AB9D-C2618A7A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E00E7-B90E-4039-8C45-99C655AA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24E21-53F9-4932-B7D3-3182E63F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3DC04B-E73F-48A5-ADB5-AA3FFC01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9087-02FF-4074-8FA4-3EB1F3E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CED0D-048C-4883-B19F-EAEBABD7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460B3-9D20-481E-99CB-0B5A2D17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D7E43-9E59-4920-AD00-77CBB85C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2E42A-630E-4B4E-9FCE-1ABD95F1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703610-8F30-4DB5-B1B8-51A3764D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49B2E-CA46-4767-A393-BFEA206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AF386-5828-4264-951E-405EE1F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ABE31-8D51-4A74-B836-7F86FD5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B7F45-9A4D-4682-9A19-07C3244C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0E9332-74A3-4B32-87E0-62BABA86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BA2D-3C08-4AF5-9EE8-F6C3F682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53213-A080-4C8C-A555-AD743FB6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9AF9F-9492-4B04-9F41-B4DD8B6D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D5381-1090-448E-BD7D-A81C7753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1AEE7-7D10-4B88-8892-52983182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01D8D-DCF1-4A2D-AFF0-B4A92C44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8744D-E235-4DFA-8A51-9ACA7D04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E1CF4-B7EB-45CE-872A-12B73EDD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78FE5-CA33-428E-B9AE-8D856430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4C001-7210-4DD3-90DF-962EC2A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1D856-022F-449C-BA3B-7DB9F656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F417-C519-4684-8F95-CA6C6902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D7A66-93D0-442A-A335-3BE9C1C8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3B8FB-E4A3-4D57-8E87-408F287F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66B6B-84C8-4406-87D6-37081FD4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81E2F-0117-4DF8-8E18-1FF85907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645F2-D7B2-494D-93BF-E8394FC5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51C64-2A97-411C-BD14-187AA5B8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76CB5-CD20-4192-855E-5D44FE22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1D050-236C-4D3D-B9DB-44489F78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2F08D-6D88-4A70-9C20-B7645482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3523B-12F4-49E8-8605-C6ABCA7A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102-6C9D-484F-ADF3-8F92A671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F277-785A-477C-A298-BE8FE500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76BF67-05EA-485D-86FB-59FE5E1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3B0EE-7F70-4240-B29C-75BD911A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3E355-403A-49CD-9E24-6CE0F624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D23D2-9CC3-4633-BBE7-6EB9B648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922F2-5A34-4F17-86A2-49B1BD2F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31ACC-776B-44E6-A7B7-103D1334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95C03-D8D8-42B1-8C9E-D58430F8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5D0F5-3172-4939-B298-7016A495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24DCC-7F88-4619-9C0E-369C3C15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99BA4-2D30-4B5B-8C66-D1ED8EB4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AEBF-936E-4ADA-AEDE-4A50FF78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84B8C-BE91-4CB0-9B70-50472C08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67D6B-3699-4077-930B-143EFC52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10F8B-5ACF-4C5C-A070-23596D7D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40727-E1D3-429D-AA1E-1AAC77B8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DFAD2-8D89-4AE3-8BE0-2D980148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38AED-4B8C-422B-9BB9-1E81E297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E37B2-0D55-4ADD-850E-2C857C00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0D945-D0E2-4AE5-A4A8-8379E70B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AC4BD-161F-43BC-89F5-7F4A954E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04C8B-E3FF-44B7-8DC7-1A5841B9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1944-B4DA-4790-AF5B-BFC3A798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B78D4-96E8-4408-8586-C23554B6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264ADF-A5B0-49F5-9626-997F733B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37328-E44E-406E-B022-FD2E7AD7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D03B07-0896-456F-82E8-557BE694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88BE1-02AB-48B0-B1CC-EF63D3FA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561CC9-16F2-488B-8F61-6A101A47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7FF11-13E4-4E9E-AC09-65327586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0EB9C3-E5A3-495E-8532-041B93AF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E7982-D665-4797-AABE-A2C4D725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BB371-09DF-4EBB-B112-7192C9B9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C7FF-503D-4E13-AC25-71961E9F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7F8BD-FDBD-4EFB-A83F-D94CA38A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E3D3D2-9DD5-4570-869C-2C022D2A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52D1CE-0C73-4D33-A09A-ED93F686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C2902-B380-40E8-9ECD-2E5C0B47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22932-430C-472C-B26D-E3759396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F485EA-B4D6-47AC-BC1E-146AE17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CC09C-1AA6-4581-83FD-524069BC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DBBD7-AFA0-4007-997C-01168DCB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AC8CD-8990-4062-9332-6E30BD19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C2323-0CC8-4928-92EB-5685C9FB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EB82-97BC-4418-8C8F-EC7CEFE0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55A1F-AAD1-4354-9654-5CF44046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F6DBD-C988-46EB-A8BF-7BB9ACE4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6C367-1D5C-4E58-9FC0-892F939C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6F32CB-D554-4BC1-9A0D-9342765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C34F4-AE85-48A7-A6E3-010E2569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9F6A0-DAB4-4D91-AE26-519004C4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4F8A4-45B0-42A3-9D49-582447B4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A46D9-07B6-46AF-8CA6-9FE562A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E60DD-B617-4ECA-AEE5-99FCCCD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2E9B5E-C458-4343-9D47-147EB667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8F31-950E-4C50-9C80-10EF76F8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56CBF6-FA06-4DB4-98F7-A14EFCA4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01AA41-6349-496E-BD53-EC53ED11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6B1A3C-390C-494A-8885-45A04153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0DB0-40BA-4A0E-AA9D-B6C1401A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9BCA-FC28-4593-A565-50E7BB67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0CB9-E553-4034-8E0B-FB3C08FE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C61E-791E-4BF5-98AB-DF8E5EC8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97B-80C1-4173-93FD-261B9FFA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B3A6-FA51-46D2-B4DE-B4B72270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DFB3-942E-4871-AA8F-F341BA7C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C615-1603-4F0A-8EE6-1DA66125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2406-D3FB-4F94-8F12-C05F164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B9F4-88ED-4A8F-BBB8-3A72B78F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A61E-98DD-44F9-92D2-027DB73D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8911-2EC4-46B4-8AD4-E30A93AA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A1B9F-85B0-49DF-857C-D8E3FC79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9A04-B934-470C-B48E-5279F7B7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EBFC-F4DB-4570-A746-E56C4E59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3C9-0435-4794-8F33-16F97E1B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8C8D-8EB8-4227-BA9C-EA450885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95B7-9445-46D7-9A4E-4FD4837B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A19E-8F60-4FD5-A312-9FB256D0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0A57-1768-4B74-BED9-1F010CDF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03E58-BBC0-4AC3-B9CA-B2AF9D1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96EE-3E73-4D25-AB18-EDCABE95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F372-8B77-4861-97E2-A4871380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BEB88-AEEA-46C6-9B0B-AC7B4824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A9F7A-E881-4D0D-B054-AC5E1686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EBA83-37CC-40D4-8B98-20945854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C2E-A622-4F0D-AE4D-125FDAD8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BB2B9-D785-42C6-8C82-31DF0A9D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D2AED-A80F-40C2-9643-2812444D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563C9-467B-45F0-AF6C-BBC0CAD1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93AE-A17F-4C50-B990-62DE9009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A20C2-8243-4299-B615-B52C834B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CAEE3-5B02-43AD-A151-5E2BDF5C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90FB-4302-44D6-AC07-B6DD91E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09FE-ABD0-4EC4-BDCA-B3586F33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212F5-CA15-4A3B-B556-E3B0F3B3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47D82-A945-4100-8DED-DDB98CE2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3D0-4899-4BF4-95F5-54B2A0CC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0EB9-BCB1-4AE4-A16A-A7677548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4126-DD0A-4C6A-AE8C-6CE61CE4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F3338-086F-4FC2-ABDE-B2BDA2B0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334E3-E3AB-4EDC-866A-0ED07C44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5890-41DB-4C4E-8941-077B88E7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BFFE1-46AB-42AF-81A2-48D26522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CC73C-443A-4AE2-A826-19B5F096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66A7C-70AF-4502-AA6A-22BE416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D8360-2203-45BF-A154-F1DD00AF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5B2D5-1246-4C90-A88D-61F5EE83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FDF-9281-4219-B12A-A1CA680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437A9-2CC3-4112-B0A0-08CC9BAE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206E0-855F-44AF-BE43-39B26DAB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5093-C6DB-4F35-A20F-CEDE6792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9B7D-7A44-4FF2-9AFA-BC666B1E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47797-2EA2-4CF7-958D-E194082A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F01D0-7EC9-49D8-BB4E-8827460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6E47-8B4E-4674-ADB7-3A332384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788CF-F4B6-42B7-B6B4-1318EEFC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13617-6317-4E67-9EA1-8847AF24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014A4-3C27-4D61-B171-A5D8E7DA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1C9-A21C-4CBE-B121-A998E868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8474B-6CC2-475C-A6D8-402D44C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5BC1D-858A-49B0-A48E-F60A05FB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C9B74-748E-4F44-A1B0-1B8240E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61B5-51BB-4FD3-BD0F-BDF660CC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7461E-C11E-490B-A5D6-74E1BB3B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9353A-7E40-4051-9FF3-60367F76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30FB0-E112-4722-ABC3-6C474C2C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16A3F-FA31-4238-AB35-AB0EC65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67475-054C-4028-B7DB-6F4BA537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F2992-70A9-4984-AA16-496F4DF7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4B5-46A4-4993-8090-702DDCAE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55E49-471A-4842-B4A3-FF44476D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71B5A-1C37-4D9A-B270-65EC5756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DA6AD-25CE-4327-8314-44822AC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EFF10-3E49-4263-A2F0-5B8591AA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8BDA7-0FCF-4BD8-803E-5A645C62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41478-7BDC-4E5A-9BC2-7E7313C3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E4997-5C3E-4994-880B-EE46E57C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0C4D0-123E-4C53-A62D-87F7AF48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DBAE1-61F8-4ACF-B5D0-7C33B9F1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DECD8-4729-4905-A68B-AF0A564A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AF4-2E5D-4722-9603-E2896BC81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349C-F3F9-4650-A98B-BCE476AD6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F8DE-557B-44D9-AF3C-D3B86A8BA1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7041-3665-4C7A-8EA8-2F45EE5F40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2B33-988E-437A-B330-68D8D8B1C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0DAC-996B-4A10-9531-35FB56B83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0782-A7A1-4711-9617-13A7A61F2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31DE-6A55-47C5-A326-76DD1FB473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7B81-22DD-43A2-8661-B97F8C7D67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27DC-9E2F-4EE1-9568-26B9742237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A898-3902-46A6-B6BC-887B4F3F2F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CE9D-613B-4B46-9ABF-3EB8116C3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168A-25D9-4597-96F5-1A6B5CFAB3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0EF4-DB13-4099-A082-135FC392B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F118-53EF-4490-A672-C5BC6BEE44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B352-CE84-4EE7-AEBE-86E820631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AAC2-3C09-48D0-BA1F-079FC80AE2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CA0F-50A8-47A2-B666-5671A9311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8081-C8F4-49CD-A8E3-8803053AE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CCEE-A49B-4DA5-A394-8E8951776E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BA3D-D077-4ED8-BBC8-198890A7A2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7878-817B-43FF-B845-96605A9466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BDEA-8A1D-4E94-96B1-C27DC6A176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5B01-4CA0-4B4A-B617-74962DD2BE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26F1-EA00-4B96-BDBD-687ACDD19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5D1A-90E3-4A9C-B432-657D268926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E82A-6C77-43B3-99EB-DEACBB38D1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64B-26DB-4D34-A786-C6E16ABFF5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AFEF-990D-4733-BE70-E4E1F08EC8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542E-972C-4DBB-8197-382DC0BE5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5E28-396D-4FEE-9EC4-6FA13A4E8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3588-0EA6-4972-93D3-A7E4A3BAC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B25A-45FE-4691-A4CC-7E3BDEEAF2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FB65-A63E-45E8-A4AB-3ED9D7DE22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2130-53A4-4748-87CA-614F4981B5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7853-ACB0-412F-B61C-6B02B166EB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BBC1-ECDB-4100-9314-1FAC135EF6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08BC-2BED-46BA-BB39-C867FC1584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70AF-2E3A-4541-9A82-133AB3107A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3E5B-64E1-4FBD-9E93-EB2E703612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99880" y="1916280"/>
            <a:ext cx="8544240" cy="11048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52360" y="3774960"/>
            <a:ext cx="86392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676440" y="709560"/>
            <a:ext cx="7791120" cy="5438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755640" y="909720"/>
            <a:ext cx="799308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79930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752400" y="2492280"/>
            <a:ext cx="525960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752400" y="3284640"/>
            <a:ext cx="525960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681120" y="4076640"/>
            <a:ext cx="525924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681120" y="4869000"/>
            <a:ext cx="525924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8"/>
          <a:stretch/>
        </p:blipFill>
        <p:spPr>
          <a:xfrm>
            <a:off x="755640" y="5661000"/>
            <a:ext cx="799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76120" y="704880"/>
            <a:ext cx="8591760" cy="5819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877080" y="335772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348000" y="515772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1119240" y="1243080"/>
            <a:ext cx="6905520" cy="4371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3851280" y="407664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5076720" y="4956120"/>
            <a:ext cx="12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633240" y="1252440"/>
            <a:ext cx="7877520" cy="4353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6012000" y="226044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761160" y="314172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6804000" y="40338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300720" y="4927680"/>
            <a:ext cx="1511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290520" y="1257480"/>
            <a:ext cx="8562960" cy="4343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411280" y="2333520"/>
            <a:ext cx="165600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6084720" y="4119480"/>
            <a:ext cx="16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638280" y="2209680"/>
            <a:ext cx="7867440" cy="2438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3276720" y="3068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755640" y="104760"/>
            <a:ext cx="7410600" cy="6648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901960" y="1341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4183200" y="23194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2886120" y="328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3751200" y="42498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2873520" y="52149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4168800" y="61801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72320" cy="5000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826920" y="275112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826920" y="360216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826920" y="440856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727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376200" y="1343160"/>
            <a:ext cx="83916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5:4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