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898-0770-4D14-880A-B964F91D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9AE-2EE3-4AF0-AB2F-2722F21A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3B214-21CC-4068-AC97-4AC3207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C3F49-4234-431F-9614-98C18088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79A46-3456-4BBC-AF6E-F1311D58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5244C-4EFD-4F1C-B247-E4F228EC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4D329-0246-4469-BF75-79B34729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EA3E9-AEC5-4F5A-BAA0-FE2D1A6F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E42B5-1CF7-488C-9FC7-C7BABC6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D5282-08BB-4BB6-AB1C-EFDF72E5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74B62-449C-4C63-A055-C304408D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EAA78-9B60-4D2B-9FC5-3BABBC0A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9F6-5DE2-4B68-8DAA-D89D09DB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6217B-0039-4D9E-A47D-B581459D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B8596-F297-455D-A3E1-E3821E6F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FA589-9F46-4177-A20F-890F6AC0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EB5AC-94DF-4438-9023-EAF9CF22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D0F1-4E15-49E7-B19F-0CFB3EF8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56EF1-A46C-407A-85A0-88602E4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8F9C5-1AE0-431A-9C74-E5ADBD5B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2A3A0-3A17-4BD1-AE7D-66596511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0679B-F8E9-4A0E-8AAC-71BAF4F3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8C26B-0134-4BE7-B768-5F8DB701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61B-52E8-4CD5-BF3F-5E948E99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53EBC-EB41-431A-B57F-1AF3A845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BA707-C255-44F7-8D1D-A5E6DB29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E51CD-DAE3-42BE-BE8D-BDAF4A34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AB06A-1F1F-4FA9-AD4B-115CCF3B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62C38-3A89-468D-9487-DAF83737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A149B-DE0B-406C-8887-6E9B512C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08698-A641-4E2D-BDB2-E2ED34C4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817A3-640F-4C30-AD37-6106266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7B7DF-5982-4560-926B-1FA807F3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A7988-917B-4C13-B21F-0A6E33D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E387-89E9-44FF-ADE8-82FD4DC5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F9E35-714A-48E2-AC9F-4446F91C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EB89-53CC-477B-B225-16621348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D578F-3BEF-4DC6-A228-1E292530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E77DB-E2B3-4B92-BC8A-B0A1271F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FA503-9BC4-4011-AE61-CA5DCDC7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4E8D8-74E4-4201-A660-567D4D59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ECC1A-2103-455F-B5C1-53E4A1DC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D2518-53AB-436F-8585-3F28FA66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D7276-997B-48BE-850F-EF92CD4F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2CB2B-FCCA-4B77-98C5-5B76EBA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2313-BC75-4929-9D47-BD8A4821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DED70-F035-47E2-8CEE-E803CAE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CFF36-6B2E-48C9-8B71-EC99CF2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23CBD-9457-4218-BE50-5F0B465F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C5D45-CA64-45FE-9C9B-A4D49472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BAA7B-EBB7-43FC-A782-1704110E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FDF82-213C-49B6-A34A-96BDFC89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C1147-D517-45E8-B753-AFCE580A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3DB9D-169E-4111-9A53-E05FCDD5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BAEA7-6FC3-48E7-8C04-FD13675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27393-F29D-4F47-BD02-BA77DD9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1A99-EE02-445F-9708-D1724A7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479F7-3F16-4364-B04C-78051070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1CBD4-3A3F-411B-9C13-58CAF597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80244-B33A-4687-89C7-48EE23AC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7A5A6-D375-49BF-9C8E-01FA858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BC8B5-7548-4D49-A6B0-3185E5FC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4A582-B77F-4EBC-B25F-C0A24971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25529-85E8-4B5A-A826-35D38E5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914F0-BF47-4057-8757-366E1159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2878C-E388-4077-943A-E76D2361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1735A-E0F1-415E-B150-9BB8D09E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61A2-7E76-410E-9826-E902C5AC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F23FF-F9B4-4FC7-83BB-7BC561D7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E7D16-ADD3-4B0A-9782-E99E5277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42B2A-077B-4BAC-BF09-11D6F241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26095-8DA4-4D27-8198-870D641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79E04-B183-42A6-8CA2-1057D0D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30DE6-34FF-4D79-BAA0-C1792B92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CE52F-A5C3-4178-BA06-F8AA1A09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47FD2-2A86-465C-9C98-6BA57635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E4F72-8968-4FC6-8AA7-63F74917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AD6DF-B65E-41CE-AC87-4BA89416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8224-8390-409A-80CC-D4059FFF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8A101-CAF4-4B0C-91AB-77F7E05E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6891B-94ED-416B-A283-FB76E2F4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AEDA2-D46A-4434-840B-0EEF3A1E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CDC54-F082-483F-B60E-1089310B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4EDC9-2D0B-457D-B176-9DF19D4C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36621-AAD2-4FB1-B336-1FCB603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F01D2-C28D-4D1F-BE41-9B4EB22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5DEE0-4305-466B-A495-B504FA4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569BD-9C52-4039-9001-96BEC09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3B1D7-C2A5-4E1D-AD67-2A7F21B6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0E8E-C671-4912-B53E-AE8B3B83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6AC36-5547-453F-8B70-5A008130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69A12-9C4B-4861-B524-07FB0876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8DB30-18AB-4BEE-98F0-BD3903DA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91897-7930-43B8-9C61-088DB536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7E60D-6C59-4318-BF56-7839ABA5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E9172-C565-4C06-999A-729EDF0B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5F71A-AE6C-42F3-9D7E-8E94B9DA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AFB37-8FDF-4772-92AF-1DA6E1A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F3126-2FBF-4E2C-BB8F-CFC24477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69D2F-0153-4FA8-9AF4-6BB6140C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7859-5BD5-40B3-A458-0E0713E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1070E-D3D8-4209-AC34-B2F91233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4E4ED-6345-4A0D-B82B-7C21F72A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FCF01-4A76-40DD-82EC-A47CF211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39058-D5E1-416B-99EF-329BCFD3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C8870-A9A5-43E1-95EE-D6C1DB6B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59767-7139-4B03-BA22-E3EE469D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FA4FF-9715-4CA5-9F6E-6B4E4F84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103BB-2F32-4E59-A6F6-BF16E719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2D1F2-C077-4DF7-B7A9-5D80B4AE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009DB-1338-4165-B266-537C362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76C-0EA7-4592-8CE0-73DB2741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4F5C-83AB-40C5-9E95-354D98C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9C428-5FDC-4D3B-A82A-A83A58A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2C8D8-1823-403F-87E0-18AE678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CFF2C-D42F-4792-8FD6-55089E7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5D71B-5A09-4873-BFC3-AB9B679A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206EB-BBC8-429D-B2FD-59E41AE8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D1E05-3D1C-4843-B527-F2C1F9D3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356EF-E70E-4BEF-9C1A-5AA0ECFC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00560-EB17-484C-B53A-A0A0E1A2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880D6-F45C-4117-A90B-7EF0E7FA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F1A6B-BE07-45F9-B14B-218B82BD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328F-4491-4835-91FD-A43107B4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66E2D-4ABC-465F-9FD0-0DF26CB7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5781E9-89F2-49BE-832F-E22A8FE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82C75-9B41-4AC2-9444-20C1563D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14BD5-6507-4AD4-961B-94F8DBA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F15E3-1532-4615-8F17-08702CD6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3B3FF-953C-4E09-8210-CA292D68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A04A2-7DBC-4786-9FA9-F9E19520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014E1-4A47-4886-BAD0-1473D150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4734D1-58D8-4CB4-B997-5AF0942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F241A-C1EE-4BD0-B63F-02C0A327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026F-7ED3-4740-8517-0809342A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8370BE-EB8B-40AD-BB67-4D8EA896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99A19-6D11-48F1-B9D8-CF6EAE02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3F44F-0405-4BF2-A72A-327C6713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89761-7247-4D2D-9C09-5C68B492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D1404-7869-4A72-A784-E53B0DF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A0288-9876-4CB9-8198-930C590F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58618-EA92-499A-8B8E-AC7A6E30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6DF08-8531-4949-A23A-DCD84177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CA7C3-A97E-4F9C-BBD8-72C07B82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7D2B0-1FCB-4D9E-BB0F-D8372962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EA40-0102-4F65-85F9-F2AE3FE2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407F0-D64E-4AA0-956C-77F8E2E6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A8E7C-DCC4-4ABC-97D4-0F02D880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C68EF-BB72-49FD-9334-679C7686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DD9D3-D1BD-416C-9DA7-68BF54C3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20134-C537-4D32-9CDC-222C6971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F7A66-2EBC-483C-AE2E-BB862A1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D857EA-8FE4-4489-AC53-3B30DDD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46E38-F124-41DB-8609-B19A7E40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CC695-3595-4A9A-9336-C2E0FE1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20A6D9-B4EE-42C0-8C17-23CD507B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4332-4606-40F3-BF7E-ADBB9CC1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A3D1C-22D8-4719-8786-3898CD13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89FE21-B06A-4FAA-81A6-A814971B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30674-D476-40A7-98A2-3EA497E7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9048BB-7C6E-4AA5-A074-FDCA3DE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E4053-099A-4DB9-92ED-F18C41CD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72B15-E6D6-4FB7-BBFB-D799AAA7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1918A5-FAC5-4AFA-962D-F785E3E6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FECFC-D47E-458F-A05C-BBE09A66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22CE3-7074-40D1-B20D-EE92F61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1433A-CAF4-4097-B477-C2943368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3E1E-EA88-4877-B007-4845169B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2125F-B9E0-4776-A471-C3B1D21A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F0804-A7D9-42F7-89E2-2B60CE46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C9DAE0-592D-4774-B676-A05713FB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356984-CEC8-497C-9598-3D968758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7F26CB-4DD6-475F-943A-B2BAFD1F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15E50-7B32-4F9C-AF3F-C4B5F97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ED91D2-7296-49B6-84BC-18F1F14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B86776-6B03-418C-A1CD-656A8B4A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4DD64D-DCB1-46F1-A4F0-B3357ADC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841CFB-FB88-4428-A56B-D963B556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B80A-7247-4258-A4D1-96F5BC5E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AC700-74A6-4ADB-AD5E-78A8BC0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A1B748-1517-4FC6-B1A4-BA45A172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C6D606-6CA1-4BE4-8579-5B9E7BA6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5BF8A-C5AF-4788-BE7A-E0462360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47F5E6-9069-4A5C-B3A7-7150AB8C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78AC6B-46EF-496E-86AA-D58272FE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0066CF-4ECA-4B37-80A7-EC37EFE9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ACD66C-F379-44D3-A4DD-01710AA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E2A01B-8963-4BCE-85CF-CBBE8E8B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698E1-DCE4-4271-8A31-09AFD58A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0A48-5BB1-4CA3-9901-C04C81A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A40A28-1FB5-496D-BE68-36D84F41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C7A8AC-5411-4F80-8BF0-F87780A2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E1ED55-26BC-45AF-9F0C-9E121457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238E5A-00BC-4458-9B30-4C8F775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04E05F-A033-495A-BA46-A69B1CCF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2E6F94-80C0-42D5-856E-00D200B5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E41ACA-BCD5-499A-9E51-219F1BBB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489D-8D83-42F6-8EC8-D2E19FF7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18DB-776F-45D4-8010-D8DF2846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8F0-819F-438C-A74F-8CCC6D2A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C9D01-EDCF-4E12-BBD4-C5AA62D4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15A8-B1B5-4CBA-8247-AFFDC20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B6F0-BC3C-4715-A60F-95C1BD5E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FFB0-9E51-460E-837D-5E9BF7E1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F24D-92C3-4AA1-9CE4-31BDE0A1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6F22-BFA9-4205-A956-67E91185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214E-11B0-40D8-B1CA-39153ABC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09D51-F12E-40C1-B45C-B5907E44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5A88-293E-4592-A7FF-6F5C9E78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6F4A-4B2A-403B-92E8-130C78D8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BA6-D039-43F6-A8D5-A6FB413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A5C1-33DD-4D18-8FB2-227504EC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5123-03CB-4202-A51E-A8A261C1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1272-8621-47E5-B3CF-E43533E8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3AB1-9FB6-420C-A6E5-E282557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FCC1-AA38-40E1-991B-173F48E1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823B-1FCA-4EA9-9BDE-4B3A465E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9E31-092A-4741-955C-C032557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DF53-DE2B-4049-A220-6A81D36B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C4A0-FA1F-4763-BF54-45EF34F9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D524-68A3-4B88-9FC8-5E76D570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8E3-B66D-43AA-BCC2-6B19B7E1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9FE1-7CB4-4ABE-B2EB-6A07AAE2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4117-EAD5-4DAA-84B2-760B83CC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1FFE9-005F-4881-B0A0-9A1FA620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19B85-8198-4B26-BC5D-725CC652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703D-5E77-4E37-8366-8F9EA243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0DF6-A662-4FFE-A203-4965DEC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9FDD7-B643-4839-AB10-546CAFE1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29DB-3DA6-4431-81BB-E80ADD3B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D25B-E10F-444B-8F2B-C05221B8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56921-D68F-409B-9245-83B15999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F49-6387-40D6-858D-FCAD7314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B340-618D-4165-91E5-79197115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BEA85-91B5-49CB-903F-6AEA0696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2C260-ACC2-45FE-92D9-FF0F3CE6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82F6A-496B-4A1A-BBCE-BDE4F779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8BE46-99E8-4DEC-9774-2F6AC086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C902C-AA40-4D12-8F94-42B17C3A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83AF-7D79-4DBD-9F47-1A1D42F0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26A9-8D66-4A3A-A9AA-6B03DB55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0FCC-9F91-4998-968A-90A8F48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853D-216A-4A52-8D31-7AC44714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E40-37E7-4CEF-8835-7DA9696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444D9-0B4A-400B-BC29-8BC0BDA7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BABF-8FC1-4E46-BFEB-0486F6E3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D8AE-1247-4782-A417-7421319A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D8F67-A3F5-417D-B16E-FC57493D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FEEF-1327-4DAB-B7EE-7F731C56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8D12-88CB-4C6D-9679-D6D5BAE6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17517-6CBF-4DEB-81BA-E140A96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F3AF-B059-4F9F-8A7C-6DDE686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D696B-344E-4825-B329-2EBBE184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BC200-C640-4B5D-A582-A03B594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26A-5B93-4ECC-8EB5-08D7384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F2670-098E-4131-8053-62F08600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8140-9DA0-46B4-9E3F-6A4AD08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6BE5-70D6-480E-84C3-475562C0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C849-035A-4CF0-8AA0-688517F7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7739E-AFC7-4FA5-9091-DEEF0D4E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49A5-8C68-46CE-AF86-D46971D1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4537A-5E3E-41E7-989D-853DD202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35B17-95D2-40BF-9EFE-306FAEC6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A98A3-FFE2-4166-9665-73DE1C63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F89F-30F2-4C4C-8FAD-3F95D0E3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887-26A8-4954-B972-BB844C2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0EF6-ADE1-4377-AFB7-EE82A65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8EC37-35BD-4708-8DF1-F29AF1BA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FA296-EC21-4B78-B1B4-375EC390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00D5-D135-429A-A10C-BC0C6EDD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1DFAC-46EE-4F32-A06C-9610B62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E034-00EA-4607-8790-EB646572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AA82F-FEF0-4987-8DBF-64DE186C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2C0DD-B246-4D04-9607-7298084E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AA2CD-2504-4F25-AEA8-8B83B3E8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013E1-A2E5-4865-B5BF-335E1202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265E-4DA9-4CA3-8AF1-B17F355CE1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D359-4B39-4B45-8CA0-DDC33E454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B370-6D90-4126-8CD2-CA3AC155C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32B3-0B67-41BD-B414-68DD0CAF01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916E-971F-4DCE-B741-AC7DE768E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903E-7E21-4A17-BB1F-3E90F3143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2F4B-8390-4C44-9E3B-C43D781F1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8133-CDD5-4FEF-8547-02C5942686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090D-F444-4492-98C5-961C82AB24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1AA0-B8EB-4781-B7D7-8A7026760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1843-5610-4586-885F-DC18B2C643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DA2B-01C0-4CF9-BF4D-FEE35A358F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F45C-7B3E-4CA6-902B-FD69E3D676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5E10-EB7B-4671-8316-405CA0895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E1BF-5D1F-4307-910E-A54809816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A7BD-0273-4FE2-86F1-911551DF4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190-C000-478E-ACE8-DFD056BE43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75C9-B404-4B41-9407-325B5F6597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2AF1-8DF4-4C5E-8F39-D722CCBEE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E7C1-A45A-486E-B461-88E5A6CBB7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D50-F037-4A44-A1D9-2461B207FE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0F4-9D38-4090-95E1-C327341F3E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4EEC-B88F-4120-8A8D-E0129CBEE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FF12-70CA-44E1-99F5-4541C3AA63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998F-60D6-4B44-957D-6431D9CB11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BA94-AE12-4199-BF62-3FD1C3632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681A-1289-40C1-86A4-D6C94A0D1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B8BB-D143-4EBD-9E14-7240279980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D82F-702E-41DD-9E75-7C99A6847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BB1F-4713-4775-8AD8-0A1A88B9DD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FB8C-60D0-49EE-BDD3-322999035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39C-CF82-448E-A4A2-566EF8C965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A4A9-E4BB-4B7B-9372-2AAEAB51EF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9FF5-4749-402D-844A-1CFF7E2124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16FC-C950-42EB-BD5B-32887CBD2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FDB3-5153-42F2-A205-97DFCF889E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36C-1602-4352-A8B3-9ABD38A7FA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8C35-676B-4627-A1E5-E2F41234CC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CA32-7090-418A-80CD-6C75ED8CAD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1EE8-55D0-4DAE-A057-91D90E68C0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BD9-B451-4929-82C4-EB8E92B098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7396-6452-4086-AA17-7566CD3379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9840" y="3079800"/>
            <a:ext cx="90043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90440" y="1652760"/>
            <a:ext cx="876312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776160" y="1676520"/>
            <a:ext cx="7591680" cy="3504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3419640" y="4149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5580000" y="4581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257040" y="706320"/>
            <a:ext cx="8629920" cy="60962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900000" y="4192560"/>
            <a:ext cx="79930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12193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1309680" y="1733400"/>
            <a:ext cx="6524640" cy="33912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258920" y="1757520"/>
            <a:ext cx="56181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56181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56181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1258920" y="3716280"/>
            <a:ext cx="561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1332000" y="439416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09440" y="896760"/>
            <a:ext cx="8925120" cy="562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826920" y="3544920"/>
            <a:ext cx="64818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648180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900000" y="5157720"/>
            <a:ext cx="648180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755640" y="5950080"/>
            <a:ext cx="6481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498600" y="44280"/>
            <a:ext cx="8385120" cy="6767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1187280" y="481176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1116000" y="5516640"/>
            <a:ext cx="75596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09520" y="285840"/>
            <a:ext cx="8724960" cy="6286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370188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826920" y="6107040"/>
            <a:ext cx="496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2:0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