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A75-DFEE-4B31-8CE6-4F8A956E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CC1-DF3E-48CB-B4DE-52B37881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ABF45-3CE2-4139-9E7F-69BDEA5E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45D23-716E-429F-9FFE-26BB848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11628-84DE-4FD5-8CEA-26CD0BAF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234C-82BF-4314-8EF8-EF7D6B1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CAB76-1702-4F8D-BF29-0DEBBD1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3C773-6CB2-4967-903A-8609EF3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45A7D-C962-4814-9646-449DF78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50A7-FE77-4CF6-8D91-2FA2A74F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405E1-454C-485E-9B39-CEBADE8E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241D3-D7D0-4936-8C40-134AC504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70A-0BF6-478D-9101-B1CEE960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8F24-07C4-4F4A-B230-C2C645CA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DD8F7-2F53-4321-B97E-13B5173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69DE0-B317-4C01-A4E7-2DDDB12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AE00-B4AA-498D-BCB1-E6A9D28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9072C-8690-4C44-91F0-492218BA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63978-23B0-4625-AD9D-281D995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5AE12-B206-4177-B7E9-57D7D4C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99D56-4C9A-4CA5-8EBC-EC2CFE62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F2037-42E9-4250-B825-62F5DF0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AEAE0-571D-47B2-8091-DE1EB56A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8ED-C9E8-4762-B1D2-27E77954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1878A-52CD-48A0-AAD9-B305FC5A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F1828-8D37-4016-8631-32FFC6DD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A50EB-D74F-4F3F-B24A-090384C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6C0F1-9DFC-484C-82C5-2F288CF7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08734-5C28-4382-A8CB-5C366EB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B941-35AA-41C7-9C7C-3CA660F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93B49-ABA4-4766-B3E2-B41272A2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39C71-A451-43C4-9358-F7847CB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66BD-63A2-45C0-B661-B77BE58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FB917-91DC-4769-8CD4-A06C58D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EDB3-FD4F-4001-90EE-9B1BC308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F75B2-B5C6-4CDD-B51E-651AE9BB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ECEC-31C6-496D-B75A-8FBA4F53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15BC7-A00E-4CEF-9BB2-365AF5C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F3202-1BFA-4D6C-8771-4DC5B3C5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FBFE9-3CA2-4BA7-8D87-5C3E8BE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291D7-C3A0-4B56-A853-AFC0AF6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1FF17-2AD2-4E88-BBBA-7F00608B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E84BB-FE50-426B-BF7D-E44C30C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62621-B00D-46A3-A427-1F62B688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E0D3-CA1F-4C26-9570-1E6688A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0D4F-FCBD-4F7A-95D1-5DBFD7D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4A528-2BB7-43B7-930B-137EA2A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E629F-FD5E-403E-BC1E-A482500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29030-504D-45ED-88EE-F26E4BA0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C589A-187F-4A01-BCF0-1823CDBB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A056E-653B-4B45-8E16-6521879E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411C5-A6D6-4351-9429-A4B30BA0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E52C3-A9D5-4D37-B9BF-D546D71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C870C-B217-4858-AE42-ADCB1D71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5A44F-1A17-4F40-8753-0B3C38D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3D8BC-0CCD-4A9C-B0EA-EC01E16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010-F3D7-4C22-BA6A-304A994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AF379-95EC-4F0C-BBCA-030D5482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7CC36-5C20-4099-9EF1-BBC5B04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41F2F-C470-4AE9-ACB7-0F915CA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78EED-81C2-44AF-81DB-69A3D1E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6E43A-FEC2-4DE1-819B-0378E815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04E20-291C-4B13-8AC2-3EC9FC50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29A55-7F61-4EEA-A51B-437FB157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27B3B-8D5B-401F-BA86-158F8E48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9F3B7-FD7F-4095-A5F5-9FA5031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6F05C-6F5A-45A2-BA6B-49E140B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81C9-83CE-4FEE-9A62-B6A13A71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8FCF-D3C5-4052-9D5D-A0D5CA1F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3744D-C40B-48AB-A77B-20C9A074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5997D-8F03-43A0-8DA0-66277A8A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7AE31-BA78-46EB-A275-EB4B904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D7AE4-2108-45AE-AA96-B5AB55A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7DFE1-5019-4E80-AE08-D29BDE6E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11BB5-331E-4A61-8B1C-14951965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7924E-BBFB-4801-8D0F-F3D2222A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76FD4-2EC6-492A-9C6C-75ED1DA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4F487-D9C5-4D55-8AF7-9E9E4544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D773-A82A-4789-9D95-6A40CA56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02A7D-F94D-4B7A-A11B-EB857C4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A513F-BD89-42E4-8890-A8768553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F6EEB-18C0-48A9-956E-6F0C4AEF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A0FE7-A11D-41E5-A40F-83A9230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CB52B-A8C0-4B43-A0C4-7C267DB1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1A97E-3488-47B3-A7D6-498B9AF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3BFFF-ABA5-4496-9FD5-4BB8ED5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12FD0-8AF3-4B53-980D-792ABD1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C4023-4DCB-4DB6-9566-307B6421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D6E02-2A20-4B7B-9C45-4E989FEA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7242-9E19-4E5E-856A-840F0602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B7ED6-E16D-4A63-97BC-4E6E37A5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C78B8-251D-4A2F-810C-60A020B9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91A1D-570F-4227-96D8-D918866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3F7BC-0DAE-4237-BC83-C3434CA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36BAA-838B-45B1-A12C-E5E4B26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4597C-733D-49D2-8F43-A4A47F9D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4A976-1C23-4A05-A337-A0A52BA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8E8A7-6B9A-4B14-B89D-6F63D5A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39DB3-EE3B-4F10-843F-E39495D3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0C67D-F419-474E-94D1-AF8E2CCC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59B-5A2E-4E15-A406-50F3E287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CCCB8-125A-46BB-9C04-7F36EC6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B7CAF-3AD7-4F2B-9490-BBC1DBA5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1BE15-3534-435D-B7B0-03BA4455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9FC6B-9D94-4B59-94BE-9BA4F1A0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909B4-23BF-4BFF-8BB8-22B30CB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5D0F9-5F3E-4EC1-97CA-538B4D1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69B36-FFD3-41D1-A06B-DBA37E6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D3B6F-3D37-498A-95E8-77CEC43B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D5E03-4800-44F0-BF3B-9EC067E1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79A65-A50D-4728-9709-6DDB0D7A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0CF-A5B4-4B3E-8030-402577FF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EEC-BF0D-4A5C-A5EE-CFA5BF3D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D7C38-598E-41D1-8FF5-BAD1C59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02E78-205A-4332-B3F3-D6DF517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491CD-8779-49CA-9F94-6CD8839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95D0D-F640-4603-9907-433E32FF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8D0C2-AE26-4DD9-94AA-67BAB0F5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17605-53B4-4DAF-9E51-7C5F2C16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AC64A-B4A4-4308-B207-FA1A0771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0A4CB-F838-4D1D-99BC-B4169484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638D4-E575-4475-8341-8D8DC1A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44752-24A5-4D64-861D-DFA57037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99E-1DC0-457A-867D-7140C55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2220D-D464-454D-9EC5-D532603B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90A42-54A7-44E1-A1C7-5341E3F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0629E-091E-4FC7-846C-38DA709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A598E-713D-44E3-B4EE-DC42FB6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C3629-B719-4C77-B45D-3ED24FC0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9E37B-341D-4447-B955-7F233D01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7DA80-EE6B-43EC-A8B8-77DD8482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E8A29-57D1-47A7-BC73-6AA41585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59998-ECA5-4EC9-AAB6-12C18C4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ED4CF-B18E-43E5-B3B0-E802B1B8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BDF7-E442-4788-8B5A-2F52A489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709BC4-9213-4334-98C3-8EADE6B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8761E-E3A2-49DA-9E3B-2A054B99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575CE-CA1B-46BC-96BD-F641BBA4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5B013-0901-4799-AA2A-7275618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69811-4576-4397-9148-885BA7B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A5CDF-D7B0-488D-9497-F0A636E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4EAD1-B315-498D-822F-6402F06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7174D-E142-475A-8AF9-69684DB3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68152-EEB3-4E00-8FA6-33D97C25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50C99-0110-41F9-9A8B-6DFD3CA4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857D-7D09-4934-A08E-643A01DD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AA2A4-B466-464C-9E1D-7682B0B6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D2489-BDDA-4A15-A3B3-D1E0E884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53873-D87A-46E2-9E6F-FE38A69B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28C2C-AC9C-4C30-8844-7A0F734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700C0-006D-4047-AE46-ABCB74DD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975DF-F945-437F-809D-BB102B8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C14F7-7579-4F08-958D-539268A3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D9F054-3D5F-4F82-9434-08DBEB0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E69C8-B8D7-4A66-B7E8-F5F2258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FEBE3-ED5C-4894-9E22-C3F51AC7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65F-79F1-44F8-A63D-E22887E0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7F7A20-4BCC-493B-9CF1-965E8490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22A06C-BC37-4FA0-A47A-BF435175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CDCFF-17F9-4EC4-A3C5-FB8065B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F24DC-1305-4BD0-AA4F-3A8447F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DDA03-FCBA-44B9-BC96-0263D921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00597-03C2-4DB4-84F8-55892B3D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1EAE3-0719-4F40-9A35-BB54519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197AF-67F3-4EF3-8704-1E10AFE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2D4BA-EF6C-498A-9578-33ACED8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20B2A-DF8F-4211-8795-DC804FF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A2E0-56F4-4127-B07B-DB8DB700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09B0D-9B06-433D-80BE-A6F48652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ED1D3-B8C9-4FB5-B784-46DAACEE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584A7-7A0E-4AE6-8A85-D0B94F6F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0ED9C1-D1F3-436F-838F-7AE87D6A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29AEA5-0499-4910-8C8A-A68F678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5A86F-0AB6-4A79-AEE8-620C8F04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ECB0A-3A75-44CA-9B60-7AA03A2E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D7CE9-5E72-4288-8E48-C038BF4D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5211A-F2FC-4347-BB52-FDB1A6C1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CE3A14-6A59-4646-957E-B3380DF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E713-8E4E-476B-AE5A-5E9C091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CD2BA0-C48D-430C-868A-60DF2599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D42122-2C55-477D-BC93-EBAFAA4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016FF-7C28-42C0-A20E-4E7DAD2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447FA8-CE97-49DA-A084-393E0729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469FB0-AF0E-411A-A4CC-2109E82C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2D594-975E-4274-BAB2-8E972B26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C24AB-DDBE-4F75-86E6-882B7615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0C71D-11A7-4A72-AB38-22CB25B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290FF-FC10-47D8-8FF2-DC085FB3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9B32A5-25FE-4B09-80FF-BB18A5A7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1B77-75B8-44A4-8DE0-516901D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78334-81BD-4FBF-A3CE-1D11554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127BFB-0694-40FE-8B5B-9305DCF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1C98B0-D715-4BCC-AAB9-1294A06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F83013-FA06-4E50-BAF3-607DB85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57422-3A18-4678-81ED-F2484FAE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86AE94-CE80-4290-9D3F-22D309A3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13ACA7-EE8A-488D-AA09-5BC46E1C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EB91-64DB-4301-AEBB-6DC59832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6890-71C2-4D80-8047-DAED7A38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D71-D928-4BB9-A56C-1EA30650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845B-A103-4092-9A2F-B950E0D4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23B9-D15C-4F6C-AD8C-0899697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5AA3-486B-4AED-937A-775FEFA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FF61-E698-45E6-A2B2-200C1ED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B9B9-C77B-4ABC-B972-D331BE6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C1C9-4950-499F-A661-EFDDE0B0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E1C0-D7A1-4C3E-9F2F-9D4C3CD3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5B31-4EFD-409D-9CA8-E8B143DD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978A-6BCB-4990-AD61-D5B0097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4567-9542-401C-BAA0-8132F32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98D-1082-4C0D-9B46-835EC4B7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9BAA-54A1-4F52-95D4-4CFD61B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FAAB-C297-4C87-89ED-3B960CB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DDB8-0B5C-40A4-B394-C41DE312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8856-34B2-4EFB-94EE-F31C954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3A84-5765-4176-961B-FAE6538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8CB5-5ED8-4780-B0B1-382547F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E622-DF31-4CF7-BAA2-1A270D6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2FEC-7E8D-4D46-976B-7FA034F4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E247-30FA-47FC-9E2E-AE98DFB1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51B0C-37DB-4DF1-923B-2456676D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CD6-DC50-4902-BA08-34F5715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61FC5-0018-41A6-B326-29981C3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00979-4691-45C9-85CF-2BC418C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2BB5-1824-421B-A14D-476CF5B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6168-1EC3-47DD-B4F3-D57FF86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7E13-8CA3-4D57-AAD7-124C413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1CFB2-FD30-47CA-A68D-E2C8A5B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E4E06-0E15-47C7-B4F3-0D27CC9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C853-95A0-4104-90D1-6878CAC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ABF4-A551-46F8-804D-E139359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523D9-EF46-47D6-A998-FFD7749C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6F4-764F-4B88-AB0D-5C19BBAA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2A83-1A69-45AD-A847-E660CC03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7458-A3DB-4D76-BC9B-2C68EF7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D22D-76EF-41B9-A693-39357B1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50BE7-FADC-4B61-8646-1EFE5BE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F9F-E019-4042-BBD0-94D47830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B9E6-D56C-4569-8779-C0719849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5C529-5E7A-4633-8A0A-94A1769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43D7-5CD4-48F5-88A6-EA9C601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517D-1E32-4061-BB74-44117D95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DB78-D606-4AC0-802B-C7F30A0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8B7-0862-4FF8-A1C7-622B10E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C07E-A94C-4079-BD65-83FCCBB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72365-4861-4529-AE32-4D300B5C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9B5E-3E2B-40A1-A8CB-299CA004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2E0B-E7B5-4931-B2FA-7818BAB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2B71-210B-4023-99F7-9E81026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65526-EB3D-42E0-9654-96BBE320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85CD-7207-4EA5-B74D-8741E4F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F226E-2ED4-4AE9-9426-04F90A59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7861-CD32-4815-9ECD-9948BF9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DC60-8AD5-4DF7-A14D-DCAB709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BB9-033C-4B40-B50C-9E2FDB2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F68D-1C3B-4DC6-A70F-E708C19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06CE-F641-4388-AC1B-F67D371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274EA-6018-426F-9711-57A9417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F051-81DB-4E4D-B576-D17B867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39B0-98AE-4023-A071-1C955584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945C-0442-49C6-ACB0-3FC01F34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917B-3972-4946-B4D4-862D4AC6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ECF4-CDA9-4B9C-B0BB-FE100A4C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40A03-B1EE-413A-869A-710D8C9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08B7-2051-411A-AFAC-DBF2CEE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FC7-8975-4172-987F-7047CB4D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78AE-4F05-451C-90BA-28F9926C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E4DF5-A9D6-4481-95EE-B67B998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6F37-5807-4CE4-B61E-7E29A1B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2BECD-F2B0-422C-91B0-3A2BACD7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6BE8D-4F40-4F5C-82B8-0EF8CD0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96650-42EF-41F8-90AD-047B37FD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7D2E-DC68-45E5-8424-DF6AF881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352C8-98E3-4F44-9E49-24DD2D1A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F386-F034-4F1A-91E8-8266D3A3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89BA3-04F2-4B69-B24D-737E48B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CAD-19E9-4C55-9512-81FFD7FAB7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D6F-079B-46BC-8EBC-1A2530A77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E41-5982-4777-BC5A-AD2837EE88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41A7-C972-4880-AED3-EF653D08AD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EDB-FB29-4ED7-8E06-3CB837FF2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CD9-BB16-4FE9-8A21-68F753F59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5C6-DD6A-4091-B9FE-902C1398FA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2F25-7EC3-42D2-8287-C0FA62ADC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5DF7-225C-4089-AD48-5C249FFB3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14AB-F40D-42D6-A0C3-56F687523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BB1-AF53-48AA-B9CD-2C9AAFC9E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ACA-2F36-403C-92EA-C3C5C8892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224-6A02-4E6E-B6F4-5BD50C411A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C9F-5717-4B63-9BD0-357BD4B5E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9233-D2B2-4E46-A6A5-C01009D6E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9EB0-C06A-4D68-B130-D00D12256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DD0-BF77-4982-9965-56B49B338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6374-6F0D-4D7D-9DEE-18BC20F5F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73D3-AB63-45EA-8B90-4C60D3A8E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FF00-79F4-418E-B213-D2A466814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D806-5255-4EB5-A1B8-ACD77DFE4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277B-4D47-4AE0-AAFA-060852C50D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80D-9B62-4F70-8572-F965C2754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D83-EB80-4831-90A7-E8E5066741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BCE-2F60-41BD-8864-3609ABFD7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694-CE8A-4733-B8B1-08AA23CDA6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9E1-530D-417A-B0EE-A509F754A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A79F-2CE9-41D4-8BFB-DE02E4010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366-A431-4E65-AA65-73F31604B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100-652D-4568-9881-A695E1E896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2DE-E8D3-406E-93E3-059CF2603F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032-5362-49C8-A715-D6AB8BAD9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2504-6B32-4C3A-B8C7-2F7D275F8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66A-6332-4536-915D-E0FF188FA2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F2EB-7171-4C4B-B1CC-103F61589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A281-DCBB-46F4-8252-8D43DEB32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3A31-76A0-43C0-8E39-79079612C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7EBD-166A-4353-8A4C-1925416681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C6F1-F23A-4415-810E-396C37E34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A10-8D7B-4499-9F9D-79E7D79E5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56B-2999-4F60-B6BA-52AF6F3D9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CE7-C591-48A4-BBA7-F31B3FFB7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5680" y="2763720"/>
            <a:ext cx="8969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495360" y="1886040"/>
            <a:ext cx="8153280" cy="3085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33433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800280" y="1219320"/>
            <a:ext cx="7543800" cy="4419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96280" y="443700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5084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67640" y="51577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33280" y="820800"/>
            <a:ext cx="8677440" cy="56577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211640" y="595008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843200"/>
            <a:ext cx="7981920" cy="31716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58341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116000" y="4105440"/>
            <a:ext cx="5834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04840" y="1647720"/>
            <a:ext cx="8734320" cy="35625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595440" y="1238400"/>
            <a:ext cx="7953120" cy="4381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31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085760" y="141120"/>
            <a:ext cx="7535880" cy="65757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908000" y="449424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2050920" y="4984920"/>
            <a:ext cx="6553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38040" y="934920"/>
            <a:ext cx="846792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29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7775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777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71360" y="266760"/>
            <a:ext cx="8801280" cy="6448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500720" y="6021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521964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5867280" y="602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451640" y="60498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8:2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