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919-5EFC-4B95-B6C0-18901BDF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115-3251-45DB-917A-7AB1E927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90542-6B94-454B-9B2E-6DF389F8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B3617-852A-47DE-88E8-582EDCBD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9E600-272D-4CD4-949F-06A674A0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C6948-C877-4918-9F82-98083B1E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CE7F1-4241-45BF-943F-F98C45EF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F8FEA-5C00-46A9-845C-C53E4421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59A48-9F35-4623-B0C2-4C6D6738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DEF96-9DDE-442B-8E68-FC63AA62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3C6E0-7682-4E57-875C-4CFB3E91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E8E15-7FE0-4D23-81F6-795300D2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DFD-FE27-4BF0-9E9B-F0B8C0C9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6104A-8440-4385-B08D-C9041199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A6345-381A-4676-A91F-3E427A9C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502D9-3792-41E3-A832-330775F1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2A47D-1469-4CBD-AB40-04ED3A24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C4E1E-2B58-4601-A923-A49D27B9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749E1-D11C-4505-999C-AA8E771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32AA7-80FA-4B11-8179-C304BFE0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1E758-031E-4B9A-9D46-750AFCA4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4893D-2FC8-48D9-BFC1-B4D2C836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1567D-37F8-41D7-BF10-2CCB9E2D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DF2-277E-4C88-AFB3-5A1CC416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F6B09-E91E-46CB-9816-714C9B5C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87B84-2DE8-4000-B92F-E133B78B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128CC-7D0B-4B0F-A98A-B74B9977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1568-BD30-4B50-AE39-94A7FA4C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591A8-12D8-4DD7-AAD9-4CAF6F32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B2919-5F14-42CD-9A7F-8571EE83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C7BFA-BA46-4778-AEA7-BB525F4F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A5D38-BFC4-452D-A497-57E501B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1CB3D-097A-4348-AB34-226C24E6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BAC8C-D449-4F5B-ABB8-59CAFA6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BE58-739F-4CC8-B362-831F8138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51448-4ED1-46A3-A9E4-46122639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40CAB-A942-4F35-A6E0-015F495B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67E16-114F-44EA-981C-7195ED20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5268C-9EA2-415C-B394-4629FCE6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93DA7-73C1-4C4F-B5D2-98680A94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5EDF9-8494-4478-A443-26A6B053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80BBD-0AFD-4EBE-845B-2570B17F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31002-1CF9-4144-8ABC-3AE4F4DE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110B5-8EB1-41A7-8F11-A03594C1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5E52C-C7E3-49D6-82B1-120CC20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A3CC-6EFF-4575-8804-1038DFF5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079FB-71A9-41A8-951F-0151483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77129-9267-4E85-9836-667E7414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8B468-CD65-494C-BB62-05344F67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507DD-7D8F-43FF-8990-C5F3AF36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3597E-16A1-426A-B2C8-1C19222E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2842F-1295-4A2B-A6DF-FE22D057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B5CE6-3483-451D-9068-52EAE83A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5B99B-F827-4DF0-90DC-93ED8566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7D599-DD55-4486-B7B4-B7F095F6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43D92-67D2-4B88-8FEC-A84D66E6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3375-EA73-4335-AEC1-6885B059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5DA74-4DF9-4218-882B-49A7A07D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1FA57-65F7-453A-87A1-A6D9315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AD4F3-14D0-4C8F-A5EC-75E9254E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EBC51-6CC0-486A-BB82-A9AD3D3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72D82-4E5D-4B42-8D60-850F3FC2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DBF4E-330B-45A3-8589-0EFF6879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D3631-D9DF-4D48-BAC7-CFE375CA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06988-BD5D-4212-A631-0D146C13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8B30D-4328-4127-8FED-E51D36B6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628E6-6854-41BA-AAEC-61F38722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6365-E8BE-499E-8B62-7F2439E5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443E9-9111-4A1A-BE19-6B6582DB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4C54E-96F9-4BCB-9442-D9516A26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3FE50-D683-4A68-9EEE-DAD9CBEA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98F4F-4121-4FAD-829A-417886A2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C29D9-BA5C-42B2-9CA6-19B6946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14277-69F1-42EC-8890-88472ED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F9AC6-6914-4A26-8F63-CA1CC6DC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85AD9-F9BF-4B2E-9CE5-8D6B84A2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FBB94-9278-4A14-97FA-89E718E7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BB3EE-BC85-478D-A437-836AE949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369D-31C4-4478-9458-363B1D83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4B67B-B1E1-4145-ACC3-EC1EF057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54DF0-6A9A-45EC-AD8E-F74F21AC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599FA-985A-474E-A8AD-D9B46B69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94C80-B2E0-453D-A79C-2B84313F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2EE96-26D5-4D12-8B72-168F2195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79DB8-E221-4B8E-84E6-E414873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68469-6100-4E24-ABB7-725640DD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FEA0B-D6E6-4461-9601-EA32AF73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79E20-F6EA-4CAC-80C2-C1FC7C8C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643DA-D2A5-470F-8C33-08CAE5EA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C844-5726-40C7-A2B7-602D7DA8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EE6BF-787D-4618-934B-7BABF3F6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E614B-DEC4-4A66-87A0-38FF17CB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9A8AA-7181-4509-BEED-188348E7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E7BEE-D14D-4B80-A97E-4A3D2620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2A6E9-0AFA-4385-8F58-5ADA5C7C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15BF6-CE17-46F7-936E-4B360CE4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07641-BEDA-4A55-89E6-B246BFB8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BE2462-EDCF-4603-ADBE-9C91CEE2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6F232-955E-40CB-9B23-FC30DE78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D918B-4B4A-477A-B239-D5A43E66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8CC8-80E0-4D2E-8908-73F9AF7F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7C9E2-1D79-4150-A925-8D6C5D74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9E600-15EC-4DEF-8EB2-1FEB5E65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BF38F-BBDE-4BD4-A101-61EB9B57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529CA-0D1A-45A3-98AA-192EB2DF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15D16-3D9B-4F39-8123-97E69E58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A8BD6-5672-45C7-BC55-2E917328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9CC2D-D6B7-4BF3-8852-55C9F690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AB753-6E1E-432D-90DF-137C72F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5FB40-9A07-4772-BADE-60421247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358DEF-66BB-4224-B1D8-97057D37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F7F-F5FD-4A6D-911A-E4CE5B0E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B4F9-B932-4019-9900-FCF1239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8CE57-D9B8-4E07-933A-F7A66404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1EA34-4D93-4EE3-972E-31F86647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D1598-34D9-4AFB-B30F-9C8DCD49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7E9BC-41F6-4E8B-8DE2-F5304C9C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B12DB-DCE2-4125-8643-081B650B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47B88-8227-47B8-8983-ECB62169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02EE3-F16B-4A81-B728-356BA4BE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4CF17-EA9C-41D3-B187-CA246A8B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6C5A3-BAEC-4630-ACD5-750D20B6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D0C448-0714-4921-8CE3-99B1FA66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FF62-5081-4717-9B35-D13B511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F451F-BF6F-4DB9-A85D-EBD6C27D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A01C3-BD15-4AE2-B62E-F06E7807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D74EF-F657-41F3-9466-DAE78EA1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E5C621-9383-4C3A-8851-D9EBD62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3BEEAF-CC06-4CF3-9AC6-52AB3BF8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004904-471D-4047-99A8-5EE9437C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1106F-AB0F-4484-B79A-9EFC4A87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5A2B5-7AB5-460D-A3CA-108078DD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3237B-2402-4605-B619-1DE3F5A2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9C2019-53F6-4C44-99A1-DEB0BCE4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64F5-DF8E-4B34-BC25-C57F3E83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3951B-DBB0-4BB3-929F-20DAEA72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42ED6-698E-43BD-B59C-E6D41649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0717D5-DB79-48F9-A0B1-6A1FC84C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D0A7E-89E0-4F93-9FA0-F07C9A62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C4BF7-E091-4E2D-BA5A-C791C0CE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0B9B2-07D3-45BB-80BA-57445316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949AE6-29B4-4C7E-8A29-56DE1E64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EE11E-2F54-4164-94DB-A01A75C1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5F9E1-2464-45B9-B3F8-6678966F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40B19-47B5-48A4-96FB-3524D47D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FF11-47A8-449B-8CC0-3DF17A94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06D04-4513-4EE8-98DC-4142B74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1EB31-6A9A-4A87-A6E7-4A0E03D2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109F2-E0D2-4EAF-BDFD-E6E897D5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6B645-5E66-4AFA-A51A-CBEBB6EB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FD25C-E43D-4D30-970D-1DAA2E24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3C9CB-091A-49D8-B94A-D0DE0C4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26E7D-9263-4F20-93E9-2FDB991A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4E1A5-2A15-4E67-8DFA-08DF8B3A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301F47-7847-4151-AEF8-57C124B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374624-B9D6-4A48-8FFF-0FF03131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5514-6B27-429E-A24B-F0DB5D14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D6DDCB-2BA5-436B-9093-09B8DD81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1B15D0-557D-42D6-BA5B-983579F1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B7D2A-CF6E-4277-8B34-58CF7E48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D8BA6-FB88-4649-8D3C-A61C0665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BEEB9-D541-42C4-8354-46385436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3F6E4-766E-4B88-9EF9-24D4ED4B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03C62-8740-4BA5-BD93-BC955964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F9054C-A755-4785-AE2F-CC71DBD0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6A546-D8D5-4BB7-A2E7-E219EA85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9450E4-A6EB-4FB6-8595-50B264F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E761-905E-4295-8880-0845962E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85CC2-D4C1-44BD-B8C2-D2415936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24146-88AD-4E6F-BED5-36C41C4D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44295-4828-496B-9FD7-FD1BD2D0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3B2F-7BD8-4B4F-9219-A5C373E1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C467-6C45-4666-A9D8-5820EC33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7A0A-2CC8-4EF9-A282-306599D5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9778-B991-468E-A435-B467FAC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A2A-39ED-4851-AE84-52310701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D1EE-1649-4112-8CDD-7805173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198C-1DA9-49DC-9E19-065E8F7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60E8B-C44A-42F7-B200-F734D8A7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85F6-B677-40EA-B560-3507EB8B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BD14-9A77-45CB-A5FA-A6CC926F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D905-3906-4A94-B58B-F740A71B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87D8-AB38-4622-BDA7-4CC66065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A2B7-B984-4D6A-971D-78F8798A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A6C3-17DA-44E9-A172-72E9E877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3879-812E-4DE6-8CA1-B6C6314E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970-69DA-4B32-9D75-851F3D95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4793-1B5C-4A25-A673-B6E09F75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9B85-6A18-4D65-83C5-52F4B2D0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732F2-3D39-4436-AEED-08E99CA6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A4F7-3463-417D-B94D-4AD09B22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94AD-A7B9-43DA-9889-9F8C6FE3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C485-A8C7-4FBD-8226-925FE40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6F73-1F83-4F9F-9800-AFB9E039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C2172-01A3-4DE9-A816-0C897CE9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B603-B438-44A4-B9C0-28F595BF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D41BC-632C-4DEE-8E09-A1DF951F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92C-D42F-4F7A-BBD7-EBF13CA0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EDEF-4C97-424B-B7BB-6212B19F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B8E72-FB93-4BE1-B884-C7471EE8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01D7E-9296-4D66-B042-1939462C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90182-68E7-4A93-8872-B63F9D05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EC87-6278-4E13-9F57-E5660D19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03A3-0530-4DE4-818E-6B88BA0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DDACC-B767-4DBD-B853-DADF1C0B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2F38-9701-44DF-A955-9B67504F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25C7-5ECF-483F-9808-B1C53BB9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7AAAE-F467-4B01-8A84-F627A8A9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F6A-D410-4EDA-A1B7-13C4F8D5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45EB-D9FA-4782-A1CE-89781E52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6A856-9A62-491B-97B2-67F339ED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65C5-2CDD-408F-B44E-25C07DDF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E5C5-95AB-4393-9633-6685BB46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047A-D49D-4F63-B08C-02FE73E5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A29E-DF01-4EF9-8E7D-418F8292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6F91D-2115-4C7A-A8F2-42798AD3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1A635-2A9B-47F8-B32B-44914380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11E4-DA92-46DD-BCE2-74CB6415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880E1-5BD7-434F-918A-6A620D98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3F8-DD62-43F8-85A8-98B0C6E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524D-AF8B-41BD-8A4B-51C0FED2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CF54-FB31-4423-A4F4-5C018EE2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83A8-72E3-441F-AB87-E79E8F23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2C38D-A01D-4D54-A369-A196458E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5CCF8-B420-4F50-8FFE-0F5F0AED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A54E1-5655-44A2-9AA2-7C869C59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6767F-7800-4CDD-B672-CED1EDF6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EFBE5-D04B-41C0-8753-55332B7D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97FE-4067-487A-B66C-93CAA14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2127F-A279-4772-9AB2-D2FAEE98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D05-BD1A-4F87-A6E0-873CD492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A675-B7E8-4C49-949E-CFF3590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0E59E-3DDD-4F9F-9E51-1E5DFBE7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1F5D7-048F-4485-887A-70475EF4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B49F-C0F3-410B-A9EA-6926C610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40B5F-7EC6-4165-A78F-1229C3CD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0D3E7-49FC-4282-B3B7-583A94C7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3C389-C46C-41E6-8573-C002F4C7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8D7EB-0075-478F-8D7F-2538E7CD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CEC84-3733-4849-894B-3562F60A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F98CD-E546-4B3F-8BB2-84C36628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D6E-D8D5-4C36-A9A1-81D9AF17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D3433-2D80-4B6B-8403-1CC55054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A793-C93C-45F2-8394-CDD2C934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B0BA4-62BB-42E8-95E4-CDF49AA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46AE0-0A7B-4E71-A5D9-378DDEF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B1720-29DE-4C2C-82C7-4D4CA614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96791-08CA-4A9E-B5B4-EAED8FF2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B20E7-FD1E-4B4D-81B7-032BD187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3DC74-A576-4295-ACF6-C16C4C69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006BC-D235-48AB-BD04-404E6F9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AA7B2-FCBC-44D8-A223-288673A0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1F81-DF50-48FE-B4C4-E80E8B3317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E9E6-EB38-4C7A-BC0D-E438766BE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0540-35FD-471C-B65A-B08E13820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C120-82F2-433D-9772-4DDEFCFCE9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BC67-87D5-43AC-9324-47EE56DDB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B4F-42CB-46B4-94DC-A38D8AEAB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5732-FE90-40AA-BFE9-3940E956F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D498-7F5B-46D7-9B2E-64C26E4F2D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8FBA-0A10-4EA1-8B17-7F75FC3ABA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A686-522B-401D-8760-140F5D71B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1808-32C6-4808-AFF5-3158FCE40C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2E2-A0F1-4A46-8931-0C2D321036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18D1-7F29-4104-A53E-F2E0E65D1B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0E8B-C060-4315-9309-ADA9D65EA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7A63-4B60-40C4-B893-3D17B4B5DC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DE5-AD7D-4C70-BA81-EF7E6008A8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E9C-3C04-4DDF-98AE-0EAB911B7A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8A7B-3A66-404C-90AF-2AB32D0958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3CB9-7348-4649-8E85-1439C80DD3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8DAE-87FC-4D13-9F51-514047355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D9C7-AE67-43E4-85D0-06F2A7D2E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93FF-8C50-46B0-83D5-74F884BDF8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9DEB-AEA0-4BCB-A447-7A14E55D0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6469-8CE3-4F97-BFE7-340A6337E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32A7-FEE1-4D43-9711-77E7B7E98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9E2F-DA2F-4DC0-9753-3BD6D12546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A03D-77AF-45A7-9153-99ECDF62BB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6813-38BC-487C-817A-F2DE4A875F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D524-E443-44C6-9E60-F049C0E397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F28F-BF38-4515-891A-D6F1E8301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7F8C-1954-4DE4-B078-66D9B42D5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666C-CD00-4D89-A444-023D710E5A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C649-CA56-40DA-9D9C-BE101B09FF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2619-1193-46B6-8BD4-C51D641B5C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8B0D-D8F5-4F18-8429-ECD8DC3839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CF8A-EE60-4F32-851F-419DEBDAA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933D-E516-4B7E-8166-825F026520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B4A1-2500-4AE2-BCC0-74F65CF50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F24D-C625-43FF-8E81-3827FCE8EC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D5FC-654F-464B-9928-F665537DB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2160" y="2924280"/>
            <a:ext cx="86565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495360" y="846000"/>
            <a:ext cx="8153280" cy="53913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5292720" y="173052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5364000" y="240660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5219640" y="314172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5292720" y="380376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4284720" y="5084640"/>
            <a:ext cx="107928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6431040" y="5532480"/>
            <a:ext cx="820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8609" descr=""/>
          <p:cNvPicPr/>
          <p:nvPr/>
        </p:nvPicPr>
        <p:blipFill>
          <a:blip r:embed="rId1"/>
          <a:stretch/>
        </p:blipFill>
        <p:spPr>
          <a:xfrm>
            <a:off x="852480" y="1052640"/>
            <a:ext cx="7439040" cy="220032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8610" descr=""/>
          <p:cNvPicPr/>
          <p:nvPr/>
        </p:nvPicPr>
        <p:blipFill>
          <a:blip r:embed="rId2"/>
          <a:stretch/>
        </p:blipFill>
        <p:spPr>
          <a:xfrm>
            <a:off x="576360" y="3529080"/>
            <a:ext cx="7991280" cy="2276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4427640" y="161460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4255920" y="22906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7408800" y="161460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6"/>
          <a:stretch/>
        </p:blipFill>
        <p:spPr>
          <a:xfrm>
            <a:off x="7380360" y="23065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7"/>
          <a:stretch/>
        </p:blipFill>
        <p:spPr>
          <a:xfrm>
            <a:off x="2297160" y="4149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8"/>
          <a:stretch/>
        </p:blipFill>
        <p:spPr>
          <a:xfrm>
            <a:off x="2484360" y="47671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9"/>
          <a:stretch/>
        </p:blipFill>
        <p:spPr>
          <a:xfrm>
            <a:off x="5075280" y="4149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0"/>
          <a:stretch/>
        </p:blipFill>
        <p:spPr>
          <a:xfrm>
            <a:off x="4875120" y="478296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1"/>
          <a:stretch/>
        </p:blipFill>
        <p:spPr>
          <a:xfrm>
            <a:off x="7885080" y="4149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2"/>
          <a:stretch/>
        </p:blipFill>
        <p:spPr>
          <a:xfrm>
            <a:off x="7870680" y="4753080"/>
            <a:ext cx="72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90600" y="870120"/>
            <a:ext cx="8362800" cy="5295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952800" y="400536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78320" y="4005360"/>
            <a:ext cx="5176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556000" y="45514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059280" y="505620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117960" y="5530680"/>
            <a:ext cx="36036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680080" y="5546880"/>
            <a:ext cx="50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496000" cy="3914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19564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352440" y="928800"/>
            <a:ext cx="8439120" cy="5000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2268360" y="3083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588000" y="3097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3132000" y="41925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588000" y="45957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6602400" y="5416560"/>
            <a:ext cx="863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423720" y="900000"/>
            <a:ext cx="8296560" cy="5553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09308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093080" y="5877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628560" y="961920"/>
            <a:ext cx="7886880" cy="4934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70036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644364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2700360" y="54309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516720" y="538812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909720" y="1876320"/>
            <a:ext cx="7324560" cy="3105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6804000" y="290988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804000" y="36162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804000" y="4292640"/>
            <a:ext cx="108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485640" y="1176480"/>
            <a:ext cx="8172720" cy="4505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236000" y="355752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7308720" y="4292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7236000" y="499896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747720" y="2381400"/>
            <a:ext cx="7648560" cy="20952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04000" y="3141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6804000" y="38606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8:1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