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6776-D5D5-499B-B461-CDF5F106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8DB7-E054-4001-B1AF-8A1A2726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21BE1-5DA1-401A-B827-BCAE61EA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E6AC4-2869-4A96-ADF3-6F9FABA2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1B139-BA2E-457D-8DD8-2D66CE19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B0583-4512-4463-B6BB-71C35EBB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3EF32-6DC4-453D-90BA-57B0B4F4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F3554-7C46-4B92-B4E7-9D78C94A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01220-13D5-438D-9336-17961C69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A5502-D68C-4489-86BD-5AB3F4E7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E0540-45E6-4C95-A8E3-E03FBE03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DF597-34EC-4BDD-BBAC-C8F47E68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58A-E0F5-447A-9DBA-74A0B7CD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3CB35-B6F4-4AD1-8548-17A91878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508DE-3E5D-4396-8624-BB060B77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3D328-FD58-4C46-A22A-49671BBD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1D096-B817-4BE3-A659-56C0E729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91233-63BF-4003-B030-03A1E716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F5E7F-0BE7-494C-AD50-5912DA79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86633-CB27-400C-8897-C8D68189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A0EA9-AAEC-4D37-AE88-7184E607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B9301-25A4-46F6-B5F6-B6796ACF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2102F-AD1F-458E-82A9-A7058F51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216-2305-45C5-BB12-7721DF71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56007-1266-4989-8011-B346765B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B921A-6EA4-4702-AD8D-FC1DEC8A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D7B80-44D5-41F3-AA90-D57C0B7F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9D488-3B6B-41DF-9C93-C07A7326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8B0AB-F4A7-4241-BAF4-3DE1F370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712DE-F3B4-4C3E-AACF-EFC7373E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F4DBF-EBAC-4C5B-8C32-908EFEBB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71305-3868-458E-9F16-EBCD4E69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0067B-7C65-4BAB-AF6E-916C9B10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0AED2-6E70-45A8-AD82-C19A799B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9A63-BB22-458D-A4C2-DE5ED770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5F6B1-7A70-47EA-B506-E0CA96C2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CD90A-2375-4470-8260-DE6F8DA3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7D5F7-24B0-4AB3-A2E8-7610C42E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4A954-63BC-4BBE-B996-9E5176F9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4F0A6-E0D3-4114-9B8D-E6D61E44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0336B-D792-482E-936C-B0E87E83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3D6AC-B0A9-4FF6-B27A-A6357E28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856FA-4559-428C-9EDC-A4B9B684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5DDB8-4928-4FF1-A467-DA12B77F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64157-E886-4CB8-828C-130B91A8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E4C8-D684-41A7-83E0-55BB2C2B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35BF3-6767-44C3-BA38-EDB7A337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8FF3C-D27B-4F27-9689-DAAC5253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7E6D1-9948-4F8A-BFD2-3A5102F1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01B40-EC43-4A65-B81F-1B022347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29A91-B12E-4017-BCEF-296E657D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9FA36-0EB3-4AC3-9F5D-4729B11B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1506E-D287-4482-9E8C-ECED0774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95FA0-229C-4E97-B28E-FC1510F3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B4A50-D93E-47B2-938B-38564A92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2B7C4-FDA3-4606-89A4-06C3D511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BCA4-65D4-4E22-AD36-6CB9330B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23EA2-6C1D-4778-8923-C408E504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C17E8-CDEB-4540-8F6C-719E4BB5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25553-8AF8-457C-8349-C23DD3B0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00DF5-4117-4FAB-BE7C-B9619C0E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2FDC6-E764-4517-96F6-D4E82A23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04723-232F-4B66-AE88-87A76246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6C1A4-35BB-40B9-95A8-F5FB854D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03B7F-1AB1-4A0C-AB68-00DE08BF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A66C10-FA79-4EF6-BBCB-31F72A40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FE2B01-AC77-453A-9064-EBF5E720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117A-5563-49DC-87DC-26A335D2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404A32-C00D-4803-AB59-E618C279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3D4A3-8BE9-4562-A3EA-BF0CB096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77DEC-BD1D-498E-9D49-DC51F2BE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DBA4E-8338-4135-BF44-78E73653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F698F-FA8A-4864-84B5-A29A7C7A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9B87EA-6FD0-4A6D-A9DA-9E7B062D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17B9D-1C55-4BCD-AB4D-C600F03D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68F327-31A5-4F8B-9BDC-8EDF4676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795A9B-8152-40D9-8E1E-C52B8E33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B0F22B-F058-4D88-8438-3D5B11B7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9C16-1BF7-4B3A-8D51-8EE4A0EF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1ED0BC-215B-4AE6-9B40-B37A59E8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ED6B1-673A-40F7-A1BD-597119CB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51196C-B2C6-4E82-B005-72A53CA7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7FAF45-E527-4576-B5C0-5A6CE19F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27E138-70E9-447B-B2DA-11D26A27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2B5ECF-18CC-4B30-A820-2D2E5899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0CCA8D-105A-43A7-BBCA-2666DA68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F989FB-592A-43E6-857A-0CAF1D54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C92DF3-1C00-43B8-B672-A0295957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FD197A-A51F-46DF-B814-0868C69B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125C-F8DE-48C7-B368-B2727E99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1DC76F-02B4-4958-8BA0-401B2761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0C5D0E-D753-49A8-BA11-11B1C441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E8561-1077-426A-A32B-D34B16AE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BFC2B2-21C8-455F-A979-3E17AF14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7DF4F-43AB-4468-A946-CE04C93F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BB5A63-C290-4BBA-B5FE-F9C8849C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3BE509-90C0-42FF-AC32-D155812C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B47A1E-3B2A-467A-AF94-FA87DD16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78D4D0-2818-4A8E-88A6-1D5687F1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F4252B-2D72-4A7A-AEFF-7DB83717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8953-527F-44CD-8AB1-AB33B1F1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F7C3CF-8C44-4A4B-9EF5-26367F40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BFED37-709C-4E8E-ADCD-3E375F51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135A82-F281-489D-AA3D-64218613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E61976-29BC-4B78-93DA-41B3C43F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5B1790-C441-4C84-AC5A-8A3317B5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8F366C-5F7E-430F-9F0A-7A93D82B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5C765B-96F5-4CA3-801D-5D8EDFBC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E4E4F2-7F13-4824-AFCB-4C4B1F37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3715E3-C47B-421B-917A-F1398B88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932D11-2ADA-407E-A6B6-CAA36DD3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810-DA37-49CB-88BF-B094E9F3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8EBE-A178-45A5-BE3A-D15C55BA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02F707-3469-4247-9BD1-4C5CE96B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8C4843-690E-40FA-A162-E32FFF56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BD8456-4189-42AC-873A-929E0A35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F6DD90-A4B9-4C28-BA16-EA81BAE8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850B6B-2F57-48EA-98A7-EF6C805C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DB28A3-3CED-4CA7-8CB6-DC3F7CA1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F4211D-CC80-4C84-A509-5CF1A245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76AC33-04A4-4C8B-89A4-A7969F5B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6D1226-0ED6-41E6-A747-3D09A707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22633B-B204-41C3-99F1-A2E7FE8E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EC20-CFAB-493E-8A57-9590D0C5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B8BB65-2BE3-4C95-A816-7B37DF2A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690A38-6938-4CEB-9166-EF6300ED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7DA8FA-1AE5-4664-8BCF-FA42D77F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A69246-57FE-4203-8392-DB84790E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71A1F3-0655-4F7E-AB36-B3F81470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9079D9-F04B-4284-B6E0-0438D434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4C7E49-65DD-46CA-B756-6D530449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A10938-D531-40E8-AF64-D4DCFC37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5A7405-A050-4B4D-83D8-D97438CF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B3CF8C-9A2E-42BE-AA0B-68DF056E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0751-DE86-4F7F-B9EE-14075EDD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2BB8C5-E42B-45C1-844D-A8920A03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4F5293-A68D-4365-9306-DAD77783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99D5AE-6681-4290-8B8E-2388BD15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68BED1-A87D-41AB-9A22-575A0C7E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A98D4F-BC92-4A8D-AFF8-93C91A7A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19C9D8-E6DD-4463-AD74-0942F02D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3ED482-277A-481F-8FD7-AF009889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3FABAB-6F4A-4753-81BF-D0A3ECD7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CFEBF9-332B-4414-8E9A-7A5AFF48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307745-E6ED-4F1F-9E1E-6FFBCC2E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8FCE-4727-4CEA-AA1B-A2AA688A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5BD11C-B4E3-47AF-81E9-BD805C45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853E4C-8119-407B-8506-597DB73F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2CC4B7-F982-4600-8F54-5CD17641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7B427A-C3A7-4167-8896-5710FD15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166738-3A3E-4485-92F8-D3334BFD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10CD6B-036E-4707-9CDA-586A84DB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E6C82C-6327-49D6-B778-D3262A0D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A3B2DF-DA54-4B4A-A5D7-BD1F109D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A107AB-539B-46E5-A534-CE4A5EA0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CF6428-BF3E-4270-B06E-64D3CCB0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8BA1-2C8D-426E-8677-97A015A3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927687-67E9-4BCB-B785-9F9372CB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D1FFBF-8279-4372-9926-572741B8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C1EBE2-5745-4C5E-A0E9-9C149414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E6D9AF-155A-4758-BBF2-B2CAD86D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F13D1F-BD01-41C1-B8ED-9C92E16F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7D5EEB-00E6-4B1E-A2D0-6C323224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D71532-533A-4C14-9587-BAD4EA43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FCC35F-7F63-44AB-919B-BCA2F0F0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CD5005-0486-4094-BBDC-8C779B8B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0415D0-0F46-4BDF-9A48-8B825F39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D95A5-D1E0-4DF3-8595-C6BF2DB6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A57EBF-F3AA-488F-8ED7-B2F9CE42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3D2B76-A283-4A04-83B7-B3EFB7D5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4A305F-42A5-4E69-8BB2-1B2DFE88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FCDDC-0259-4839-B985-D7313BA4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62ADC-C83D-4EF9-8CA5-22415DF7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DCC1E-CA44-43FD-B346-6D21C971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4D912-CE18-446B-B340-6C6F2B6A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E72-7676-43F9-8184-049F08DC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FDFB4-AA74-4B48-8F5B-8B4310F2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A09AB-8EC0-41E9-A21F-A72D0431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B0BEF-91B3-43A4-A64B-68B63F05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7B12-E062-4A6D-A73C-520CA013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FE0D-0B2B-4A7B-9EFB-78689F83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12F54-3264-4FF6-89E4-8A452F2C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B1162-3C96-4019-B68F-7842898A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D744C-85E5-4FC1-9154-F52567C7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E3955-20D9-41B1-BB82-A3019F44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54D55-C875-4788-A711-9017B050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47D-5BDB-4F10-ACC9-028C9FDC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667DB-8543-45B1-8BDD-AA7D2140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21972-D03F-409A-B769-00287D86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FCB71-6533-4E38-A5F5-20E580FA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D8176-8970-4E3C-AE39-F8F45146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3CA4F-94A2-4096-8EDD-97DE4EC2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9560D-1AE7-4951-8C2A-9E070DA6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FC7EF-FD82-4608-97AA-FA7C1EBA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03C53-9AF6-4966-8A95-5250E911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43FBB-238D-4089-B084-8FAA9621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B5A2E-66FE-473C-B13D-96C964FA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169-3BD3-4842-9357-72C28A76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787F9-D2D7-42BD-B5A1-106EBB3B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9D063-C402-4C2C-86F4-1A6DE922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D4AF8-2BE7-4732-9AA5-18F58910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0D0EC-057C-4FE3-8FF1-FC19F7A8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1FCD9-7F7D-4790-946D-29E93E68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3AAD1-6A6B-415E-9EE5-07016642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CE5B6-65BC-4AE4-ACB7-A874FD3B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10F3A-115E-459B-978C-36F1E03B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9C0F0-1710-4602-B23A-CA0E6D5E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5A11B-B567-44B5-8B56-EF7B101F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6AB-0AE8-4A00-BFAB-20412974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7A9E9-4AB4-41DC-B853-C0A88E94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A638B-5A9E-4B42-B09C-143739CD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EC55F-FD9E-4068-BF38-A3EBBF7B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412F5-B9B0-45A8-995D-1AE76332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9F855-E7FF-4483-BB16-EF5530FC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0DE89-E6BA-45FE-BF15-071BF327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639C4-B9A1-49F4-9A44-65611EB3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4A38A-9EDA-4787-9A41-A8946876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60082-6DFD-4015-94DD-D3E0338C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ED765-949B-4036-965B-9932AEB5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0E0-D3DF-4B73-88BD-08017654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E292F-CB11-41D0-B1ED-C6C571CD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B5C7C-496F-49DC-8AD2-0D123428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E616A-73AA-4BBA-BA18-A363AAC1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6930B-C812-4280-AA37-BC40AD92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748DD-9576-4990-B788-74B99F1F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EB0B1-F0D2-49A6-8611-F623B6B9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FACA8-E3C1-4042-8227-36E62EF7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91EBA-B40F-43AD-8EB1-1FF7AA83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357CE-E0DE-4D9E-AD18-42205ED6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EA83F-328D-448C-8661-34F6ED43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3F1-19D2-4839-8C3E-894C91EF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F5390-7B9E-4D3A-A0AF-F75D9A9B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8918E-297A-4BD1-A1F3-3E43A92B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3A673-C80F-4C7D-806E-FB9AD2E9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386D2-6D55-467F-B98B-B376B891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DEC84-4A6F-45E1-92DA-7F57B4B4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D973C-5F1F-4FEE-8414-1D1956AD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4D37F-2E8D-4235-8D1D-EC910C9B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C4772-C6F9-4182-9DFF-01FFCA7E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096C6-22D1-42ED-9DBF-5D36B80D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02EBE-9891-41A6-863D-4BD58406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F97-546D-46BD-BF4B-DF35210F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5AF0F-692F-41CE-A292-2BB960BC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46618-642D-429C-98EE-705911AC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4FD02-C474-4790-AEAA-B968DF2B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AE5FB-A955-4943-A01F-6278C62C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C616A-6973-42BE-99A1-3C50F0A2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DB1F7-BB54-4B3A-85A5-A81FF5D5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CE38C-11FB-4403-8F03-F59709EA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E0694-E243-4AE7-8453-071981ED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A3F82-E95F-4938-A3DD-25D86916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36265-43C1-4620-A33B-E5A11D1F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B464-6409-4E95-9BE7-FCE9CD9691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500C-36DD-45FB-8CC1-0FB135374A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3AF9-206F-40FA-AF52-6C8BD76531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2B29-6B1C-4E42-9E8D-B64773A52A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F066-155F-4554-9BA8-A51D475BC0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8086-9A0D-4B4F-8EE6-12107EC0F0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00A2-A877-4E54-9FCF-7BE54F5483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2F87-4D58-4A87-9C15-EFA746DA7F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FF6F-845A-4A76-8F3C-CA5C2C848A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A8E2-187E-47C5-8274-34EE849705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5742-9BA6-44F4-BA74-1BB7050446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4297-B1BB-4371-B240-8861EDF230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4081-FE65-4837-8B4A-23F5A3B369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FFC0-69B0-4918-A2EE-66B7AD6725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BA0E-C445-40C5-BA95-E6DA81299F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2A59-6316-4054-8D98-8D49684AB6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6A78-6A4C-4090-8D95-97D3396EC9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4F9C-3032-4733-9DB4-659142DBEF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C4F4-CB8E-4718-AF7E-19090E540E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864D-16A1-4A5E-B89F-4F14EB6A2E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7B2A-6EAB-4482-99AD-B9A4049E5A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BA9D-1C86-47A1-A0F6-DAF78CEE71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2DA8-9E86-4295-91B0-DFD34A0BB6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DD88-4776-4BF0-A540-740C779B72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F0C6-3B55-48A4-AFB1-C7E13A5385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FA72-F814-419C-A540-566EB834C7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E5E1-0044-41B8-BFDA-D7225FE32C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4041-0D4D-46CA-B049-200F9AEB82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5ED8-FE28-4A4B-917F-1713A225A3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537E-CB5F-4EBC-B2F1-3E541E4D07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EDAB-00CA-4CE3-B259-208C58C5AF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D9E1-4D87-46FF-84FB-1158FC3D0E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D056-E9CA-4FA3-9D31-951D15CB4F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972E-EDCB-493F-9DB2-4FE82B3927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B53D-7A30-4B25-AAE4-3DE9370259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35B3-E76C-4253-9EEA-12110AEC1F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5332-EA03-48C1-87D8-D9B2D04F65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65D2-150A-4CBF-97C0-57F62036E9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969D-21D8-4F3C-A0C7-36CBDA3009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C60C-4CD3-4215-8A58-A0EFD246BB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43320" y="1773360"/>
            <a:ext cx="2457360" cy="7524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676520" y="3459240"/>
            <a:ext cx="57909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69633" descr=""/>
          <p:cNvPicPr/>
          <p:nvPr/>
        </p:nvPicPr>
        <p:blipFill>
          <a:blip r:embed="rId1"/>
          <a:stretch/>
        </p:blipFill>
        <p:spPr>
          <a:xfrm>
            <a:off x="824040" y="1552680"/>
            <a:ext cx="7495920" cy="37526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6588000" y="393228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2916360" y="4710240"/>
            <a:ext cx="1079280" cy="447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5651640" y="4710240"/>
            <a:ext cx="1079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8609" descr=""/>
          <p:cNvPicPr/>
          <p:nvPr/>
        </p:nvPicPr>
        <p:blipFill>
          <a:blip r:embed="rId1"/>
          <a:stretch/>
        </p:blipFill>
        <p:spPr>
          <a:xfrm>
            <a:off x="290520" y="1523880"/>
            <a:ext cx="8562960" cy="38102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3959280" cy="12956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900000" y="4724280"/>
            <a:ext cx="374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876240" y="966960"/>
            <a:ext cx="7391520" cy="49240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500364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5364000" y="46386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880920" y="1743120"/>
            <a:ext cx="7382160" cy="33717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2786040" y="2952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2771640" y="34290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8373" descr=""/>
          <p:cNvPicPr/>
          <p:nvPr/>
        </p:nvPicPr>
        <p:blipFill>
          <a:blip r:embed="rId1"/>
          <a:stretch/>
        </p:blipFill>
        <p:spPr>
          <a:xfrm>
            <a:off x="552600" y="1709640"/>
            <a:ext cx="8038800" cy="3438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3276720" y="180180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7035840" y="177336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3405240" y="249228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3203640" y="321300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5940360" y="321300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6948360" y="393372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8"/>
          <a:stretch/>
        </p:blipFill>
        <p:spPr>
          <a:xfrm>
            <a:off x="2484360" y="4653000"/>
            <a:ext cx="935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7352" descr=""/>
          <p:cNvPicPr/>
          <p:nvPr/>
        </p:nvPicPr>
        <p:blipFill>
          <a:blip r:embed="rId1"/>
          <a:stretch/>
        </p:blipFill>
        <p:spPr>
          <a:xfrm>
            <a:off x="490680" y="819000"/>
            <a:ext cx="816264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6324" descr=""/>
          <p:cNvPicPr/>
          <p:nvPr/>
        </p:nvPicPr>
        <p:blipFill>
          <a:blip r:embed="rId1"/>
          <a:stretch/>
        </p:blipFill>
        <p:spPr>
          <a:xfrm>
            <a:off x="566640" y="826920"/>
            <a:ext cx="8010720" cy="59151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2124000" y="337176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2050920" y="4076640"/>
            <a:ext cx="482472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2195640" y="479736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2068560" y="5516640"/>
            <a:ext cx="293508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2124000" y="6222960"/>
            <a:ext cx="2935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5300" descr=""/>
          <p:cNvPicPr/>
          <p:nvPr/>
        </p:nvPicPr>
        <p:blipFill>
          <a:blip r:embed="rId1"/>
          <a:stretch/>
        </p:blipFill>
        <p:spPr>
          <a:xfrm>
            <a:off x="318960" y="843120"/>
            <a:ext cx="8506080" cy="51717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7711920" y="2492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766764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7667640" y="47386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7667640" y="55166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4276" descr=""/>
          <p:cNvPicPr/>
          <p:nvPr/>
        </p:nvPicPr>
        <p:blipFill>
          <a:blip r:embed="rId1"/>
          <a:stretch/>
        </p:blipFill>
        <p:spPr>
          <a:xfrm>
            <a:off x="662040" y="923760"/>
            <a:ext cx="7819920" cy="5010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6877080" y="5388120"/>
            <a:ext cx="107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2231" descr=""/>
          <p:cNvPicPr/>
          <p:nvPr/>
        </p:nvPicPr>
        <p:blipFill>
          <a:blip r:embed="rId1"/>
          <a:stretch/>
        </p:blipFill>
        <p:spPr>
          <a:xfrm>
            <a:off x="1052640" y="1662120"/>
            <a:ext cx="7038720" cy="35337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6732720" y="4610160"/>
            <a:ext cx="934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29:1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