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D02A-B36D-4B45-A659-9E4B003CE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55A4-D8F5-4290-807E-BC0E2BE7D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76EFDC-3913-44B0-A26A-25C72D882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F2D4D4-9259-4D7D-80F6-B75C28C7F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2166A8-A287-46A1-A0C4-9BC030873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36068E-3507-4587-84A1-2475BBCFC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5670AF-1ED0-40E4-8AB5-1EDF6FF6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C47E2A-03F9-4CE0-A1ED-ED554975A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4D9AF4-DB14-4197-BE64-5F754DC2B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62C891-4C21-448D-ABE2-2232E669D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C6496E-3A6C-4DFE-B64D-9D056DEBB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0E074A-D088-49CE-9E3C-7E677324C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8004-6ADB-491C-9E16-64EE122EB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780602-03AA-4496-B476-025E88A8E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766737-B752-45C6-9F06-03C5BC854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6FC6F6-DBE7-4D2C-8279-B9FCC3602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ABF531-69B3-41ED-B831-6AA77272F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E567DE-5CA7-4444-8105-E6D1F24DB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1E5187-5A20-413E-968E-E0A61F515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5B1FC9-EC6F-43A3-9306-817CBBE56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147BA7-9C4D-4ECE-9238-1F6FB8A9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0022E8-D001-46C1-AAF9-501F8A562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DD07E4-BC12-4283-ADAC-D2CB3D64A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F13E-3910-4E19-911D-8D064FBE9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ED9B11-FB3A-4E27-9C27-47C54C877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59DF04-D445-4B22-B89B-0CE8FAD4B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CCA7E9-6092-4F1E-921E-06238E42E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A1FC96-79F6-4756-B57A-537ED51CE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38F0F2-8389-421B-BD6C-EB926FE25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3727FD-411E-4A36-9E2B-C6A831B77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FDD7D2-AB8A-4D8C-96EF-434085511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557128-F6FC-44B1-B9ED-48547700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CF56CD-5A89-4613-B809-E18F7201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0D5FFE-0A53-454B-BFC3-7A2774B4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58E0F-2987-4710-BB61-B4E574730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994ED3-AD96-4C10-B408-7F216A3E8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956059-D5C1-47FA-BC34-65BA08A3D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6630D6-EDF7-4C5A-8405-8359542C1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B1B1DB-09E6-4E7F-93D2-AB02F5020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58333F-843F-4461-9FCC-FF2714744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DFC785-4129-4AEB-9AB2-B0B346432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23CEF3-68E1-43EF-8EC3-3687422F3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9DCDE1-F0F3-4404-A3C1-0382CEFC6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C638A3-DF5C-4961-87E4-2D97FFC24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3444AE-6390-41EC-9D1F-5731873D9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21752-F9F5-4BAB-845F-8EE73F25C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0C3BFC-C9C9-420D-929E-49CD90EF9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87A705-8F00-4C61-9716-07A9C676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53617F-8E34-4711-9AF8-12B7EFD42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A2A35D-089D-4190-893D-2B7A2BB02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420ED4-899B-4561-B76A-ABF571337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99D06F-D4A2-49E4-9FA1-CDEC55791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13B411-5E8E-4788-AA99-6D41012C2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0E4AE4-9B5A-44E8-B351-01A1E4A09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85DA22-C012-473A-92C5-BE98201FD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90AEAB-4A94-4DAA-9197-8AF9A272C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89810-F2ED-4666-8035-63BF61667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CFFBF7-8ABB-4C61-85C3-CBC22EA31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037BC1-5F53-4863-90C6-2C7AD3085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10BEF8-6CA5-4865-8392-25C619FC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5A912B-5A6B-4207-B896-FFB7E4F2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88D921-9129-4959-87A3-5099909AF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601408-AC08-4FF4-865E-FA146B283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2B287A-29B5-494D-AF74-18003CEBD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1CC683-8623-4F56-87E1-A47EA63A4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5DCDAD-58C4-4CE5-91A2-50D53A3C6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E9687B-94C9-4624-9516-F8B504B65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C7C51-BF94-45AF-A8BC-920E145FB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0DB2D6-DED7-41E4-89E0-038F107A4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171752-F2D0-410F-941F-1C08245F2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0273F2-DEE5-4036-B81C-595182B12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00319F-6B35-4576-B84A-157F584F7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D9769E-F981-4AD8-8CDC-FE6167B9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1DE3EE-DB31-4558-A2CF-B7B00B0A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A502EA-A18D-4C1D-B168-A0591732C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4E61E6-E4AD-496C-944F-6FA18ACAF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FBF4CE-A5F4-49DB-87E1-E92E07D0D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9AC0AD-7C9F-47F2-9084-C7B95B8B9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FC41D-8A46-4751-92AA-C9B638789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B770A1-10AF-40FE-B4A9-E832639FE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76640F-9012-43B5-912D-982E0AC77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DCD916-65FD-4125-A7B2-58A5B45CF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0B5628-40F2-4586-8DA5-6D6F7841A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231054-E70C-4859-9E7E-C3938A353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6AD27A-C507-472A-822A-E7495275D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FE26B0-9A22-4783-95BC-53534ABE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06A87F-1760-41A4-B4F6-E604A42A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BE2107-7CF3-440E-8E16-6FB937686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0888C9-24DE-4E10-B586-01444DCE1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4486E-03BA-4646-B619-CEB13B625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9FBF86-5E60-421F-887F-C2C2E7FF3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D587BA-E6F0-4E9D-8037-74D460355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933726-1FEA-403D-9D2E-F31F1FCA0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48723C-5F8A-4979-A796-3DD5D4C59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AF8875-1487-4694-996C-41C632CDD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44A379-724F-45CC-9D4E-0C712FB4A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FC3959-10D5-4690-93DB-F8F4AC197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AA35D0-3F56-478C-8407-E7B1E605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897EED-11C4-45E9-A2A1-BABD82891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DF3741-3ECD-4B5E-8778-155462934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03BD9-F1D7-4C95-8A01-11498D55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06BB7D-7E29-416A-A41F-8DC3A4FFF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967D26-1D6A-4261-9162-2A0E86231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96FCF0-838E-4775-9339-B51805E29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976338-670B-467A-8D12-F341256D4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87C0D4-EEF8-4A1A-9C40-ED171C07E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9653A4-DD83-4FEB-B669-9036B324A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9FE445-90EC-497E-BD8C-A0DE63C3E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7A5FBF-C530-4D69-80AA-8A89A77B5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06DA84-AF36-490E-A301-4D29B8C33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DCC640-3138-44D4-8AA4-E7A5E72D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E68F-84DC-4A8F-9D9A-D5E0EB493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E5E91-6676-4338-98DC-37506ACD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5F5EFD-9409-49C6-AFB5-80DB57CB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AAEF7C-4A38-4B0B-8C2F-EC148387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653661-1663-4423-B7EB-60A067E72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6DEA83-E8D6-40BF-B7B4-4C2BFB9D1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3DDE12-505F-458E-9D85-04934BA28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727151-4FC1-4556-AF34-487AF0313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2DA531-EE35-4F77-84F6-85ED4B74C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84FFAD-46D5-4903-9065-CB870A889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56D7EE-2CE4-42C2-B463-2B8E9151C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3F12A0-55DB-4EEE-9D22-06AF353B7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F2BF8-FA5B-4A9B-AEA6-73EB5B7CE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C35B53-D4F5-48A4-9E7E-E2EF3624D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A8945F-33D2-4DC3-9FDD-C3C917A6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F4DCAE-E40A-4965-90F9-48A020751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7C50EF-79CB-4CDF-86A1-E61EFF76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FE7D91-0C4D-4667-84C3-883934D62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06030D-F4CC-4C13-9037-E6699AC0A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E142C9-4AED-4386-96E2-ECAC7CE33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EE0684-9DB8-466C-904D-3B4CDBE13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20C5C1-EF2F-4DC9-AE0C-47C7DF52A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312905-B941-4245-9A01-7C5DA57D7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806D5-E2D4-4182-AF7A-9A30BE019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606FE1-8C96-478C-A4CD-BE3700D76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35B6D3-B088-4BD8-A128-422CF1D42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4445CC-9B02-47A6-98DA-4D7B4E72E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6E84D1-800F-431B-9DA3-6B80A4A3A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E317BB-1401-4CD3-85EA-CE93DA43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04156D-E54F-474E-A057-785CD9AD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5E5B35-921A-44CC-8AD5-3FE0F3AAB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F48736-D5E3-475A-9ADD-6D91171BE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CCB00E-28DA-4965-B5CC-38977120D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4D0327-1F5C-4D75-8EF8-F0D04EFBA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5F90E-0A56-4AE9-B3BD-71F66ED5D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EC39E0-7310-4D33-A885-D7326FD49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F4D141-7770-4940-812D-A958BD06A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5F0519-808E-4B72-A6BC-6CB70E99F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914EDA-8EA8-47E0-BA2A-86F6D0CFC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A51599-4EFD-41F0-8F63-134A2BF67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3DD334-0E52-4220-B820-6B90B960F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DF81A9-E9BE-46B9-A3B6-6C9192CF8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B45887-0937-4F4A-8DF0-856FB7BD7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8E698C-249B-41EF-AAC9-2439390DA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ECF4B9-C213-45BB-BC40-0CEA7D8D4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820D6-BFA7-498F-BDFA-BB71A9BBA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42EAEC-E4A2-41E0-ABF4-A4A1C0833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3E12FA-B12A-45D4-9E2E-25A0BBBD6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B0CD92-2FE7-4CFC-9055-56EDE880B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4219CB-9481-4592-80BA-5EE443CEA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E65E8A-AF57-44C5-83D9-9ED32075F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1EFA5A-309B-412A-9FD0-9EFC3E83A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0917AB-AF14-4DA6-8385-3ED21E402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E739DC-E6C3-45AE-80FE-2DCB3B123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28CAE8-1B13-4ACF-A315-5553A8F79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5638C2-D2CA-418C-B60A-5B85C949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7FBD1-F1FA-4723-A590-3AC3DDB90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CE93E1-75F0-4C06-A78F-7BD0503F8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CC8F7E-22DD-4389-A40F-C2797F121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0FDFCA-0985-4EF4-B2D8-8F66FA946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B439B-85C9-482F-B436-8043E8AA4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34840-783A-40AE-9CBB-3FE3B558E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0944A-4DC5-45F1-ACAA-FABAC006F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07239-A2E2-44CF-8AD7-50C44002D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61A5-7671-43A4-86A6-D171FE2B1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94F7E-636F-4B33-BADB-F04985E30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BBCCB-3D98-4FD1-9A23-8BF09FD3D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55193-58CF-4C18-86CA-64C3BE5AC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7EF50-B7B1-440F-9F02-DCF17E0F3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BFD9A-0EFF-48F8-99EA-872A15007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4F398-8D0B-4D87-9646-AFAB7BAAF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A6D89-CD3C-42CE-B299-A0DA53BE8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B8BE8-C8D5-4F75-A2BA-34F782A1D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5B147-C314-441D-826C-ACB1753B2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50610-603A-49A5-B80E-E06ED6092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4AD1-5829-4735-9F53-42CCBBDFC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A14A4-3CAE-4B09-A685-758B0BEA8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F5003-06E4-4283-9D91-F0A276B01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345D8-E505-483A-9C99-3CD8B49B9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B15E4-117D-4F4D-8F61-0927C6029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C3C7B-E908-4910-A4EB-4E4A76805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59D77-36A7-4701-BA51-944FE3B7B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E54F7-BE39-4D74-B9A6-BA1D94D25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78FD0-B4FE-426D-9D4D-BD1324DD8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FBB44-AAF8-47F3-8327-233D66547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1003D-BA17-4B85-975D-DFFDB4579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6D86-00C3-477C-9E36-DA1269961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696110-9F2A-4D49-9FC2-B524C8D21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54EE94-4BBD-4D64-8DAB-1C73D086B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6B3D3-A405-499C-A816-D85002A7C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3F31F5-05B2-4A34-97C0-A21A73F86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E3190B-9DB2-45A9-9DDA-3F2099479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C306F8-1AC0-4999-B01C-4D50B2B6C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E31EC-A4E5-40D4-99B2-1CEAF7B7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0DC892-A1BA-4A9B-8F7E-61990703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0B5EC4-5523-45D2-BB74-0B29E9772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039831-4E08-44B5-96B6-E3298A23D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3961-F9F8-428E-B72A-22FD2E8FD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CEDFC0-121F-4DE4-8DB6-1EB312132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C83DD0-3E65-47B6-84DB-CA42B1E49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15A737-5916-4B07-AB84-087FA123C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D9A70D-313F-4359-8B27-531DDB55D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0318EB-AD7D-42C2-976E-935F7CCE4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0CAEA7-A382-4B9B-990E-576C71B5D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7651D7-1EE5-45F6-BFB4-2EB9BAB45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98991D-0678-4768-9148-601629F0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93C3ED-B96F-446E-AF15-4E368AC46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A2E1D4-7476-4CF0-8AB4-2ECD7B580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B481-7613-41AB-9E59-23E004F1F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B45B4E-D00D-4D7D-BD88-ADBFBA129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5BF59D-FEC1-4217-8175-377ACE2F0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90CE39-2DC5-4527-8035-5EAC48055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E9E541-CB78-4FFE-BB90-85E3B6978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F0AB87-26EC-4C9A-9EDF-E1A7F0377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3C6620-187C-4034-A0CD-53D313D68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766BA6-2C93-418C-B200-D9B34DB87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C6C3EC-F258-43BE-BE6B-B5ECE0600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D35211-D536-48F2-B045-DC9EADAA9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FDDCF3-A6BD-45C7-B2B9-483C68D2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D57D-913C-4C9F-8097-4F444C86D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599635-95AE-47F8-BAEB-ED7C7794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54C3C1-7490-4723-96D8-172035D54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117EA2-161F-46D6-A2FB-7CFA9C9FF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14D358-1A74-4565-A6AF-7A4CC4B1E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0631ED-86D4-4B59-B75C-8BB09D41E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B5BF7E-43D9-449E-9AFE-6014AFADA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02AA4C-A6A6-4C6B-AEF8-33D911705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CF842A-EEE6-46CF-9670-67ED19AEB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2E640A-704B-4765-A5D9-E54A09ABC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F24365-84F9-4DDF-A053-F0C813EE8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B7C1-E983-4FF6-A85B-44298CA79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A2B2B2-5274-4633-8DC5-679426655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C41749-08A6-4784-B6C8-C2A9725A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C80518-E775-4D73-993F-ACAC480B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46DC45-5E8C-45FA-9143-067F3E2F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8AA8F9-FB5C-4866-B067-F5433631E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ADD2C6-5D2A-46A3-9B8B-2B1A87B69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03098D-7B5C-48C4-9A24-96F757982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E6E7AF-4043-42F2-AD47-BBCB831E9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581657-6197-4B0C-88DC-DF079CB07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B12159-E15A-4B1A-8815-82137AB1A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E378B-E5AB-4C68-B9E9-97366D398DB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DBB95-E3E7-49E7-AF1C-C1A17C7A50C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186CF-D1A4-4729-A1D9-1664D34170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2C84B-4C89-4F44-97BD-48DC12C2DA3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4F0D9-4E01-415F-9589-78B3DCB682E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49BBE-97B0-46DF-8BA7-D62283C265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38864-5CB1-46CE-B1FF-659EFF855A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448E6-7FDF-40A9-8B54-6237A414A96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C0375-AB21-4FCD-B3D5-14838804F3F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41A7B-8854-40F4-AE53-6AF934A73B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37C7B-3CFB-4733-B2CF-3707E6F2235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C48CC-EDF6-452F-B831-5B3153844A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0CE18-5F0E-4CA6-8A34-78B5161F6E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D1B75-C64F-4CD2-B429-D3542CEDB71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67CAD-8A52-4CE5-9E32-6AFFF569AE1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2F4B9-14C5-4B9B-A248-CB6C37A3F8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ED737-E708-4065-A086-246AF57676D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9E9D5-18C8-4E98-B483-0A913B6F4BF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B8A61-C153-41A1-8E83-72046C2E4C0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EE051-CEBC-4A78-8A7A-DADC076108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19FCE-37FC-4901-827C-9885DFFCB49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DA3E1-8AF2-4A7A-8E35-E0623668BF6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34B05-D15B-410A-814A-9987FB303E2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02C9F-EAF9-46CA-BDC7-5F53BD3F4DA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7B414-CB34-4B87-87CF-354D70A2F7F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0551B-4FA7-4320-B379-B88438B2F1F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C5430-DBE1-4DBC-982A-D25FB0C2B89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86559-CB0C-426A-B289-782CE655E8D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1974600"/>
            <a:ext cx="0" cy="282708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27491-AB84-4BF2-A310-CB0BA63D42A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B3A4F-0D22-4ECF-A6D3-F3A3CD80FEF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CF596-97FC-4A7B-A95A-E68D43C688E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0C7FC-1988-49BE-B0A2-F2E6A121092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FD685-5DA3-49D5-8AEB-F51FE4AD3C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EF46F-D41D-4E1B-AE98-693F6DC81DA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8AC1A-E879-457E-B4D8-F797B02E835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ED112-0ECF-4DF6-92B2-9D98FD08082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E5A88-5E04-4998-8530-B51AFE68A0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98023-29B9-4427-AB7B-DAF3692AF29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2B684-D672-4264-AF0D-AB6B41B74AC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FD264-3BBF-4477-BAEA-496890C596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690560" y="1700280"/>
            <a:ext cx="5762880" cy="1152360"/>
          </a:xfrm>
          <a:prstGeom prst="rect">
            <a:avLst/>
          </a:prstGeom>
          <a:ln w="0">
            <a:noFill/>
          </a:ln>
        </p:spPr>
      </p:pic>
      <p:pic>
        <p:nvPicPr>
          <p:cNvPr id="922" name="图片 28679" descr=""/>
          <p:cNvPicPr/>
          <p:nvPr/>
        </p:nvPicPr>
        <p:blipFill>
          <a:blip r:embed="rId2"/>
          <a:stretch/>
        </p:blipFill>
        <p:spPr>
          <a:xfrm>
            <a:off x="581040" y="3517920"/>
            <a:ext cx="7981920" cy="8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5" name="图片 52231" descr=""/>
          <p:cNvPicPr/>
          <p:nvPr/>
        </p:nvPicPr>
        <p:blipFill>
          <a:blip r:embed="rId1"/>
          <a:stretch/>
        </p:blipFill>
        <p:spPr>
          <a:xfrm>
            <a:off x="247680" y="1647720"/>
            <a:ext cx="8648640" cy="356256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1" descr=""/>
          <p:cNvPicPr/>
          <p:nvPr/>
        </p:nvPicPr>
        <p:blipFill>
          <a:blip r:embed="rId2"/>
          <a:stretch/>
        </p:blipFill>
        <p:spPr>
          <a:xfrm>
            <a:off x="826920" y="3184560"/>
            <a:ext cx="2592720" cy="47952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1" descr=""/>
          <p:cNvPicPr/>
          <p:nvPr/>
        </p:nvPicPr>
        <p:blipFill>
          <a:blip r:embed="rId3"/>
          <a:stretch/>
        </p:blipFill>
        <p:spPr>
          <a:xfrm>
            <a:off x="3851280" y="3213000"/>
            <a:ext cx="2592360" cy="47952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1" descr=""/>
          <p:cNvPicPr/>
          <p:nvPr/>
        </p:nvPicPr>
        <p:blipFill>
          <a:blip r:embed="rId4"/>
          <a:stretch/>
        </p:blipFill>
        <p:spPr>
          <a:xfrm>
            <a:off x="755640" y="3832200"/>
            <a:ext cx="2592360" cy="47952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1" descr=""/>
          <p:cNvPicPr/>
          <p:nvPr/>
        </p:nvPicPr>
        <p:blipFill>
          <a:blip r:embed="rId5"/>
          <a:stretch/>
        </p:blipFill>
        <p:spPr>
          <a:xfrm>
            <a:off x="3780000" y="3860640"/>
            <a:ext cx="2592360" cy="47952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1" descr=""/>
          <p:cNvPicPr/>
          <p:nvPr/>
        </p:nvPicPr>
        <p:blipFill>
          <a:blip r:embed="rId6"/>
          <a:stretch/>
        </p:blipFill>
        <p:spPr>
          <a:xfrm>
            <a:off x="684360" y="4567320"/>
            <a:ext cx="410364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2" dur="10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7" dur="10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2" dur="1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7" dur="10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2" dur="1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60428" descr=""/>
          <p:cNvPicPr/>
          <p:nvPr/>
        </p:nvPicPr>
        <p:blipFill>
          <a:blip r:embed="rId1"/>
          <a:stretch/>
        </p:blipFill>
        <p:spPr>
          <a:xfrm>
            <a:off x="290520" y="817560"/>
            <a:ext cx="8562960" cy="592452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2"/>
          <a:stretch/>
        </p:blipFill>
        <p:spPr>
          <a:xfrm>
            <a:off x="3276720" y="3097080"/>
            <a:ext cx="1008000" cy="47952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3"/>
          <a:stretch/>
        </p:blipFill>
        <p:spPr>
          <a:xfrm>
            <a:off x="6934320" y="3068640"/>
            <a:ext cx="1008000" cy="47952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4"/>
          <a:stretch/>
        </p:blipFill>
        <p:spPr>
          <a:xfrm>
            <a:off x="3160800" y="3957480"/>
            <a:ext cx="474480" cy="39528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5"/>
          <a:stretch/>
        </p:blipFill>
        <p:spPr>
          <a:xfrm>
            <a:off x="7308720" y="4956120"/>
            <a:ext cx="1008360" cy="47952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6"/>
          <a:stretch/>
        </p:blipFill>
        <p:spPr>
          <a:xfrm>
            <a:off x="2700360" y="5516640"/>
            <a:ext cx="576360" cy="47952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7"/>
          <a:stretch/>
        </p:blipFill>
        <p:spPr>
          <a:xfrm>
            <a:off x="5292720" y="6049800"/>
            <a:ext cx="194328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0" name="图片 59410" descr=""/>
          <p:cNvPicPr/>
          <p:nvPr/>
        </p:nvPicPr>
        <p:blipFill>
          <a:blip r:embed="rId1"/>
          <a:stretch/>
        </p:blipFill>
        <p:spPr>
          <a:xfrm>
            <a:off x="571680" y="1062000"/>
            <a:ext cx="8001000" cy="473400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2"/>
          <a:stretch/>
        </p:blipFill>
        <p:spPr>
          <a:xfrm>
            <a:off x="4255920" y="1052640"/>
            <a:ext cx="1108080" cy="47916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3"/>
          <a:stretch/>
        </p:blipFill>
        <p:spPr>
          <a:xfrm>
            <a:off x="4241880" y="1700280"/>
            <a:ext cx="1108080" cy="47952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4"/>
          <a:stretch/>
        </p:blipFill>
        <p:spPr>
          <a:xfrm>
            <a:off x="4140360" y="2593800"/>
            <a:ext cx="431640" cy="35892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5"/>
          <a:stretch/>
        </p:blipFill>
        <p:spPr>
          <a:xfrm>
            <a:off x="4572000" y="3514680"/>
            <a:ext cx="1944720" cy="47952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6"/>
          <a:stretch/>
        </p:blipFill>
        <p:spPr>
          <a:xfrm>
            <a:off x="3851280" y="4062240"/>
            <a:ext cx="1944720" cy="47952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7"/>
          <a:stretch/>
        </p:blipFill>
        <p:spPr>
          <a:xfrm>
            <a:off x="1332000" y="4581360"/>
            <a:ext cx="576000" cy="47952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8"/>
          <a:stretch/>
        </p:blipFill>
        <p:spPr>
          <a:xfrm>
            <a:off x="3419640" y="5157720"/>
            <a:ext cx="338436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图片 76801" descr=""/>
          <p:cNvPicPr/>
          <p:nvPr/>
        </p:nvPicPr>
        <p:blipFill>
          <a:blip r:embed="rId1"/>
          <a:stretch/>
        </p:blipFill>
        <p:spPr>
          <a:xfrm>
            <a:off x="324000" y="679320"/>
            <a:ext cx="8496000" cy="613440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2"/>
          <a:stretch/>
        </p:blipFill>
        <p:spPr>
          <a:xfrm>
            <a:off x="4413240" y="2565360"/>
            <a:ext cx="576360" cy="47952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3"/>
          <a:stretch/>
        </p:blipFill>
        <p:spPr>
          <a:xfrm>
            <a:off x="3780000" y="3760920"/>
            <a:ext cx="576000" cy="47916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4"/>
          <a:stretch/>
        </p:blipFill>
        <p:spPr>
          <a:xfrm>
            <a:off x="5867280" y="4941720"/>
            <a:ext cx="576360" cy="47952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5"/>
          <a:stretch/>
        </p:blipFill>
        <p:spPr>
          <a:xfrm>
            <a:off x="7236000" y="4941720"/>
            <a:ext cx="576000" cy="47952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6"/>
          <a:stretch/>
        </p:blipFill>
        <p:spPr>
          <a:xfrm>
            <a:off x="5003640" y="6107040"/>
            <a:ext cx="576360" cy="47952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7"/>
          <a:stretch/>
        </p:blipFill>
        <p:spPr>
          <a:xfrm>
            <a:off x="6372360" y="6107040"/>
            <a:ext cx="57600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图片 58373" descr=""/>
          <p:cNvPicPr/>
          <p:nvPr/>
        </p:nvPicPr>
        <p:blipFill>
          <a:blip r:embed="rId1"/>
          <a:stretch/>
        </p:blipFill>
        <p:spPr>
          <a:xfrm>
            <a:off x="295200" y="890640"/>
            <a:ext cx="8553600" cy="556272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2"/>
          <a:stretch/>
        </p:blipFill>
        <p:spPr>
          <a:xfrm>
            <a:off x="5867280" y="1728720"/>
            <a:ext cx="2449800" cy="47952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3"/>
          <a:stretch/>
        </p:blipFill>
        <p:spPr>
          <a:xfrm>
            <a:off x="5796000" y="3083040"/>
            <a:ext cx="2449440" cy="47916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4"/>
          <a:stretch/>
        </p:blipFill>
        <p:spPr>
          <a:xfrm>
            <a:off x="3995640" y="4537080"/>
            <a:ext cx="4321440" cy="47952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5"/>
          <a:stretch/>
        </p:blipFill>
        <p:spPr>
          <a:xfrm>
            <a:off x="4024440" y="5891040"/>
            <a:ext cx="432108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图片 57352" descr=""/>
          <p:cNvPicPr/>
          <p:nvPr/>
        </p:nvPicPr>
        <p:blipFill>
          <a:blip r:embed="rId1"/>
          <a:stretch/>
        </p:blipFill>
        <p:spPr>
          <a:xfrm>
            <a:off x="371520" y="1757520"/>
            <a:ext cx="8400960" cy="334296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2"/>
          <a:stretch/>
        </p:blipFill>
        <p:spPr>
          <a:xfrm>
            <a:off x="366840" y="3241800"/>
            <a:ext cx="1944720" cy="184284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3"/>
          <a:stretch/>
        </p:blipFill>
        <p:spPr>
          <a:xfrm>
            <a:off x="2282760" y="3213000"/>
            <a:ext cx="2360520" cy="184320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4"/>
          <a:stretch/>
        </p:blipFill>
        <p:spPr>
          <a:xfrm>
            <a:off x="2700360" y="2608200"/>
            <a:ext cx="1511280" cy="47952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5"/>
          <a:stretch/>
        </p:blipFill>
        <p:spPr>
          <a:xfrm>
            <a:off x="4629240" y="3357720"/>
            <a:ext cx="1944720" cy="184284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6"/>
          <a:stretch/>
        </p:blipFill>
        <p:spPr>
          <a:xfrm>
            <a:off x="6573960" y="3357720"/>
            <a:ext cx="2360520" cy="184284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7"/>
          <a:stretch/>
        </p:blipFill>
        <p:spPr>
          <a:xfrm>
            <a:off x="7236000" y="2579760"/>
            <a:ext cx="151128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7" name="图片 56324" descr=""/>
          <p:cNvPicPr/>
          <p:nvPr/>
        </p:nvPicPr>
        <p:blipFill>
          <a:blip r:embed="rId1"/>
          <a:stretch/>
        </p:blipFill>
        <p:spPr>
          <a:xfrm>
            <a:off x="204840" y="2185920"/>
            <a:ext cx="8734320" cy="248616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2"/>
          <a:stretch/>
        </p:blipFill>
        <p:spPr>
          <a:xfrm>
            <a:off x="380880" y="2997360"/>
            <a:ext cx="1727280" cy="172692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3"/>
          <a:stretch/>
        </p:blipFill>
        <p:spPr>
          <a:xfrm>
            <a:off x="2109960" y="2924280"/>
            <a:ext cx="2174760" cy="172692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4"/>
          <a:stretch/>
        </p:blipFill>
        <p:spPr>
          <a:xfrm>
            <a:off x="2944800" y="2276640"/>
            <a:ext cx="1482840" cy="47916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5"/>
          <a:stretch/>
        </p:blipFill>
        <p:spPr>
          <a:xfrm>
            <a:off x="4572000" y="2938320"/>
            <a:ext cx="1957320" cy="172728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6"/>
          <a:stretch/>
        </p:blipFill>
        <p:spPr>
          <a:xfrm>
            <a:off x="6516720" y="2997360"/>
            <a:ext cx="2303280" cy="172692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7"/>
          <a:stretch/>
        </p:blipFill>
        <p:spPr>
          <a:xfrm>
            <a:off x="7221600" y="2276640"/>
            <a:ext cx="1482840" cy="47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4" name="图片 55300" descr=""/>
          <p:cNvPicPr/>
          <p:nvPr/>
        </p:nvPicPr>
        <p:blipFill>
          <a:blip r:embed="rId1"/>
          <a:stretch/>
        </p:blipFill>
        <p:spPr>
          <a:xfrm>
            <a:off x="324000" y="650880"/>
            <a:ext cx="8496000" cy="616284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2"/>
          <a:stretch/>
        </p:blipFill>
        <p:spPr>
          <a:xfrm>
            <a:off x="3059280" y="3803760"/>
            <a:ext cx="936360" cy="47916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3"/>
          <a:stretch/>
        </p:blipFill>
        <p:spPr>
          <a:xfrm>
            <a:off x="3059280" y="4581360"/>
            <a:ext cx="936360" cy="47952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4"/>
          <a:stretch/>
        </p:blipFill>
        <p:spPr>
          <a:xfrm>
            <a:off x="2987640" y="5373720"/>
            <a:ext cx="936720" cy="47952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5"/>
          <a:stretch/>
        </p:blipFill>
        <p:spPr>
          <a:xfrm>
            <a:off x="3059280" y="6093000"/>
            <a:ext cx="936360" cy="47916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6"/>
          <a:stretch/>
        </p:blipFill>
        <p:spPr>
          <a:xfrm>
            <a:off x="4572000" y="3817800"/>
            <a:ext cx="936720" cy="47952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7"/>
          <a:stretch/>
        </p:blipFill>
        <p:spPr>
          <a:xfrm>
            <a:off x="4572000" y="4595760"/>
            <a:ext cx="936720" cy="47952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8"/>
          <a:stretch/>
        </p:blipFill>
        <p:spPr>
          <a:xfrm>
            <a:off x="4500720" y="5388120"/>
            <a:ext cx="936360" cy="47916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9"/>
          <a:stretch/>
        </p:blipFill>
        <p:spPr>
          <a:xfrm>
            <a:off x="4572000" y="6107040"/>
            <a:ext cx="936720" cy="47952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10"/>
          <a:stretch/>
        </p:blipFill>
        <p:spPr>
          <a:xfrm>
            <a:off x="6084720" y="3817800"/>
            <a:ext cx="936720" cy="47952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11"/>
          <a:stretch/>
        </p:blipFill>
        <p:spPr>
          <a:xfrm>
            <a:off x="6084720" y="4595760"/>
            <a:ext cx="936720" cy="47952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12"/>
          <a:stretch/>
        </p:blipFill>
        <p:spPr>
          <a:xfrm>
            <a:off x="6013440" y="5388120"/>
            <a:ext cx="936720" cy="47916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13"/>
          <a:stretch/>
        </p:blipFill>
        <p:spPr>
          <a:xfrm>
            <a:off x="6084720" y="6107040"/>
            <a:ext cx="936720" cy="47952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" descr=""/>
          <p:cNvPicPr/>
          <p:nvPr/>
        </p:nvPicPr>
        <p:blipFill>
          <a:blip r:embed="rId14"/>
          <a:stretch/>
        </p:blipFill>
        <p:spPr>
          <a:xfrm>
            <a:off x="7524720" y="3817800"/>
            <a:ext cx="936720" cy="47952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" descr=""/>
          <p:cNvPicPr/>
          <p:nvPr/>
        </p:nvPicPr>
        <p:blipFill>
          <a:blip r:embed="rId15"/>
          <a:stretch/>
        </p:blipFill>
        <p:spPr>
          <a:xfrm>
            <a:off x="7524720" y="4595760"/>
            <a:ext cx="936720" cy="47952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" descr=""/>
          <p:cNvPicPr/>
          <p:nvPr/>
        </p:nvPicPr>
        <p:blipFill>
          <a:blip r:embed="rId16"/>
          <a:stretch/>
        </p:blipFill>
        <p:spPr>
          <a:xfrm>
            <a:off x="7453440" y="5388120"/>
            <a:ext cx="936360" cy="47916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" descr=""/>
          <p:cNvPicPr/>
          <p:nvPr/>
        </p:nvPicPr>
        <p:blipFill>
          <a:blip r:embed="rId17"/>
          <a:stretch/>
        </p:blipFill>
        <p:spPr>
          <a:xfrm>
            <a:off x="7524720" y="6107040"/>
            <a:ext cx="93672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8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3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8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3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8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3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8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3" dur="1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8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3" dur="1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8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3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8" dur="1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1" name="图片 54276" descr=""/>
          <p:cNvPicPr/>
          <p:nvPr/>
        </p:nvPicPr>
        <p:blipFill>
          <a:blip r:embed="rId1"/>
          <a:stretch/>
        </p:blipFill>
        <p:spPr>
          <a:xfrm>
            <a:off x="290520" y="1409760"/>
            <a:ext cx="8562960" cy="403848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" descr=""/>
          <p:cNvPicPr/>
          <p:nvPr/>
        </p:nvPicPr>
        <p:blipFill>
          <a:blip r:embed="rId2"/>
          <a:stretch/>
        </p:blipFill>
        <p:spPr>
          <a:xfrm>
            <a:off x="7308720" y="3170160"/>
            <a:ext cx="1150920" cy="47952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" descr=""/>
          <p:cNvPicPr/>
          <p:nvPr/>
        </p:nvPicPr>
        <p:blipFill>
          <a:blip r:embed="rId3"/>
          <a:stretch/>
        </p:blipFill>
        <p:spPr>
          <a:xfrm>
            <a:off x="7380360" y="4005360"/>
            <a:ext cx="1150920" cy="47916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" descr=""/>
          <p:cNvPicPr/>
          <p:nvPr/>
        </p:nvPicPr>
        <p:blipFill>
          <a:blip r:embed="rId4"/>
          <a:stretch/>
        </p:blipFill>
        <p:spPr>
          <a:xfrm>
            <a:off x="7308720" y="4738680"/>
            <a:ext cx="115092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5" dur="1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0" dur="1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1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6T07:09:23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