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DD8-1A5E-4551-85DF-457FA85D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0E5-6EA2-4BE4-BBDC-B3579816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6D24-B8E1-40A4-A0C1-B3E537CC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5E3A9-E272-473B-A52C-65AA8B1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97525-2A40-469C-8165-8E68EA5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CFDE3-921C-43D0-BC39-3E4D12C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ED95-4379-4E6E-A01E-94C2425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9AAC-CDDA-4DBD-B747-E277FE2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C582-09B2-485D-962C-CDBE987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19CC3-C199-4DA8-AD6B-611D2D1E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C7466-CECD-419F-AA42-19E0996A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AC1F9-2354-43D2-BEEC-42F50663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05D-D2DC-4264-8661-46BB548A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73781-C45A-4C9D-AFA5-6B0A390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48D7A-FA67-4757-BCE4-F6CD4114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A559-5C5D-498D-8F36-98A9CCE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76788-4653-432A-B36F-988C165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C78CC-2C19-440C-B9F8-67F9206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C525A-D8BE-4DF2-8650-0ED4431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A5D24-D8B6-4539-9C4D-0ACD815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CDC4B-1E94-4F8A-88DD-0A162ED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7E9E8-ADF1-4782-AD63-1A45F682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5C648-D5E7-4F03-8482-0A96C2D8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EB3-F3BD-4816-806B-39EBC54F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4EC0-4289-4B9C-BBDE-20ACDD7B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66905-2FDE-4D3A-A446-A19C330F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CD3F6-855C-4F06-9A80-EDE5651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092F-3B36-4BDD-8F2D-8ACA3E31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AE908-4E9C-45ED-90B9-42AA939A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707E8-5DE8-4A18-A17F-B7A6C13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0F875-AC08-439B-95D2-AAEBA20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EF2C-6DEF-4490-9085-E052881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3806D-49C7-46E0-A42D-460CAB3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B0E5-6A57-4C3E-8082-C77D764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92C-90C5-483A-AB2A-0DDC667F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21BA-D285-404C-B10D-86261E5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92286-BF3A-413E-951C-452664F3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27D27-C646-4AC9-A799-9A5F12B3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B673-AEF2-478A-ACB1-B4A08B61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3104-7D0B-464C-A3FA-BC01D02A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9041E-541A-4868-93A6-1579AC4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E462-0565-4AC6-A267-134178C9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A7116-67EA-45A8-9062-22A91CC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A6215-3D67-4EE4-ABED-5ADB8B0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D60AF-3417-4A7C-A0BC-77A8CA1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1C1-A9E2-4FC7-A8EC-9B1091CA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DFA0-3387-4573-9999-BC985F9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D4825-DCEA-4907-84C0-E556A63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7D079-EEB0-4FD3-AA8A-D83CD746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BAEB1-69AB-4C53-B137-ADE94A2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37A3-D87E-4678-AF47-1D6DE11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2853F-C3CC-4B03-BF61-DDDD73E8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41A30-B2F8-4941-9F15-B07DAD80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61424-3B15-43E3-8F65-870B897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0F879-8088-40A6-A0D7-5BED74A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CB977-28A0-4F2D-B18A-5E09C2DB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E84-30C2-45EF-9917-B2513497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01BD3-E5DC-43D5-BD6C-0A65A1DD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3311D-E522-43FC-80A5-9640868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1B753-6E3D-439A-85B1-04D2CFE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C01E3-CF7E-4887-AFDA-06EAF9E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AF624-05F0-4A2B-85C4-F519929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052E8-3EFB-4BA1-A1A2-3166919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20CD7-BD6B-46D0-A00D-F0244059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57221-BFD6-4C4A-A4EA-0FB8A19D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08BA2-E448-49EF-9CAD-93E0530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45958-1629-4B5E-A1CE-99356E31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1882-156F-4B89-920F-2FF7B37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9338B-B94F-4852-88F4-658E8FF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2457D-FBB1-45D0-B640-39CF88C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96D73-8108-4572-9FB5-53244D5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88556-320C-466C-A988-595360D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FA14F-2E89-43AB-B10C-C2F918F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449B5-D7D9-495B-B7E9-604F41A8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F9A0D-596D-414F-96F4-878D6B94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DF172-597A-45D0-950A-66E4B2F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4C2D6-DEAD-4C0E-9EAA-EB8BC9C9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948E3-7700-4C99-B07A-E4A7688F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264C-5DD5-4271-8024-AD92D6C4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EA341-4958-41B0-8F09-584AD66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8F698-616F-4C51-9A2B-08D1EB2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62DE7-6B84-4091-BD7D-4B2A00D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590B8-0FA3-49BF-9AF8-93490FF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6D3AE-530D-433C-BF3C-E5D815B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391F3-BF14-4E46-A199-A25629E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71213-1DC6-4B1A-96A8-D1BF04B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D4420-5A64-45A2-B2B4-184445D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D6EB2-F7DE-4CC3-ABE6-29BEE4B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8FD1E-9157-492B-B032-549367E3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1534-4688-4AA1-93C8-3EEED7B6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4AFFE-B101-4A86-9458-473FD180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D5D53-EA17-4354-B57D-69649747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C7552-2872-40BE-B76C-9D0D82A0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A30C8-CE08-49C9-BB4A-B0DBD0E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5C320-4C41-4681-8414-F0F65579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C3571-E080-4E63-AEC5-2980A927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390ED-3528-4660-B945-46CE92E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E711A-E122-49C8-B235-A8FB455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E3DE9-FA6C-4F9D-820C-7237A11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0F2D7-C90E-40BB-A4F1-A07E465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0DB4-D3BF-4F61-9096-0EC0B113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6406B-4490-41DB-9A12-76AF706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42518-6089-48A6-BE68-2FAE5F33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A4073-7516-4E5C-A6C7-8DC0B63C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6777C-4231-4D9B-B123-3B3D618F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D18C0-5E94-43DA-869F-F6EDE93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4706D-E7B4-45A7-8DE7-57B7A869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1AB70-FC8E-4BDE-BDD8-5CBB9EE5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76347-E8FD-4A99-8C8A-AF63A75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1E23E-AB78-4B45-9D62-4E0F8AFE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D7B1F-BCF8-4FEE-9DEF-F149434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E47-A06C-4BCF-A6F1-B121D2D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F2A-FA43-4A96-B68A-9326494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A04E0-1CC8-4595-B59C-4C3C436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2F73D-3D6E-4AC9-B7D9-B19911E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88E85-A2AC-47A1-8161-8F19E06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56827-A54C-40F7-B4CE-FD922714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7D847-1208-4231-BD40-23347499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02361-4016-45C0-ACC0-EFC4B65D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53989-C244-4243-8B61-862CC73A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479AD-100F-40DE-B884-7A9E76DD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15DF4-2383-4294-9E28-44DB58EA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D5D6B-F6C6-48B8-8E25-612B368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CE2-767B-433A-BA7E-C24FAF1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4C1919-FF6F-4B45-8D0B-E9DD100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A1841-DF1E-4C4F-8280-5ACAB93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91CB0-DC3C-4CD0-A35B-F55E6D8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12064-E403-4B57-9229-354E92B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52900-E460-4EE4-9AB5-E4493D1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99D57-81D5-43EE-BB53-4353C0B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6AE7E-9F38-44B4-9F94-7607E6D6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5A324-AEE8-4F4B-9DC2-78137128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7061B-B770-421A-B026-911A9118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AEEA1-4603-40CC-A9DC-8EE775F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8D89-52B9-44DD-BDC9-6147EFF3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E1281-1AB8-4C35-92F9-D4A2B81A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1BE5F-5350-428B-847E-5068670A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E78FB-3119-462A-8C50-8BA4215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FCDEE-D4DC-42F2-98FF-1D9AF7C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9E82F-62B6-4D3B-95BE-D4F6247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E5ED4-0760-44E9-9E12-04ABBAB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78D55-D57C-4B59-8C11-11901D3C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EEF5E-E756-43DA-99B4-BA9DAB2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9A674-8B66-4135-AC59-215FA367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053F4-59C0-40DD-8AB4-C0C5D818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365-4B0D-485F-A649-99F9F3F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98953-9EFF-4D9B-A1C5-7BA20D37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175BF-261B-4E7B-AD67-CCC0B7B3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C70E4-D940-47C3-8109-15C7839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A7DA8-0DBA-4BDF-8F3B-B3464112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5EACF-A64A-44C1-8AF1-229D110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80237-5C47-4709-8F2B-EAF9928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0C0AB-06FE-46A6-B02C-9F6E135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AC3C2-6EDE-4476-8672-EE0AFA5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8F86B-1E1B-48C9-8D75-93440107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38895-DEE2-44FF-839E-FDB8F180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B2B3-B998-45D6-9430-FCB02D7E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E8790-CA4A-4A92-9C0F-1EB984E4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53614-9AB8-4F59-A87B-F7F112E3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A115C-28C4-4296-AE8E-ECABB14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0F4BA1-26A9-4244-B02E-83C383B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A3298-20E2-4C23-861F-7B30685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9E4CC-6195-412F-AE5F-65DFF45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AA94F-60A7-4FD8-831D-600A4293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66396-5CAB-4670-9C00-D0F221B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103D4-4233-443C-B989-0DB355E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5C389-350A-4EFE-8B1A-9929F4F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2836-7E98-4C11-886F-C935BB1D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E2721-562F-4ED2-B305-7CE2D663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5F675-B615-445D-8C37-5FAA8FAF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5E65C-D323-4604-8198-6692084E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E1C2-A16C-45D5-9184-C23140E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2CC3-655A-4887-81B9-A43F672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6E1D-A03A-4698-9831-57FC8A5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3DAD-B5E7-4717-A3F6-C9B3E159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D5D-B798-420E-96E1-18C5EFE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B94C-ED73-4BB0-AEEA-BD30B43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93AE-5B73-4AC3-834C-480040C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FCF5-A71C-4E83-89D7-70C80BF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6CE0-6F3E-4DA2-99D5-598760F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4A09-0885-4E1C-B2DD-C2E2280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DAC2-6503-47D4-BA37-CB932C19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90D4-E49F-4E5C-A6E4-A69CB294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4E83-F6F2-4A29-BC88-770372CB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BE3A-7B63-4B0E-9960-AE52175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0269-02A2-4307-9848-C65E1F67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1B3-5CA6-46CA-B434-200F6494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EFB9-8DF9-4DAB-A514-7EBDAFE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E42F-DD66-4998-A201-9B6A8A5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FC79-59C6-4955-85FE-325E560E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CA13-2328-49A8-A2DA-F5CE00B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6538-18C1-40A4-8163-9830878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86F2-4E13-4704-AC09-DB38A1B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2276-D5C2-48A6-BD15-0EC3962C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15BE-961B-439F-A3F9-EDA714D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71B6-7202-4418-A538-58509810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1CFF-AE4E-451F-948C-1FDA0973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493-1693-42FC-8503-089BEAF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B91B-ADA1-44EB-B78A-B0CABCC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B1DD-D99A-481C-8AF8-B60BABB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5A03-56A6-42C7-8075-31D8660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B5FB-2F9F-4E2A-971E-755EAC3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F22F-09D8-42ED-98AA-235FF42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2DCE-95F6-461E-8720-B858606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FF31-E644-478D-973D-A8BFBCF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BEAA-59D3-4A71-B202-E97CEF4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2FAF-5087-40BE-8FC7-51A3C0C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C69F-352B-4D1B-A5AF-CA387ACE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ABD-C6EC-458D-ADF0-0767D74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E597-20D3-42D6-BD35-B0D58577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3BAC-77A0-4BA8-B8CB-8C88E410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6795-FB00-4E4E-9278-6AD7D5C5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FCCCA-1060-426E-9AB8-6BFFE1F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BC64-3F8A-4984-93BD-972E616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492E-4C7A-478F-866F-F05CF74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66CC-FC2A-4449-8E10-7C08853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9B0C-EC37-4F34-BA8D-96150A69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CF58-2A96-43AF-9A95-B41FC38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7138-9D6D-41AE-A0F3-69ED7F4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D3A-BE64-4476-85F5-7D53A9E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5644-D6F0-4BEA-884B-13CFE39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8F0F0-FB46-451B-856F-D97BF85B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7C13-12FB-4AAF-B355-6760DE12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B272-E243-4B99-AC78-A7620F24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35FF-1604-45F1-AC5A-8F30B71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5276-83A5-4DF8-B6BA-F59FA7A1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17C6-29D1-4A2E-BB7F-FD465EC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0E5B-C3B3-4319-8AEE-2DBCAA90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03341-186E-4C15-9748-41E8A99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F6568-CE51-4E2A-88C7-E5FA2D4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519-02D4-4488-823F-0998650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BA2D-4D05-4375-A978-8BA890B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20DB-C890-4EDC-B052-2143C8E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4193-429B-40BA-9603-ECA55F66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D12B-81D7-4995-BE23-A16922B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D0AF-9F01-4000-8794-9FCB0430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6BD7-7491-4957-9BB2-673308A4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04EA-4D8A-499E-B035-662A713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32CC-F38B-4F29-AC9D-DFB898A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1488-2E48-4D5A-B8FF-6F64A09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D48D6-0EFF-440C-8774-BB6A921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84E-7243-4AEB-B512-18D8DCA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311A-0986-48D5-BF49-8B995355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AB9A-96BC-4A19-A3D8-E66FA08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41E8-3C08-4EBA-8921-D65E088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B508-2DEB-4709-A8D8-9F5658E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4269C-44B6-4796-B15C-074B8D1A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C877-B8B2-43D3-A271-C6114E0E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F0C1B-FF51-464B-B8C9-D2CF07BD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74DDD-35E1-479C-BADE-02B0A473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3DDCB-8897-4F2B-8675-CFFC1B1B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155D-C9CB-470C-AD7E-D1315E07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E13-FA9C-444A-94EA-33C55BA1B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625-DFCF-4B30-9F36-97490827C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0DE-911A-4095-B9BD-0AF059AEA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B5F-640D-40E7-AD59-AC5FEA22D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4E7-4779-4787-AD39-253D9D7BE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9D4F-6A85-44A6-BCE3-47CC0605A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3A02-DF88-4670-9141-50B5D8B2B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853-B2FF-47A4-8F45-91EAA3AB4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7D8E-99AE-4A28-AE71-E71F552F4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056-AD99-46C1-8097-32FF42844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09A-0312-460E-ACA1-ED4E8F7F6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AF7-1F55-4C8E-87C5-6C00BD6BC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B002-F821-4D85-AE41-7515B1226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188-D36F-4FB5-B5E3-21A5FEF1A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073F-5171-4A0A-80E8-A64391C67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CE2A-A754-4FBD-9731-14761BCBE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E1D-7D71-4919-B18F-8AADD8243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7222-6F9A-49EC-895C-D0D269938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04C-28AE-4ED8-807D-7FBF9A629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630-DE7E-4E1D-8158-25BF27AF6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50A-0284-45E4-BB17-E0FA6C4AE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62E-293E-4880-8428-19A985961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AC6-1B6B-46ED-942D-F1A36ED021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682-E190-468C-9294-34D7FC4DC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351-5829-46B0-BEC1-C56B59ED9D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3C0-5274-4E5A-8B32-DB20C504D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C8A-AE7B-467F-9032-5701F6C969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2E0-271A-452C-81CD-B1CC91F1C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AD4-CE67-4FC1-A7FC-A857FA8CF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570-87BA-4042-9C6B-7585D4BEE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7C8-C32A-41F9-A258-343132C57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C32-0E50-4814-BBCB-02C0A3411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A39-A436-4125-9AF9-F71D3724E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51D-8343-4796-B590-9EDA2561C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0FC-915A-449A-AE8F-B2B968A88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997-C312-4C3D-A8DB-D3137ADE6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2B5-3474-4459-93C5-5F1227EF2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A7C5-E9C2-4632-B039-6CC24D278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EC2-0FE8-424D-BA82-7080C3C8D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6F2B-F386-4084-B35E-7F1C8B9F35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28560" y="2995560"/>
            <a:ext cx="78868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2231" descr=""/>
          <p:cNvPicPr/>
          <p:nvPr/>
        </p:nvPicPr>
        <p:blipFill>
          <a:blip r:embed="rId1"/>
          <a:stretch/>
        </p:blipFill>
        <p:spPr>
          <a:xfrm>
            <a:off x="1123920" y="1197000"/>
            <a:ext cx="6896160" cy="221940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52232" descr=""/>
          <p:cNvPicPr/>
          <p:nvPr/>
        </p:nvPicPr>
        <p:blipFill>
          <a:blip r:embed="rId2"/>
          <a:stretch/>
        </p:blipFill>
        <p:spPr>
          <a:xfrm>
            <a:off x="333360" y="3633840"/>
            <a:ext cx="8477280" cy="2171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7164360" y="1773360"/>
            <a:ext cx="792360" cy="479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4500720" y="234936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6"/>
          <a:stretch/>
        </p:blipFill>
        <p:spPr>
          <a:xfrm>
            <a:off x="7380360" y="234936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7"/>
          <a:stretch/>
        </p:blipFill>
        <p:spPr>
          <a:xfrm>
            <a:off x="1763640" y="422100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8"/>
          <a:stretch/>
        </p:blipFill>
        <p:spPr>
          <a:xfrm>
            <a:off x="4643280" y="422100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9"/>
          <a:stretch/>
        </p:blipFill>
        <p:spPr>
          <a:xfrm>
            <a:off x="8209080" y="420696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0"/>
          <a:stretch/>
        </p:blipFill>
        <p:spPr>
          <a:xfrm>
            <a:off x="1763640" y="4753080"/>
            <a:ext cx="792360" cy="4791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1"/>
          <a:stretch/>
        </p:blipFill>
        <p:spPr>
          <a:xfrm>
            <a:off x="4643280" y="473868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2"/>
          <a:stretch/>
        </p:blipFill>
        <p:spPr>
          <a:xfrm>
            <a:off x="8143920" y="4724280"/>
            <a:ext cx="792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679320"/>
            <a:ext cx="8544240" cy="6134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521160" y="227664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2276640"/>
            <a:ext cx="1152360" cy="479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427640" y="33130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96000" y="335772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804000" y="4164120"/>
            <a:ext cx="1152720" cy="479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590840" y="5040360"/>
            <a:ext cx="64764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959200" y="5084640"/>
            <a:ext cx="64764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590840" y="6137280"/>
            <a:ext cx="647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38040" y="947880"/>
            <a:ext cx="8467920" cy="4962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370400" y="198900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5710320" y="194472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236000" y="198900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4154400" y="306864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5479920" y="306864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7020000" y="306864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5781600" y="407664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7236000" y="413532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1374840" y="5157720"/>
            <a:ext cx="72072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2700360" y="5172120"/>
            <a:ext cx="720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76801" descr=""/>
          <p:cNvPicPr/>
          <p:nvPr/>
        </p:nvPicPr>
        <p:blipFill>
          <a:blip r:embed="rId1"/>
          <a:stretch/>
        </p:blipFill>
        <p:spPr>
          <a:xfrm>
            <a:off x="395280" y="826920"/>
            <a:ext cx="8353440" cy="5410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116000" y="217656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16000" y="2795760"/>
            <a:ext cx="3527280" cy="479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044720" y="3371760"/>
            <a:ext cx="352728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5075280" y="217656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5075280" y="2795760"/>
            <a:ext cx="352728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5003640" y="3371760"/>
            <a:ext cx="352764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1114560" y="45529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1114560" y="5172120"/>
            <a:ext cx="352728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1042920" y="5748480"/>
            <a:ext cx="3527640" cy="479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5075280" y="45385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5075280" y="5157720"/>
            <a:ext cx="352728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5003640" y="5734080"/>
            <a:ext cx="3527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8373" descr=""/>
          <p:cNvPicPr/>
          <p:nvPr/>
        </p:nvPicPr>
        <p:blipFill>
          <a:blip r:embed="rId1"/>
          <a:stretch/>
        </p:blipFill>
        <p:spPr>
          <a:xfrm>
            <a:off x="1438200" y="1947960"/>
            <a:ext cx="6267600" cy="29620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633564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332000" y="3141720"/>
            <a:ext cx="633564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633564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1187280" y="4365720"/>
            <a:ext cx="633600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7352" descr=""/>
          <p:cNvPicPr/>
          <p:nvPr/>
        </p:nvPicPr>
        <p:blipFill>
          <a:blip r:embed="rId1"/>
          <a:stretch/>
        </p:blipFill>
        <p:spPr>
          <a:xfrm>
            <a:off x="214200" y="468360"/>
            <a:ext cx="8715600" cy="6200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84360" y="3803760"/>
            <a:ext cx="482436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755640" y="4379760"/>
            <a:ext cx="482436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68360" y="5041800"/>
            <a:ext cx="4824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39640" y="5618160"/>
            <a:ext cx="482436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468360" y="6222960"/>
            <a:ext cx="4824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6324" descr=""/>
          <p:cNvPicPr/>
          <p:nvPr/>
        </p:nvPicPr>
        <p:blipFill>
          <a:blip r:embed="rId1"/>
          <a:stretch/>
        </p:blipFill>
        <p:spPr>
          <a:xfrm>
            <a:off x="395280" y="28440"/>
            <a:ext cx="8353440" cy="68011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3903840"/>
            <a:ext cx="5759640" cy="47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826920" y="4522680"/>
            <a:ext cx="575964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828720" y="5114880"/>
            <a:ext cx="575928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755640" y="5734080"/>
            <a:ext cx="575964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684360" y="6335640"/>
            <a:ext cx="8135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5300" descr=""/>
          <p:cNvPicPr/>
          <p:nvPr/>
        </p:nvPicPr>
        <p:blipFill>
          <a:blip r:embed="rId1"/>
          <a:stretch/>
        </p:blipFill>
        <p:spPr>
          <a:xfrm>
            <a:off x="295200" y="822240"/>
            <a:ext cx="8553600" cy="5486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806616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755640" y="4710240"/>
            <a:ext cx="8066160" cy="4791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539640" y="5300640"/>
            <a:ext cx="8066160" cy="479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324000" y="5950080"/>
            <a:ext cx="806580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4276" descr=""/>
          <p:cNvPicPr/>
          <p:nvPr/>
        </p:nvPicPr>
        <p:blipFill>
          <a:blip r:embed="rId1"/>
          <a:stretch/>
        </p:blipFill>
        <p:spPr>
          <a:xfrm>
            <a:off x="1600200" y="2281320"/>
            <a:ext cx="5943600" cy="2295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4103640" cy="479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1403280" y="3514680"/>
            <a:ext cx="410364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4103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1:3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