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FFB-A082-4171-BDA0-7399A864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5E5-28C0-484D-ADE8-D34D8D67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7E38D-8534-4674-9704-70129B6F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3E898-1159-4AF6-A3D0-D1087D58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D65B0-269A-450F-B6F1-C81CC120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74466-9252-4E7E-80B8-87D0299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4FCBC-EE6B-451F-94D8-072A268E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A0359-BF14-425A-AB38-09CCEF86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FD2F1-6CF2-4243-9113-CB73DF2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86A6C-BD5A-45B6-A140-A26D4D05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F3BD1-E764-4DBF-9F10-A87A0A6D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8F896-368E-4C90-92C3-854B4503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D8F-542D-402F-9913-5C57A706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7F99C-654F-41B3-86BE-74889A66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A9157-6DA5-4BB8-AA81-03115E48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9A7C4-4B9F-4139-AB29-5F189427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5036D-087E-4E12-8613-1FB359F0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1458E-9409-444E-82C9-81A8541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0D882-E224-4D4D-A5C3-65477C2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22EA5-3F56-4A3E-9B53-22984BDF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3027F-E720-41A5-BC9B-0050CEE0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8E61B-6B1F-4EA1-A8AB-E029A92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EEB85-FFCC-4E97-A968-389F78F8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698-B33E-40F4-A264-D5DA3E4F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649F7-3C9D-4AF8-BCBF-8EB5F3D1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9DF23-9FD3-4382-88BE-7E691FBF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833D7-4D0E-4079-BDB3-305A8C4C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1F8FE-C934-49C5-AF3B-090402DA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28F95-F4DA-45C4-B62B-6427843F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E07FF-D8B9-468A-8F27-527637C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DBEF7-44AE-4926-A39C-5148B154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6EA0-D6D1-4D21-999D-4643B90E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E0326-1070-48BD-8429-9E77B32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F1115-1C05-4C1C-94AB-C458EA7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5374-4433-493B-95FB-D50C2E07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32D9E-28E7-4FC4-A7BC-BD7CB180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EC6B5-1194-4910-B25B-0CA6F574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B5AA1-0E4C-42B4-8E47-A513C91C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C8B61-A4D6-4FA3-BB20-87B77772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F90A8-ACA1-4AA6-A8EA-17906C01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3AFB4-8D0F-4267-AE78-417444AB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7D593-D68C-49BF-AB67-04FA9824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28B04-6806-4E9A-BBC0-7A13639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C3EF6-196F-45B9-84FB-C2855BA7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324D7-5299-4B05-9B91-90C64BEC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9831-F187-4FA3-ACFC-29B6A86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CAD0E-6DC3-44A2-A5B1-A2DB55B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60F5E-F3E8-49BD-A8E7-E5B56698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26A7C-E116-4287-A45F-C3AA7671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B06C0-4578-42F3-8743-ED92894A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DA02C-659C-4A77-A9A8-9159300C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E3960-6AE6-477E-85BA-BF93A212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C0582-ED9D-4A13-8E29-2581D519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58127-1D65-40FC-924D-7444CDCE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EF072-4C52-4749-B169-0049431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0A1E5-6FCE-4C41-BD2B-7D39B762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7D71-9E6D-4526-A131-B501423F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0FA30-D8F2-476D-AC2B-A0AEFC96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CD16D8-96A9-4D6B-AEB4-9F809E8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426A8-EA98-43DE-86E8-8A6F8F0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D071A-5B8A-4129-A97A-8ACB806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08531-C96E-45D6-B12D-E86AB923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71B29-E4A2-4E29-8891-FFA2CFC1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AE8AA-D7B7-4C11-AD70-FB2FB0F8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7C9BD-C84E-486F-AA05-4F216358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7DFA6-92E2-4058-93C4-A5B9D15E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8F145-E8A8-4006-8B37-6A33DBCE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153D-2988-4265-871B-9F85B5EF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37DB1-E2E1-428F-8630-E0EB672A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8C71F-265C-4A36-BD48-20020842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0DBB6-DB26-46E3-8D92-20065128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2B46A-0406-42E7-901E-16CAA587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9E602-6625-4D6E-9ADE-9367AF4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6C626-62BE-46F7-AD77-7B930712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056FC-9895-4DC6-A8B8-146DB23D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1B541-ACDA-45AE-81E5-2907E3A0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0B4BC-149A-4EF8-A247-DE450836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C0389-948C-4C95-8B3B-10B3711C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B827-3B47-4CB2-8F30-D2F5753F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4BE3F-75F8-4AC1-A325-3075BB4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6420B-1400-4E11-BD2B-AA92DC8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7EFA1-108E-43E3-97F6-2C1B6C2E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82F02-ABCD-4346-B150-FCD26DDB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77721-0F06-4FC9-9D5F-E6AFE480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FEB87-6D77-41E0-8CE7-AB54C98E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7F0AB-999D-4E81-9F39-DD25DC53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39C69-86EF-4BAD-99FE-427702C6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D4184-0EE3-4FF4-B455-9B0123D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947CC-AE48-49B3-842E-69DBC719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681B-DE39-48DB-A0D3-2836552B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2D108B-14F0-4711-9CAC-D4592B2E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82CD4-134B-4DC5-8EA8-484392A3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83A31-155D-461F-A2B9-70D0D328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84D3E-0D4D-471B-9465-67C9F8DD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5CE22-AE9C-4B68-BC0A-4C9A5394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2183A-1DBB-4451-BACA-EA67211F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4843E-AB6F-4976-8801-68664BA8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09528E-EAF9-415A-90A4-8B7D223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E97ACE-1D74-4F6A-A7BB-FF6B795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0CABF-8AB0-44C4-BF22-92FA712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D48A-17B0-4EC1-81A9-207E1E8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28713-8582-4D7B-BB52-1437C0FA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B98F8-15E8-4B5D-A0F9-99EEDD6F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09BC4-93F6-4CD2-8A3E-5361D890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33BAD-B628-458C-9AC6-0E064AAB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4F4E17-323B-438D-A6D6-07D8B13C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D79CB-2C8E-4D08-85C6-51904F9B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A4988-DADA-41D2-B812-B7754EA1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2DBAB-38C6-4A02-AE5C-74B2CE18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0C530-61E0-425D-9BF9-8057AA39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7E1CF-5B4C-4AC5-A298-BA89B562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A85-7B88-4AE1-9DA0-E4980FA2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211C-DE75-44B2-B0B1-9F93458F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4BCE1-BAB7-46DC-929D-1CAB95FC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699BD3-3D3C-46B9-8376-D8D0635C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2486DC-4E00-42F3-9C75-E6992D5E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0EC2F-42CF-4714-B167-5BE17054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A0B49-5517-4FA6-A60B-12B4A444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D4EAF-ED9F-4D25-8DB3-40C38842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8BDA2-5169-4F4E-BA0F-FB4F4603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DE774-C915-472F-9EC3-60EFC045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C6B25-665B-4CEC-8E5F-3DB1580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EB1F9-C9B0-4C90-B568-910856EA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245A-096B-41EA-912B-AD537F3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5F005-8C45-4AFA-9FCD-43EC486B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A1002-6574-48E4-A692-09CCD01B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9266C5-2FAA-455D-9316-DE9BBEB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B3FC09-54F1-40D9-9632-B30912C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41EB4-8B8A-4EDD-AE23-6FD8FF5B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2E7A2-DF6A-4317-8A95-3110E9E1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84C89-34F5-4779-B272-3C89187A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D3B0CA-67DA-4881-BC15-9139A67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F3089-E741-4F08-8818-D7216D2D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66C39-6CDD-4304-94CA-D119362A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CC42-33E5-423A-A65F-1F2603A1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D8EDF-1D3D-4775-AEEF-4E8B78D8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27D34-8F73-4A32-90C2-76F1FF93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DC1FD-A55C-4DBE-A1F1-754F53B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134743-C385-4207-8DCA-44454BC8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428A0-1C35-4D80-ABDE-E453B73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5C4AF-2147-4298-8737-4369E0E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2A53D0-F7E6-4FE2-B4AD-FCBF309E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E6BB82-3509-4A21-BB18-20F27D36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3D3A7E-24E1-41BE-9FD8-05CB217F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2BA28B-268B-49E3-B54F-CC498B8A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337F-30AE-44AE-AF5F-1C00A08B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9C044C-29A6-4B05-A7C9-2B2DFE72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F137B-10E1-4FED-A027-F1B57CBC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B5627-CBF8-4C4F-A267-25B3EB2B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9CFC9-851C-40DF-8072-FBE66A6E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FF5D4-4D5D-427E-9FAA-F7B7D3D6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82557E-2EFE-46DF-9115-EAA7AACB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AE60B-89C3-4129-9AE5-610B396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7868B-947F-48E4-BB16-D0E19295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7A6EF-714E-4B06-8E50-D2D2C13A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25D5A-C222-40EC-A6A0-3E678DBF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A499-94B3-46CA-A531-FD847132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5A611-CB1E-4156-AA16-39D6944F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2062B-DC2F-4145-9A4A-FD02D5AE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021B63-8645-4315-9386-B2328DC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4F851F-2A8A-4CA2-923B-8C062FD3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00C65F-9EE7-4B6C-A505-3A9CEDAC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53F16C-EA53-4939-97BA-7D083BC5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EED7E6-185E-46B3-8825-06882A4F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4A961A-BA26-41B0-AE5D-DBD8C7F3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78F1C-DEBD-4073-8AE8-3C0C010C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18706-AEE3-4C24-804D-5A77DE4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64653-5CA4-4A27-8F27-5DD36876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D4394-68B5-470D-AF10-0324634B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FE4810-39AD-447C-A53B-1FFFD74D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359D8-87AA-4E66-9B8B-DD226E09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CDA0-A552-4FAB-BD26-44B7147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2D59-2E8E-4448-AFEE-7D6F1485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6166-4E1B-4F65-BA21-A312C1C5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6DC8-58A4-4A4B-A821-EF5E6F7B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ACD-56FE-4805-AFFA-BAE89781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2E63-8FCD-4CA1-8848-27EBD8FD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A8F7-4FFA-4146-BF3F-31F276C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153B-A26D-495E-A175-93A9D268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0425-27A0-414B-AAD7-7166C858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F8F0-AFA8-4C76-AA38-3FC25CA5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01BD8-7450-44D5-8394-F7B57E7D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7828-BBF3-455C-B93E-6CC46ABB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46417-54AB-4769-AC3A-E00BED59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8A84-3BA8-4449-AE52-0ABD6D66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A185-E0C7-4D1D-A569-05A76793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67C-507E-4F4D-ABAA-4039767B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A2A7F-939A-4248-A40A-5870DD33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B1DE-C1FA-47E8-B18D-DBCD0E9F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9132-8A91-4FA0-B9A2-8E9D29BE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DE571-2E55-4F66-9920-AD745CF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B62B-0305-49C5-A356-F47BD354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42EA-6976-4817-BACF-1C5DBE5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878F4-469B-44A0-816E-7AF43B9E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ABDF-F5D3-407C-B6EF-80ED06C9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7761-BB91-4CF9-8DBF-59129268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A3686-92D2-451A-BBB7-80CB3AEB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C8B-34E0-4ED9-885B-067EDD3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7A91-960F-46DB-B191-6345362C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91004-536F-4255-88B0-3084F318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1803-B691-4ACF-8B35-2B63A913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BB7C-95BC-4EED-ABF6-94D6EAA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D6730-1747-47C0-A622-494B25D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329AE-5AEB-4443-8448-663033B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FA742-CC02-4A5C-92E9-BB83394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F399-21C9-4926-88EB-B790E8D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712B2-9302-4DFD-B91E-D0B4BBB2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B70E-FE75-41D2-B9EE-789E20E6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9DF-83EC-4FD4-800A-6771DFA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D2774-3ACD-4B54-BE7B-C2D358BE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60D4-F7B6-4BAF-9F8F-90C1855F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598FB-91F4-49D0-BA84-7803A2B6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C2935-2FB6-48CA-8253-CC4B7D0D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6F415-04D2-4E0D-B478-4422F6A0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51FD-4383-44B7-A5BB-9687D6AD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B393-4A07-4579-AA62-5FA97992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09726-2794-44D8-9120-BBB6CD1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24849-9933-4056-92FB-ACB8FA1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414DF-48B2-4CB6-85EB-0B6F4FFC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9C0-78D0-4ED0-A5D9-283432AE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4C9C-09D2-4B0C-93A8-2A8EA320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98BF-2C57-4091-B997-A7C7E7A3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A4C6E-DA0D-47E6-A939-5578529D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7DED5-00B8-4859-ADDE-9556B24D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092D6-606E-4E7E-A015-A1FAFB27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4328B-EE7A-413C-90AF-DDC0285D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71A4A-6404-4534-B597-43F98CB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D93FA-FE9D-4B26-AB7A-A56FA5A7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E55B-70B8-4B80-8B80-74BDD0AD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27945-8A9C-40DD-B633-5814B51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32A-6EB5-4174-8D7D-38E3A43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CE30-1C55-4998-8241-632F93F8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D7324-7539-43D3-ADB2-3B1A65BC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F55E8-6940-4A5C-BD51-E06DA35B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AB45C-A6BA-4E6E-922A-047D90F3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1FF8-BAD0-4A5B-9339-DD1AC4E9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1115-BEBF-4646-8A72-B48B82CB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6C457-E03B-457A-8FE0-1D352069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3DF87-3448-455D-98AB-5129D472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9D765-2D6C-46A4-9B1D-C787381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D46DB-4359-4808-A32F-A82A0E5C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457-EB4C-441D-85AA-92A157E1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2B72-23E6-48AD-8A6C-6033D178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9202D-D705-4B48-A002-F228B432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04037-6134-4E76-8372-85B931C8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067EB-81B7-4399-8BC0-0C706C52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004E-B02B-4DDB-9713-BC020836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C34ED-4F41-426B-A611-AFB440AD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A651F-9FA5-47E4-8DC0-0E13EB97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3962C-D1FF-4812-99C9-11B1CA37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2A705-B9E6-4190-87FD-E5A76D25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5CF92-FFF0-4D42-A454-DBFAA246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FAE1-7806-422B-8F3C-9516397797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B8C-6A10-4259-8FC9-050FB1324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2ACE-2C18-4DF2-8269-8C4600941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B01F-A56E-4850-AFF6-68C8C59B7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B3B-349A-416A-91D3-C5998A1353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4A28-0162-453C-B432-A0AD33A698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EFD3-B4B8-4865-A45A-D64459237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5903-42E9-441C-AAC1-2B7708CAA8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9669-6882-44FF-8B24-791830A568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4FB2-D53F-4B4F-A962-CF9D583853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5C06-75C3-4407-9952-C68DC31E91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78E9-A72F-4D35-A330-3101F67630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737-EB57-41AA-AB47-EA73C9FBB4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5FC-6D4C-48B4-9BE3-733A555590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9068-C118-4040-8C90-BF33DF140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D94D-367A-461F-8165-8F72A73A16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8275-6A06-4CC1-B98B-345CBC32F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D13B-5BA3-4DDE-88C6-5DD1E175F3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E5F9-4AAE-4C68-958B-BA5C04C75B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635C-635E-4953-AEA8-02F7D73C6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BCF8-B66A-4103-A31C-EAF36745FE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218-E68C-4FCE-B024-696C0E57C8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EF6E-81B0-4D6A-B0A8-B92AB1E3D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4DBA-6449-4ED3-8A0E-5B7EB76D67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A72C-4986-4D53-BB64-C657674FB4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895A-FD92-465D-ABDE-D4621E85F5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3DA5-A4CD-4F42-A03A-0EA41B1271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BDC-325C-4EBC-8895-69EEF916CE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A468-01AA-4155-A292-EAB2086B94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EF1E-8DC0-4E42-8337-C940A85B2F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AB81-D8E5-497A-92A0-9BC9C38364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0F5-5533-4960-9EC7-8377EFC7C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9AD4-0A4E-495D-832A-09E74241D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E202-6E38-4B79-AAB4-1607A4FEB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88A8-7185-41C3-A143-54E3387B21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C553-771E-4BB5-8624-80DFB69C1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87F-3E88-4E1E-A784-88DE868FDB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35ED-F059-4202-9962-CA8DA6B58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5FF3-8D4E-4B88-A6AB-6AC8E5A94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2C4E-6D54-4F8B-8688-87C765CB4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92360" y="1662120"/>
            <a:ext cx="5715000" cy="11905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96720" y="3602160"/>
            <a:ext cx="82076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9633" descr=""/>
          <p:cNvPicPr/>
          <p:nvPr/>
        </p:nvPicPr>
        <p:blipFill>
          <a:blip r:embed="rId1"/>
          <a:stretch/>
        </p:blipFill>
        <p:spPr>
          <a:xfrm>
            <a:off x="919080" y="1052640"/>
            <a:ext cx="7305840" cy="47527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7020000" y="25066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7034040" y="501336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68609" descr=""/>
          <p:cNvPicPr/>
          <p:nvPr/>
        </p:nvPicPr>
        <p:blipFill>
          <a:blip r:embed="rId1"/>
          <a:stretch/>
        </p:blipFill>
        <p:spPr>
          <a:xfrm>
            <a:off x="304920" y="1152360"/>
            <a:ext cx="8534160" cy="45532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755640" y="436572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684360" y="5113440"/>
            <a:ext cx="518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1160" y="704880"/>
            <a:ext cx="8581680" cy="5448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627280" y="5473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954760" y="44085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105520" y="54878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0120" y="2119320"/>
            <a:ext cx="7943760" cy="2619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067280" y="216216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5076720" y="3011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556000" y="35290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3419640" y="409104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595440" y="1209600"/>
            <a:ext cx="7953120" cy="44388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124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419640" y="2924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5580000" y="2909880"/>
            <a:ext cx="230508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2124000" y="36878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5867280" y="36734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3348000" y="437976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8"/>
          <a:stretch/>
        </p:blipFill>
        <p:spPr>
          <a:xfrm>
            <a:off x="6386400" y="4408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9"/>
          <a:stretch/>
        </p:blipFill>
        <p:spPr>
          <a:xfrm>
            <a:off x="2050920" y="5127480"/>
            <a:ext cx="158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314280" y="838080"/>
            <a:ext cx="8515440" cy="5181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4788000" y="272268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4788000" y="361620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4788000" y="445140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4773600" y="5300640"/>
            <a:ext cx="30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99880" y="1238400"/>
            <a:ext cx="8544240" cy="43812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379440" y="3573360"/>
            <a:ext cx="1700280" cy="2016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484360" y="2881440"/>
            <a:ext cx="12956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830840" y="3716280"/>
            <a:ext cx="1743120" cy="2016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6977160" y="29242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2065320" y="3573360"/>
            <a:ext cx="2146320" cy="2016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6573960" y="3716280"/>
            <a:ext cx="25700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5300" descr=""/>
          <p:cNvPicPr/>
          <p:nvPr/>
        </p:nvPicPr>
        <p:blipFill>
          <a:blip r:embed="rId1"/>
          <a:stretch/>
        </p:blipFill>
        <p:spPr>
          <a:xfrm>
            <a:off x="385920" y="2009880"/>
            <a:ext cx="8372160" cy="2838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22400" y="2852640"/>
            <a:ext cx="1942920" cy="1944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2065320" y="278136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2484360" y="2060640"/>
            <a:ext cx="151128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4614840" y="2997360"/>
            <a:ext cx="1943280" cy="19443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6559560" y="2924280"/>
            <a:ext cx="2260440" cy="1944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6761160" y="2060640"/>
            <a:ext cx="1511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1438200" y="1185840"/>
            <a:ext cx="6267600" cy="4486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2627280" y="24066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6084720" y="322740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2556000" y="40910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6084720" y="4956120"/>
            <a:ext cx="10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1685880" y="1619280"/>
            <a:ext cx="5772240" cy="36194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5796000" y="18874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2268360" y="272268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5796000" y="358776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2340000" y="4494240"/>
            <a:ext cx="93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6:57:3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