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B8D-F523-42A1-9A77-BBC70439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66E-B02A-4A05-A9F4-B8B0E6EF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F3BD4-60BE-48AC-B307-7C513DE0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A40C5-516F-455B-BC4C-14B23F56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FF0AE-B098-47C3-985C-70E8308E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A4EF5-2054-4A12-A50B-ECA0BE47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2846A-04B7-4F7E-9DBC-CFB61499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A7C76-9276-4161-9CFE-41AFAE89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08301-2187-47A7-B7B8-E898ACCB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2E653-DA8E-4D1A-A170-C6AF0409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5DB31-0B93-4983-A862-456506CD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E195C-3C41-453A-B7AF-1777C559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218-8B65-4A30-86EA-6B0452D0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60BA3-7E9F-4EED-94E5-580678EA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79BD1-6484-48DE-B22D-7385F08B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CFD43-0A6B-4DAC-B292-A6BB604E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6E737-DBB3-4D96-B68D-EB4E36D3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9411B-E01B-450E-BAF4-F4BEE854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19030-71B2-4F56-A8E2-E88F18FB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30C5F-5377-465D-9C7C-F05BCFAF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E2382-6E7D-4378-9554-D0073193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A862C-6758-41D0-989C-8365F7AA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49B65-9CBB-4E51-B359-0F97A9D3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EDC-48E3-403F-8513-8FB7CC34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7D0B1-A928-4DF0-9F6B-461C7BB3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4C3B9-F540-415C-B9D4-D5060BB9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7D58E-2474-49CF-A52F-65623203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3133B-9886-42AF-B61A-EC204FC6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FEDD6-5DF2-4C33-9829-7C8BCDD3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23531-59B0-4BB9-9A7A-A717E5EB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A2B1D-8F15-4041-87C6-420DF602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83460-BB5E-4FD4-ABD4-EC85C2F9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E5D40-18B3-4E52-9E12-DD22C664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CEAF9-7E58-4E75-84E2-1EEACC8B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202F-8916-4F78-9A69-148814C9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70DE2-0BFD-4EAB-80C3-4C044D31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9D9BA-08B3-4D9E-BCC9-50281760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273F5-667D-45CB-88B9-8AAA5EC4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3B50C-25A9-48AC-B40E-9E6DAC19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08ED5-59ED-4725-822A-BFD65EBC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8F639-2A56-4CA1-99B3-CFA1F319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4B4C2-D280-48B0-B88E-89BC9DA0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90016-D282-4196-863F-B7B3A612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0011F-5241-431A-B645-BC788AA4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93862-BEF1-4B5C-A923-5C2C0358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F191-0724-49B3-8949-7375FC46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30B62-50AB-41E8-A42E-9046D52B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AE75E-BA85-4208-9697-9D0C3978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E20B4-7DA0-4A24-9056-060920EC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1B9ED-8C37-4637-BDC5-55594678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8AED5-56F8-4CF8-8673-46CC2701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324A5-7EFA-4942-8FF8-0A64152D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AB89E-DCC6-482E-96A3-9D76C777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FFAEF-0C26-40C2-9EC9-4A5820A9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4D2F3-C428-4EAC-BF8E-97F6F8F4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CC53C-471F-4E43-A687-19E635B7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152C-834C-4C89-901B-FDAE7880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12032-C690-4EDF-901F-6A1FB3F1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159D20-B18B-45A0-86C9-2897EDBE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105D27-528A-43E9-A6B7-7F9EB3F2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626B1-2691-4E3A-B301-39FDF996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5FC3E-158B-47B1-B395-DD50F455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67D59E-012E-433B-8C9E-2A2775E4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CA7AFD-8211-4F7A-B910-33AC12F1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CCAAF7-48CC-4490-99AE-410D3C14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2B0EB8-7A0B-40FD-B3EC-E95BE901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87A72-EBC3-445D-B87C-388BC42E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143A-30CB-46CF-9D71-578E71F8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088583-D578-4CAA-A2DB-BA4CA76D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C73F7-D3FA-4AD5-BD43-2E9B2076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0D4C12-BCCB-4AD8-BBEF-B9EEE25C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D8A524-A1F7-4EB6-A24A-FC1CDCE9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F8C205-9AF4-46E3-B1AC-369D075D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7DF455-6673-4BCF-A169-17351DDF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D2E3B5-5797-4721-BEAC-31E1358D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5ABA3A-189E-4B30-9DC8-38A7EA16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B911F-7BFA-4F32-BB30-706583D2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70A4DC-9919-4F23-B64C-EDBFD48B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62FE-E850-4C3C-A55C-E7B9ED78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459654-6D58-482A-8E72-99CB602F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086CF1-C757-4B1C-8C9F-BBC7D52F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A9FA39-3917-4656-AD1F-3496EDBB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3569BD-DF28-4747-99DE-BB7F985B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259E39-09BE-4360-8C8E-74B2D26C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573E5-2EBD-4D38-BF2B-37FB1A5A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95101B-67D6-4FA0-A275-D35B6660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BB54CA-DB09-4608-8A28-B268C7F5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22C6DE-3614-4495-9431-7658F2B1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D7EECF-313A-4081-A516-5C986E71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4805-4E63-475F-985F-486119B5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27A33D-420B-4047-BB8D-C2DB140E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54D955-5593-45D7-BF88-0A4696D5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195FC2-5E84-43CA-975D-520874C3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3B6BA2-58B0-4B11-9418-E1C7180E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0334BF-BC84-4918-8E49-FD54001A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9001F3-3BF6-4918-A5AB-A4F844CA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B25F87-23BF-4B29-9BD6-DA2070F6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3449AD-28E8-4B9D-8788-652F98E1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BF9654-A3D5-4BEB-A215-CBE1B078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7F367-9CBF-4C25-AE9A-2FF2B357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BC57-FAA9-4FE1-9E81-F0F8BB0E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7064D0-FD21-4772-AD26-336F8857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388498-CC72-4AEC-9AA5-7B620878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3ADAB1-891E-4DBF-AB80-92D7E20E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37A565-FACE-4E39-9CE5-A8C1BD10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775F0E-7F1B-46E5-9FAF-3E04408A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620750-8828-46A6-ACB2-BCFCCD82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275610-EBE9-43C0-8DE7-85025297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6E66D3-F006-4817-87F7-44C043F0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D77640-856A-4DC0-9DC2-0696444C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7013E9-3497-498F-B1CC-2BCC11A3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27A-4FA8-44B1-BFFC-DB57D9DE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84AE-B59B-4E78-B2B0-C9D3065A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AC50C0-9FA1-4915-A7A4-6F6122BA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E117C5-836E-4DF3-B081-40C2B443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730406-8E48-4CF9-AD7A-2572A013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FFA9EA-9C63-485E-A109-8440B56D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7B186E-ADFE-4000-BA36-409CE58D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60C9E1-A9B8-4754-8F39-A4874973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432AA3-057A-4FFF-94AE-FD284220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5ABC31-E994-4D44-B324-073D917E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9D0341-6F8E-4DFB-B8C5-A5B290C8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29CE22-9CBA-421E-AF8C-9696C420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2259-0D8D-423B-B710-AE5C964E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EE6824-1E0A-4094-830D-CF533A67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92F212-6E7E-44FE-B1FA-31FB03E9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3E6886-81E9-48BA-AE92-942C548A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F64D5B-E097-4426-B606-D2BCB576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ECCF7B-FC6B-453C-8DFE-463DFD3F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9B075A-1931-43C3-8EA8-5C324301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3F73ED-F2DF-4273-9C20-C9EF39E6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AEE6F-3DFC-43BA-B565-058DDBD5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2777CE-2DF9-426B-B329-D033B666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72C513-C243-4DC1-8CFD-253970C9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467C-9C3A-4DEC-A5CC-05756F2A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0EFCC4-E2EC-40E6-8BB9-D46A99E5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045475-631B-47DF-9DF7-7CA34085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1FE685-B00D-49D7-A8D7-CA80D0DE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BD26A6-C2F1-4BE2-A262-77ABCC4C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7420D2-A001-4E86-896E-FB6034F4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C6A35E-0BB4-49EC-B649-864C7C2B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715533-4D6F-48CC-AA5E-D610A158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B804C0-99D2-4573-AEAE-527E6FE4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E7CA29-03A9-4080-BAFB-E122A633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18F0DA-375F-4A72-A3A5-89130B09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E09A-BD7E-45FE-8CA2-B5B4953C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028F92-A605-46D1-8753-91E1AC39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EF0956-E776-4C3A-A55A-332898BE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E57910-3F58-4FEB-BE4A-0F99FC19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59F446-E400-4C1C-BCFD-AC4302D5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F7C24E-9827-4B91-9312-75015CBF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B6C4D8-FA6E-438C-A749-9198C3D0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CE0BE2-B91D-4236-87F0-915ABB8D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615B62-B5E0-448C-BB63-7BAAF4C4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03B1DD-AD6A-4E33-99E5-CF49CA47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A63F7D-5802-4577-8C3B-A6882E13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BE63-6C90-4203-93B5-4FD8A736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B1FB25-CA49-4EB9-B995-04D5CADA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B594F4-4D82-4344-AFEB-8923120C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F85ACA-455A-40D3-BA19-AB0B99D3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60C178-1B4A-4DF2-969B-04792531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34AEFC-5ACF-498F-8DF1-4249C51B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872319-2E73-4C30-9E0A-8531E0A1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F42A98-8133-4A25-83BA-CEEFC7EE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E28D32-0727-4C84-90B6-89503504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B94607-E6D3-48D9-B590-B9CD1782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6F9059-1936-4966-82EF-3AFE8BA0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9D394-808B-49F6-B6EA-FB2624B8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CF8E32-4D4A-4E13-BF5B-8BFCF38F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5903E1-E6C9-4243-8C04-89EE9060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8D7FB9-6502-4F7C-8223-ED54E335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FEFF71-23A5-42BF-9256-500374FD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975FA0-5B5E-451E-ABD3-55D36F72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499B26-065D-4E19-8DCD-9FADD68E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BE459D-4FA8-47B7-8D68-8171A796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8CB866-5713-4CC2-B95B-4BDEEC18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84BFB0-BC60-4DAF-83B7-A1B4CC48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B8B64E-1FD2-469A-813E-E6898FE4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F6A24-633D-4773-B42D-77925FC3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FA050A-1A11-427B-8353-F35B7108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B00A58-883C-476C-8E07-DC84BDAD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D7C0ED-2F26-4665-A340-7CD7805C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D3AE3E-01A3-4889-B925-7CA1620F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2F32E8-B29E-4633-B9AF-DA0BA0FA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171CF4-82E7-4A4F-B4EE-415581B9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0680CC-CA8F-4C61-A87A-0AC43056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8EBA1C-F440-4D98-AE40-DE80EFCB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4F2460-6AC4-4486-A4BD-EF11FD66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347906-3F55-412D-B157-04B868D6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C5E25-715B-4058-A80D-BD2FBEBD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63A632-C716-41D8-AA81-5C47788A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A278F6-5C41-4324-9CB5-61ACCE86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FC89A1-F0C4-4F00-B28D-9C7FF175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004160-5F5D-4CD2-B896-B6A8EEAA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E031DB-630F-452A-91AF-270340CA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A536D3-88BA-472B-A91D-31FF176F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7BDCD8-E949-48E8-9ADA-555EE270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BC923-8896-416D-95CD-DD913BF3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EF988-B8E5-43B2-A873-53830A9A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4A4-EFA0-4CDB-8C95-77FF5FE4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790E8-B20D-4114-A91E-F5DCC817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E00DE-BA43-40C9-A6E7-5F804E17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94FFB-048A-4EEB-BE82-B46B7C89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310DC-47FA-4826-8D3E-16370B46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1669-8342-40FC-B05A-8027772C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25037-2EA9-40B3-8D7D-60A71247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482C6-8621-4102-A9F8-53F76E86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DC0F6-504C-4DC7-824B-BE6C5336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DAC89-A87B-4340-8445-9E41E032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54368-F1BD-4A1E-8155-94841879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577-F576-4C2C-B3E2-E5FD0599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E0AD0-EE8B-48B9-959F-C3D92AF6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1AE98-F79D-48DD-A55E-986321ED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C0637-7935-4DD5-9E91-0463F749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C5585-B3C0-4C3E-8032-EB6BD983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EB223-B4DD-418E-954A-2C1E36C0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AA35F-3BCB-463C-89DB-2C956E07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CE3CB-B1B7-4E4A-A2E2-704480C0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8AA5D-3748-41FE-8B24-1E72EBFF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15B92-BF17-4C35-96B8-D7479B24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7F8BA-0C58-4BC0-A846-42BAE6E7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717-2E04-4456-A3E3-EC444E3E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E8ECD-017B-4360-9D2A-DE0B350C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E01FB-7F38-4AFB-AFED-A2DADB44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8076E-8B2B-4182-9C98-7252F280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831B4-81DC-44DD-B8EE-1598BE19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DC198-C77B-4AED-A0D1-EB060021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8F0DE-89F8-42A3-9482-6BE66DF9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701A6-BAAE-4C8D-8B72-9FCC380E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6A04F-A49B-4177-A4D8-55ABB968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51885-EC20-4C88-8685-FE0CD8D6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4111C-C931-47E4-8C7A-C21E5A02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D99-7347-4203-AFFE-D84F8E61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72F5C-23D6-4720-9CB2-C1A585B1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D5FBD-AC90-470B-8BCE-D73A1EF2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EA89E-3EFA-4832-936B-4B2E5E62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D957B-0BB3-49F3-B655-C36906A8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62CBF-8D94-4AEB-89A2-6D2500E6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12604-9C5D-48D5-9510-9082466E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924FC-678D-46D5-B6CE-7F6FC5F5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8A897-BA3E-43DC-8B89-6B4553E5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2AC0B-6C7D-4D56-B761-88ECC1BF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34631-2E91-4D9E-B205-98802CA6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892-FB4C-4AC2-BC5A-A07EDA7F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46A12-2CD6-409B-8359-C35C7C58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66092-DF6A-42FB-8B31-2B279C55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F21AB-FD10-4FE2-84E7-B0B5CD26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5114B-B24A-46D5-912C-E366DEE6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68EF8-40AB-46E1-B6D6-386B0E65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99169-C37F-49F6-AA67-F02D86B1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17CF9-8108-4E1F-92E2-D16ECE37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AB7D0-808A-41F0-8BFA-6A129F8F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67B64-1159-400D-82EF-1F2B6194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20474-6B90-488E-B107-EE84ACFC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635-BD87-4265-8BF7-F3925F6E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16369-39E9-4354-8D01-664C76F2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418A7-132F-499C-BE90-57479FD1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365AF-FEE8-4BD7-BE1E-75B17ADB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7ED89-223A-408B-A83F-B3D038BF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48E85-A829-4C43-969B-A78476D7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099BA-FEF2-420D-94BB-D3F72F30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E3FB7-395C-45D4-9A5B-641523DA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69F1C-B65D-4FA7-9955-4D2BB57B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FDC6F-9200-4A12-B1C9-50656DBA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8F1E6-D68D-4BF6-A607-3F233A43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F04-A36D-4245-A8BB-C18D659A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B2AB0-EA1A-4071-8D30-4AF32B97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1D492-853E-462F-BB99-0D6FCCBB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444C4-99FE-4ED9-BFB1-C7B171D4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D4644-C3B9-4722-A346-4B6FFDBB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0B4A0-94D7-41CE-B1EF-1224E4FA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41930-3056-4CC8-882D-8CF6C224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51F7F-8089-4B0A-9008-5D3795AC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2D10C-4911-4ECA-A65A-4B273D30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9967C-92B4-4746-9B00-31407FA7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F9DA2-9C2E-43A8-BA31-44D310C8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0FD6-4076-43F3-BFE8-43A8EADF78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2EB0-E276-49C3-AE9B-3312A60D43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FDA5-D38B-4F69-944D-28771DE1A8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1C29-1BB0-4FBB-AF65-29797298F2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1B7C-1824-47D5-A5CD-A42885EDE3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1597-BE44-4632-A424-1689A805CC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D144-9948-4CF5-8834-B1AEDE7D57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9319-45F2-4133-B465-5F616BBB72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BDE2-05EF-4179-9D31-BDB658D86D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AF5D-147A-4212-9BF4-A9F31A286C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141D-A5EA-435D-9877-D30B089D59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4D92-0F07-48C5-A1E9-4013E1B871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87B0-887A-4BCB-9B3A-76C6070981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9CD1-F978-4840-8D19-FC888FE8C6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AD03-42C1-4B10-92AF-C7A92CB642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53CC-653B-4626-8022-69614C3916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FBBA-1829-4CB9-9530-9ACD3C9A31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BB0C-2A75-42F3-AA22-921F37FC0F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B9E6-7E59-4E8F-8F83-7529BA66A5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F0E9-8A4F-4BF4-9995-00FB33B3BD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1FC8-0403-41B4-A0FF-4E388D1356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2706-8967-4201-B3BB-488B9810232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A7AC-D0D5-4217-8002-92EFC5188F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C39B-B5AF-4D71-9648-4E260862BD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493D-82B6-4303-A809-9646409D5B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446C-C87C-4F61-BDB6-F8FA7EECA7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7D06-B8F5-4416-92D5-85DA5CF5A6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604C-970F-42FA-B93A-F6488C5EE5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C327-3049-456A-9001-5AA0806A7D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DE75-530D-4B49-8A8F-1321504870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F0E8-BD85-4237-8F75-55B163EA3E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282C-6219-45A7-B518-CB1EE7D6EC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557F-9B3A-4B9B-A16A-DC335D20DE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1075-3A70-4084-8B96-629A0186CCE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FBD5-BF08-4102-92BC-973F883308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06FC-98E6-46AE-A6C0-254D025203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0A20-7220-46F0-80B2-BF02D9D9E4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C625-F5E5-4AEB-9553-07A927CE56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AC43-6D4A-4FA7-9CC6-3B6F449C3F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DA6E-9EAF-42A5-BB4E-BF8B199E52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7A6F-880F-4C91-8113-AFF536D2D9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2A04-1EEC-4CF0-BE9B-AC6AFC34D9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238400" y="2357280"/>
            <a:ext cx="666720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581040" y="828720"/>
            <a:ext cx="7981920" cy="52005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684360" y="879480"/>
            <a:ext cx="792000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792000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611280" y="2133720"/>
            <a:ext cx="792000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684360" y="2708280"/>
            <a:ext cx="792000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684360" y="3284640"/>
            <a:ext cx="792000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7"/>
          <a:stretch/>
        </p:blipFill>
        <p:spPr>
          <a:xfrm>
            <a:off x="611280" y="3860640"/>
            <a:ext cx="792000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792000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9"/>
          <a:stretch/>
        </p:blipFill>
        <p:spPr>
          <a:xfrm>
            <a:off x="539640" y="5084640"/>
            <a:ext cx="792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76040" y="909720"/>
            <a:ext cx="8791920" cy="50385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979640" y="4076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508720" y="40338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1979640" y="55166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156360" y="5445000"/>
            <a:ext cx="129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466560" y="1023840"/>
            <a:ext cx="8210880" cy="48103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143964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4067280" y="2492280"/>
            <a:ext cx="143964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2484360" y="3917880"/>
            <a:ext cx="53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7164360" y="4653000"/>
            <a:ext cx="79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476280" y="2757600"/>
            <a:ext cx="8191440" cy="134280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5003640" y="2852640"/>
            <a:ext cx="16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1763640" y="357336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133200" y="190440"/>
            <a:ext cx="8877600" cy="64771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7956720" y="1125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7956720" y="2565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7956720" y="40053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7956720" y="472428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6"/>
          <a:stretch/>
        </p:blipFill>
        <p:spPr>
          <a:xfrm>
            <a:off x="7956720" y="617868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352440" y="958680"/>
            <a:ext cx="8439120" cy="55915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332000" y="269388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5003640" y="2679840"/>
            <a:ext cx="295308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5076720" y="335772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185840" y="517032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1258920" y="584820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7"/>
          <a:stretch/>
        </p:blipFill>
        <p:spPr>
          <a:xfrm>
            <a:off x="5146560" y="5199120"/>
            <a:ext cx="367344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8"/>
          <a:stretch/>
        </p:blipFill>
        <p:spPr>
          <a:xfrm>
            <a:off x="5219640" y="5877000"/>
            <a:ext cx="3673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228600" y="1166760"/>
            <a:ext cx="8686800" cy="4524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1042920" y="319716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1116000" y="378936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1187280" y="4437000"/>
            <a:ext cx="554544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684360" y="5027760"/>
            <a:ext cx="554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176040" y="33480"/>
            <a:ext cx="8791920" cy="67910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900000" y="331308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971640" y="4508640"/>
            <a:ext cx="48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900000" y="508464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6"/>
          <a:stretch/>
        </p:blipFill>
        <p:spPr>
          <a:xfrm>
            <a:off x="826920" y="5661000"/>
            <a:ext cx="79930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195120" y="1023840"/>
            <a:ext cx="87537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8:0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