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E3FB-7859-4EF2-AF50-E6CA241DA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D80E-2C53-41E0-A6E4-504BCF24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C4121-B0E1-4623-9095-53166200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05B7C-D5E1-4904-B994-4E9EA299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25CBA-4F35-4EEE-904D-ADEFD70B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7D116-09C9-4ED3-B9E5-F4881221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07034-C2F8-491B-98E3-69B633AC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30F6F-FD1A-46E5-95AB-507F0DA4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D9BEB-513A-4B35-A408-6A91A151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FE111-FC97-46D7-B719-498032FE7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ADB6E-23A3-4EA4-B240-BCB987A2A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5547F6-2D1E-454D-91B0-0C55C5A50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AC3D-53B5-4803-A2E7-336871E9A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4C8BF-63A8-4E65-9634-A5538599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7E445-482E-45AA-9559-41A777A7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E88722-6DB6-4515-9755-ACE721C5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CAFE82-29CA-444C-9057-DF3DD174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DF48A-B5A9-4B4E-9881-BE7F2C23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FE0C48-63ED-438D-A8F9-463D5C66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0F9311-73E6-454D-99E4-6360A1EC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9748FA-A71D-40D0-BFB7-6D5D7A2F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31E22-DC3C-45A8-B4E0-2FCF2B4A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9CB307-6167-406E-A4CB-B1C234A3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0B75-E9A8-46C5-B0C1-8228241F6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58AF44-7187-487D-A71B-E832C089C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C5A3E-D84F-4484-A5BF-AAB5B571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E431E-77C4-40FD-8E20-82C97821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A73F6-A8F3-4896-9A2F-D0FB2721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B1D04-1F23-4090-9945-39B10379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AC858-8070-49F3-A9F1-9FF95C69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EAE58-177C-49E0-B007-CAA098DC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6AD23-A342-42F1-883A-EC158ACF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B8FA1-9CD9-49C9-8790-F12CB1A9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6FA80-534D-42DA-8FA1-DC0A6AA8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AFF4-77BC-4BB5-88D3-F95A09748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8C162-1D50-42EB-9700-C3CC78E5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9B7EF-1F57-4479-B786-9C2AA6DCF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7CBB3-B91B-4E14-BC2E-89D0A645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9D99C5-E826-4C22-ABB7-55EA856ED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77DFB-4EB1-439E-8735-7A24B58C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73632-D1F0-48E1-93E9-A8ED31C5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C1E3B9-B6E3-4544-84F2-BBBD6D72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982466-BA1E-4BC4-9AE1-C3931B0D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82918-F6DB-49F8-85FD-47ED3697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4346C2-26B7-4592-B2B2-DF65FA82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5833-9B88-4337-8422-65793CA2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E54972-28A3-4E98-B5DA-C612B4FA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D31665-7253-4D08-A697-8B37BB69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C9DA5A-6238-40AF-BB43-90C1DB55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084E10-1B60-48F9-8D34-CF22759CA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20A067-47D0-4B7A-BC26-145E9C9A7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7457BD-D5A5-4F6F-9DA6-0EA50914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011C0E-7770-482A-9148-7A1102BF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724782-7DC5-4E9A-9D98-789C18F4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56FE3A-A7A6-4021-89F0-D1EC3ED9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569FFC-7FCA-4AFE-B84B-ABB8219F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28EA-32E5-4820-8685-C393FA75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C812C8-49BD-4700-A10D-33D5C237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66FF6E-3D31-4C60-BBB5-FA20966D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087A47-3873-4335-BAB9-44B9BC9D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2AC386-2A9A-4C01-B23E-E17B0CC0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725979-893B-4409-983F-AD3D062C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8BC23B-33BE-4261-AFDD-4D8496F9D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46D934-0456-401B-9554-ABBBB4473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DB6646-EED3-43FE-A95C-6BC3EA66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ED45E8-1482-4708-BE6A-16B31632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9072C0-4392-490D-A163-B2F7FAD6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0FDD-FB5E-40EF-93DC-4879245A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FB0907-6414-4E1A-B64A-25A7CAC5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1F0006-6EA9-4FD6-A713-0C558E6F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EB88A4-D1A7-404E-B779-3F87A4EB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44AEA3-716D-41BA-9A58-C7550F2B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DD74AE-2D58-4907-8C8A-AE5C3134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BFE3A5-305C-4E8D-BBE5-05BA5EED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D7C661-B9FA-4000-942E-3EBD9A9C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AF1D42-AB09-4111-A49F-2E021E879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2713F0-4203-4F1D-8878-05756FF79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0F56E7-949F-4B7C-BB02-87534919D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6080-8118-48E6-8656-2F4B521E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CAB69B-157B-464F-8A25-C6A37F91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AE6A5E-4D06-4A86-B48D-45F590B8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917042-C0A6-43B3-84A5-DFEA44B3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1584D4-25FF-450A-85ED-82C61284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668C6F-2EE1-49F6-B2FF-E0A6D5C5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503428-4AF1-4941-9523-ABBCDCF9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183498-CCD8-4848-BB6D-DC006500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64DD1C-3F2D-4083-BB33-8A140B3A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BE82E3-CC5C-4A42-9F7B-2BFCE945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8848FC-B7FB-452A-A994-F27C131FC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4146-2EBF-4CF0-B778-3D3E2AE8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5D9537-38EB-492A-8CCC-5A2D89058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1095A6-1810-461C-A854-D50CF5967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4EC45C-B4FA-4E16-8357-649476AB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CCCA62-294C-4B87-ACE7-CD06FC74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8E8B0A-CCD3-461B-967E-4575F42F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0C8328-2FF7-48F5-93A6-56EE80A8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F5578E-DAFC-44FE-ADF9-E4F18B80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C05546-CAA3-48B2-8952-B999F83E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E1AD2A-950B-46D9-B993-580ABBB7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3E6ED4-D79F-466A-9FCE-2D791019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D710-F7A6-4BB0-B107-C5923FAE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EEEC96-3516-4D8D-8171-B3963350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54A81E-A385-4677-9736-04BD1CAE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16CAAD-91A5-4E7B-914C-312166E1B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1A6837-3968-4C66-A859-4C4B4211D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56BF59-1832-4ED2-AA1B-FBAAE0E7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B7502C-EF35-42B8-BD92-7AA619BC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34ADC7-F8B3-4F9F-9A73-065EC7C3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A97589-8E54-4B9A-AC52-D2238104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C3AC89-1ABC-40E5-B87E-7BA66C65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28497C-47BD-4D2F-ABBD-DA0181FE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5E8F-512E-489B-900D-6D641CF8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2B44-395A-41A6-96C4-40EE5D46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EBD277-1805-487F-AACC-19AD1F2E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289EC2-7B63-4DDB-ACC8-3F619DE8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01D815-0C76-4535-A9CA-A57A9C41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A9A4AB-1F22-45C5-A19F-2445430D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D1E2FC-719B-4309-B7DB-002C0781E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5EAEC6-E75E-43D3-9FD4-3F75791DD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603884-2A87-4975-B606-090D912F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2BFD47-2916-4D4D-A762-ED56DAA3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F4F0B1-9C99-41B7-82FF-95102FB1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7C552A-336A-4988-BDF8-0C0B22BB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0DF9-75BA-42AD-AC07-CF2E96C4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525356-86C8-4B70-B1E1-3FDD4A72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F434DE-4615-4FEE-93A0-00A6D9E1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4FE7D7-0C16-4128-B7CE-42FE479D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991EE4-D8EF-4DA6-AE53-B4338767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473D15-816D-45EE-B197-A1219533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60B586-EE3D-44EF-868D-27AA165AE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AF9E4F-C1D9-4079-929B-E875F986D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13B7F6-BABB-4F7F-B275-807EADCB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166314-3F9F-4AEA-8C67-E3393C78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D46C20-0239-47DC-BFF6-DCC41691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EB82-8DF8-4C82-A8B3-DEBEB608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56F9BC-9F5F-4567-8601-C5C9ABCC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A3EFC6-B4C1-445D-8117-57CEE5AF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FC1162-0FA5-4369-A31D-8A244A28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D107F5-6249-44E6-BD1E-424049E7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7CFA4D-7F52-43B3-99DC-F3782651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96A2BA-7D17-4A20-82BE-D3F0D32D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605173-82F1-436E-97D7-261E164D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B020CB-7801-47B1-86BF-F684E8D6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EF38F6-154F-4EF9-A1BA-D42A19478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4A9891-130D-460B-A27F-F44D7C9BA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2DC0-CCC4-4A09-82B3-2100BF7BC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20803B-FAAA-48E7-A72A-5987D2C1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A8F819-AA8B-431D-B2E3-02F146C2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3417E5-4BD5-45F1-891D-24A9AC15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C72BD3-F6CF-46EA-A679-4CD376AA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497B8B-C1A3-423E-A105-2591195D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C4243B-E08B-4741-990B-28DE89D3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CD37FA-9372-44B0-8463-8C6F9973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D61DE9-67DD-402A-B508-6943A468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229A8A-EAF8-4178-9E1D-F0D0F350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E55DC7-2E71-4EC3-B1C5-84A5E2F71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9718-7220-4B67-ADE6-5EDB20734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B06978-7B10-40AD-B2F6-C99340E36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8DC749-8977-4B46-8C87-9E0D9003A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26D143-B72B-49E1-93E4-06AFDC70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E3E6B9-6C5A-4692-BE2B-7A275AC0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D2FD47-74CE-4090-BB9B-80169BBB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51E701-8F83-4D5D-BD35-0DB7D412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8E315A-E0E3-4A2C-82B6-7C7A6A75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C8B5A0-6270-4A8A-AD4D-44224A27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47618A-E420-4A57-B968-E7204AA7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D5AEB1-8A03-4EF2-9C61-0BE84E49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6B61A-1639-4029-B7DB-FE1023A74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E9395C-C9EC-42A5-8A4F-23384841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9D0942-F252-4649-8416-3659A6C5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083F7B-8624-4E09-B62B-4DC455FE7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D2C502-8EF0-4653-AE72-1A1A79151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4E481A-FB02-405E-8150-12992BBE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A449B9-99C4-4CFF-ACCB-CC71EE7E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776C68-DEA0-497D-A484-172D884A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F25D63-737B-4717-A638-E933DE9E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988AB1-BE91-4095-8C4A-6DB28731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8A1C09-9DE8-4F9A-900D-BB498FD8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64F2B-005E-4FF6-9C6A-DA074CBE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A055ED-5A79-408C-B583-DF479894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AE9BE5-7E32-4474-BFCA-A26FBFD9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B07803-B03A-4777-B714-602A2007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EDA010-A279-44FC-8F29-4DDAAB309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38EA66-58A4-4D70-B869-38129412C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09809A-A429-47DD-BD2C-1FAD85BC1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C39C15-795A-4F82-ABDA-42BA97C4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C096DF-BFAE-4950-AC81-B9A238C5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1DAC53-572A-41D8-B233-0F950026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0656A4-32BB-4F54-A765-83FE3C20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A6693-054A-4559-A984-2CEF4E96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83E328-E5FC-41D8-ABE9-BA22DBA2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9A0720-147F-4B71-AEC6-DC478B92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225952-6CAC-4337-8E49-1F8C1429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D5DE57-5817-4324-9A99-B1E22C6B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DF6EA1-31E2-415A-AB24-B5598FCD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A7239B-371B-49AE-94B9-D59959248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921E4A-73AD-43E0-9F7B-4C09E85A9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8D0B4-1683-4C30-96D8-17DFF6B8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15FFC-4F3D-4FE1-B637-A113A612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F4F8-DB6C-4A52-8972-D0B276C2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AE7E0-DF59-4EE5-BF1A-E44751EB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C4D4B-CDD8-4F74-89E6-8138C229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6156F-84FE-4B85-854E-36756456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F88A1-6243-4BC2-BAF5-21E9E51B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71EBC-5E21-4AA1-AD74-677294F9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B350C-3413-4804-B8BB-1E346EB00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7C652-9868-4CDB-B723-77CEF39BF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FB394-5D8C-4EA0-A89B-4E38F5E2E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608DA-E4EF-4B13-9003-8710CD95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D1188-717E-4B4E-82CC-174CBF95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3DA5-466F-49DB-9169-1A388CF6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E2F76-F8C2-485F-BDE1-85F6326B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8B551-0067-48EE-97F0-AB1A9096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E8BE5-D8D6-4EA7-8730-4B806BE9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442D0-57D2-405E-81B1-AB8DC574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2ECCF-7363-4B69-BADD-842EDD1A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9A826-B794-4B49-8105-E67531B3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DF93C-231F-43F5-8B16-69289126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AE41D-4184-4D5C-AA0F-7726A1A23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99EB2-D1E5-40B5-9FA0-EAEB59995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20893-6244-412D-AC8C-997A77E05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681E-D0BE-456A-A320-39C1AC89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6BE7F-05E6-40D5-94D7-BD6F2EC7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9125D-9B1A-4EBE-87BB-9C6EA319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09379-2958-49A4-B65A-1F1D9934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B2898-7568-4485-8FF3-C345EB0F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16DED-0978-42EE-808F-98EA16E4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66E62-1119-417E-BCE5-DE7ACBE2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C9A71-F5DC-4263-83C7-C5CFC17B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6723D-DC6B-42C7-A268-C2068152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F5CA9-41CD-4896-86CB-F6B90A38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C485C-D35A-4B22-B864-A42A2E6D2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4DCD-A880-48C1-8B11-85AE8355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1AD09-74D3-4F4E-A8A2-C0DF4BEE6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96E0A-F0EC-4D72-AB4C-C94F8E8D7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E8778-2FAF-4A53-A1D3-303E4BDE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0B9BF-438A-48F7-977E-D33F2C1F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2142C-D666-48EC-9DA8-09CED71E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5060C-DA6E-4EC9-9B51-90B8B3FF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DAFF2-8B40-4DD9-8F7D-8582F015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AF2B1-F06E-4E8F-ABA6-6F97EA7C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A06DD-9517-45CA-93E5-79749A83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FD6C1-75A9-4299-B8BE-B1E38F06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6156-7F8F-4974-9503-D9214964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97748-0C71-476C-86A9-4F269021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9A307-4367-435C-9C5A-1BC98348C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2186B-B6C9-481D-A181-401DF78E2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A17DB-FDC2-4A1D-B927-38F7F74B7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626AB-0EE4-4A52-93DF-62620D5D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C13BC-C5EA-44A4-81EF-7060612B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666BF-A3AF-45E5-A243-DB9CB30C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539A5-8A81-4B4D-BDF4-48E23FA0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76FAE-2913-4990-A9DD-B33CE003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A260F-9369-4E16-A6AA-CC019952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4592-15B8-4DC5-8230-12A4B5EF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FEFE8-D6ED-47DB-963F-C6EC6B4B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5EBF4-9C2F-4477-BD79-DBE2426A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0DF90-4C86-4D4F-91CD-9BD727D1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F3BDB-87A4-4160-B67A-322AE7899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C4480-387B-41D9-8EA7-701C00AB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3A51A-41D9-4CD3-82D2-B6A571C31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DA442-11E1-4731-BC83-6A3A8673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9FB92-BD51-4121-B945-9F3C47BA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90394-1E47-4DF5-ADE4-4FF91369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1D0C2-A1A2-4FD6-8F86-188EBB0E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E98A-0C5B-4F00-BFBE-66714E56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743E3-BF0E-4B38-8FAB-C27D8F72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DA9CE-DDB4-4A1F-8EBA-5ABA1F6A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B27F3-D897-461C-86BF-815994CD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158AF-9DD8-49B9-AAE7-66AA72E9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492ED-922E-4746-AF64-990509AA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BB6F9-F296-4025-ABE5-7D9F520D2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FB5F0-5F4F-464E-9EE6-FC65BCC0F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CC77A-49BF-40B0-9025-1E964A40A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0B659-AD0E-42E6-97EF-3C5606BE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BD781-D17C-499E-A214-1814DC39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599C-A08A-4638-B283-AB5665B188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644D-FE8B-418A-8161-583915679E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C77D-77C4-428A-8454-8ED1852DE4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E36C-526F-4694-AB76-545101AE39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D47C-6694-4D93-8F7D-C201B31FD3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99AD-4117-4702-B1C2-BDCF08D067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19B4-8888-43C2-912C-32993BDC4C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3A51-DBE4-4664-9EAE-7FD5A7132C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9D5E-BE45-412F-AE17-EFAF12B0C3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0107-972D-498E-9604-84DC8CC5F2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6E1C-1B59-4B28-AD83-56C80FFFF9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04D0-1972-47F3-95F4-CC2C10598E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03DC-3D72-4E68-AAF7-CF6A17815A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6B0A-1DBE-4E40-B7B5-8F226173DD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DBE4-6711-4A29-9F86-264720A874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0678-0880-4E4F-A1BB-65C8CD231F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6A7C-102E-459E-B547-27AE76296D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A7D7-F126-4B1A-9D01-FA8D96CFED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6C5A-67A2-491C-9114-E226FF4DB7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E898-9226-4C2A-9D19-682FDBA0F0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8D3C-1F43-4CBC-85D8-B1EA25242D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9C53-B272-49EF-BB83-B0C077F303A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1D11-4621-407A-8C8B-0896B521AB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A8A9-FB16-4954-8BE8-8713BB4DA6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8B14-6E94-4089-992A-F4599C54B8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5DF6-B741-40C7-8BFC-59D250E542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8B72-FB05-404C-92B0-83407AD9FD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3B9C-1CA6-4428-A5A0-3543F0C744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662D-088E-4AF0-9B7C-9E91773080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06A4-EE6B-474C-8073-820A319E45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2420-23E6-4C52-A3D3-1661D12D8B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08E5-0C3D-47C0-B046-11B7BD06CA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E284-CB47-488F-8D40-FB3DBB1780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0B6B-688B-4D69-9B89-AA466EAF9B3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F7F8-F843-4A44-A3F0-81B1F96910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B3E6-E95B-41B7-A578-EF8F5CD0F9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4025-E713-475D-AB2E-047F1B2B63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8E57-0830-4CEA-85F9-97C40F6809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D3C4-8AFB-4E83-8602-228D245D69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A9BB-114C-4DC4-ADB2-E6A44ECAA1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371F-5F87-437D-8087-62A3C6C62A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BBDB-9205-4CE5-B44E-041E3D45C3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30320" y="2971800"/>
            <a:ext cx="888336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00160" y="446040"/>
            <a:ext cx="8743680" cy="6229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7812000" y="1484280"/>
            <a:ext cx="1081080" cy="4478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1403280" y="227664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6443640" y="30402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3564000" y="3860640"/>
            <a:ext cx="115236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8244000" y="4653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1547640" y="54309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8"/>
          <a:stretch/>
        </p:blipFill>
        <p:spPr>
          <a:xfrm>
            <a:off x="5724360" y="5445000"/>
            <a:ext cx="1152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542880" y="1395360"/>
            <a:ext cx="8058240" cy="406728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2"/>
          <a:stretch/>
        </p:blipFill>
        <p:spPr>
          <a:xfrm>
            <a:off x="5580000" y="155736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3"/>
          <a:stretch/>
        </p:blipFill>
        <p:spPr>
          <a:xfrm>
            <a:off x="3492360" y="2363760"/>
            <a:ext cx="1366920" cy="4478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4"/>
          <a:stretch/>
        </p:blipFill>
        <p:spPr>
          <a:xfrm>
            <a:off x="5003640" y="3141720"/>
            <a:ext cx="1366920" cy="4474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5"/>
          <a:stretch/>
        </p:blipFill>
        <p:spPr>
          <a:xfrm>
            <a:off x="3419640" y="3933720"/>
            <a:ext cx="1366560" cy="447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6"/>
          <a:stretch/>
        </p:blipFill>
        <p:spPr>
          <a:xfrm>
            <a:off x="1692360" y="4724280"/>
            <a:ext cx="1366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295200" y="1014480"/>
            <a:ext cx="8553600" cy="542916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2"/>
          <a:stretch/>
        </p:blipFill>
        <p:spPr>
          <a:xfrm>
            <a:off x="1836720" y="3573360"/>
            <a:ext cx="2448000" cy="288000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3"/>
          <a:stretch/>
        </p:blipFill>
        <p:spPr>
          <a:xfrm>
            <a:off x="3564000" y="2781360"/>
            <a:ext cx="1800000" cy="4474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4"/>
          <a:stretch/>
        </p:blipFill>
        <p:spPr>
          <a:xfrm>
            <a:off x="5940360" y="3587760"/>
            <a:ext cx="2952720" cy="28796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5"/>
          <a:stretch/>
        </p:blipFill>
        <p:spPr>
          <a:xfrm>
            <a:off x="7667640" y="2795760"/>
            <a:ext cx="1297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1" descr=""/>
          <p:cNvPicPr/>
          <p:nvPr/>
        </p:nvPicPr>
        <p:blipFill>
          <a:blip r:embed="rId1"/>
          <a:stretch/>
        </p:blipFill>
        <p:spPr>
          <a:xfrm>
            <a:off x="600120" y="996840"/>
            <a:ext cx="7943760" cy="53056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1547640" y="2924280"/>
            <a:ext cx="2448000" cy="302580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3218040" y="1930320"/>
            <a:ext cx="149832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5435640" y="2781360"/>
            <a:ext cx="2592360" cy="33116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7105680" y="1887480"/>
            <a:ext cx="14986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1" descr=""/>
          <p:cNvPicPr/>
          <p:nvPr/>
        </p:nvPicPr>
        <p:blipFill>
          <a:blip r:embed="rId1"/>
          <a:stretch/>
        </p:blipFill>
        <p:spPr>
          <a:xfrm>
            <a:off x="200160" y="873000"/>
            <a:ext cx="8743680" cy="57819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2"/>
          <a:stretch/>
        </p:blipFill>
        <p:spPr>
          <a:xfrm>
            <a:off x="4211640" y="3357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3"/>
          <a:stretch/>
        </p:blipFill>
        <p:spPr>
          <a:xfrm>
            <a:off x="5651640" y="335772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4"/>
          <a:stretch/>
        </p:blipFill>
        <p:spPr>
          <a:xfrm>
            <a:off x="7337520" y="335772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5"/>
          <a:stretch/>
        </p:blipFill>
        <p:spPr>
          <a:xfrm>
            <a:off x="4211640" y="4221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6"/>
          <a:stretch/>
        </p:blipFill>
        <p:spPr>
          <a:xfrm>
            <a:off x="5651640" y="422100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7"/>
          <a:stretch/>
        </p:blipFill>
        <p:spPr>
          <a:xfrm>
            <a:off x="7337520" y="422100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8"/>
          <a:stretch/>
        </p:blipFill>
        <p:spPr>
          <a:xfrm>
            <a:off x="4211640" y="50418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9"/>
          <a:stretch/>
        </p:blipFill>
        <p:spPr>
          <a:xfrm>
            <a:off x="5651640" y="504180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10"/>
          <a:stretch/>
        </p:blipFill>
        <p:spPr>
          <a:xfrm>
            <a:off x="7337520" y="504180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11"/>
          <a:stretch/>
        </p:blipFill>
        <p:spPr>
          <a:xfrm>
            <a:off x="4255920" y="58910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12"/>
          <a:stretch/>
        </p:blipFill>
        <p:spPr>
          <a:xfrm>
            <a:off x="5695920" y="589104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13"/>
          <a:stretch/>
        </p:blipFill>
        <p:spPr>
          <a:xfrm>
            <a:off x="7381800" y="5891040"/>
            <a:ext cx="1008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138240" y="898560"/>
            <a:ext cx="8867520" cy="55911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971640" y="2693880"/>
            <a:ext cx="3960720" cy="4478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826920" y="3429000"/>
            <a:ext cx="3961080" cy="447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900000" y="4149720"/>
            <a:ext cx="3961080" cy="4478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5"/>
          <a:stretch/>
        </p:blipFill>
        <p:spPr>
          <a:xfrm>
            <a:off x="900000" y="4883040"/>
            <a:ext cx="396108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图片 1" descr=""/>
          <p:cNvPicPr/>
          <p:nvPr/>
        </p:nvPicPr>
        <p:blipFill>
          <a:blip r:embed="rId1"/>
          <a:stretch/>
        </p:blipFill>
        <p:spPr>
          <a:xfrm>
            <a:off x="257040" y="1143000"/>
            <a:ext cx="8629920" cy="457200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900000" y="2852640"/>
            <a:ext cx="3743280" cy="447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3"/>
          <a:stretch/>
        </p:blipFill>
        <p:spPr>
          <a:xfrm>
            <a:off x="971640" y="3573360"/>
            <a:ext cx="3743280" cy="4478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4"/>
          <a:stretch/>
        </p:blipFill>
        <p:spPr>
          <a:xfrm>
            <a:off x="971640" y="4307040"/>
            <a:ext cx="3743280" cy="4474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5"/>
          <a:stretch/>
        </p:blipFill>
        <p:spPr>
          <a:xfrm>
            <a:off x="971640" y="5084640"/>
            <a:ext cx="4895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266760" y="1376280"/>
            <a:ext cx="8610480" cy="41054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971640" y="3933720"/>
            <a:ext cx="3671640" cy="4478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3"/>
          <a:stretch/>
        </p:blipFill>
        <p:spPr>
          <a:xfrm>
            <a:off x="971640" y="4653000"/>
            <a:ext cx="3671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38:05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