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65C-C1E8-49D6-A82B-B31DE5D8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068-D918-4066-83B0-EFB45B95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34A60-1403-4DEE-99B9-968881BE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2BDA2-9467-4625-AE7A-03C4D44D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ABEFA-7993-47E2-975D-8D26867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0A0AA-8101-4D22-B940-D338274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7A5C4-14A4-418A-A83D-6B640A8C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9162E-E688-4ACC-A4F9-AA0D4BA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378E4-1C17-43FA-9D3B-9094C1F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35848-78BC-4DF0-8C20-5B27C46C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F54A0-7E92-4F85-8B5D-DABA0BCB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FBED4-B0A1-4FFC-BF3C-2157C68E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DA1-A9C8-4DEA-A7E4-FFF2EB86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B0837-C48D-4E73-8404-DEEEAE7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B057A-B1BC-46C7-AFFE-3215CBE0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00164-A406-455B-9823-EB610E31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AF892-E0E4-4B11-A694-EF6CCA1E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4DC17-3C37-4232-941A-467DD0A4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949FF-865E-4B8E-AE96-EA926B46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9E4C6-9149-4199-8D91-CBDB715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DD367-509D-4021-82D6-8F2D8B53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39D35-9658-4BA8-9FFD-3B270D37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2D747-53E8-48D8-9113-EE33B1B7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891-7AE1-4712-9C89-9E77794C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9A676-46FE-45D6-8F73-28AEA71F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9B9E4-CDA3-444B-AFFB-19F557D1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B620A-1CAB-40E3-AF81-D1AFB0BF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A0D72-D43D-465D-8397-DAF7E152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98357-5763-436D-8E3A-5C6F5398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6344C-ADCA-45FE-88C4-9FBFC76E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727C9-EBE6-4F1C-964E-FAA8B65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F41E7-7240-4DB0-9247-CD18A1B7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85F3C-4BB3-497C-8F1B-D6835F5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5DD9A-CA80-49EE-9667-D2003DB2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D05-94C5-4270-886B-B1ECBEF5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E7BF6-41F8-4050-8DF6-3DD59F2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1DF05-FD09-4EE2-AD9C-8FAD0871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691F8-8A87-43B5-A486-60D0C08F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4FFEB-0DC8-40AA-A120-7356B57A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1CCE2-A479-4B56-8CB7-99AEE71E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6905B-3FD1-40C1-AA0A-EF8A54EC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878FF-BFD8-4BF3-A4A8-96B311DB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C96D1-6B4E-41DC-A8B6-91E893A3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B4A89-4901-4BBF-B35E-1E512A65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ED474-E2BF-437F-9B1E-DE88B5C7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E149-590B-4C17-8646-6DD96E05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DCBA0-2D17-42D0-830D-7FDB9C9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46AD2-7983-438C-82B1-464B67C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6856B-1239-4C4D-9732-F13A1F3E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06D9C-86A3-43EB-89B8-5A1EA034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990AC-6ECD-46D0-9428-1EAB2FF0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E3E94-226A-4B83-8316-F60B4EEF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B4970-7E35-435F-80A5-0670BD56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62DBF-A30B-4CA2-81C0-25E97531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9B328-BE5A-4F00-B6CE-38567412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5ED10-6B8F-443E-A17B-84A9727D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CDE7-FEA3-44D8-A9A6-6435696D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367EA5-78C4-4F16-87CE-5782391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30439-049F-4887-8A5B-4802420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21388-7491-4557-99CF-FF4C229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EC847-6E03-4DC1-88B7-DC995BF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1E01A-E6FD-4080-AA46-1A7F1971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8FC42-1A20-4937-819D-A8220D93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76C4E-7B6A-4C6D-99CA-AA986117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6EEF2-4540-4378-829E-BBE530CF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1747A-1268-4B68-A670-DE4E8D26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646DD-9174-407C-A161-FA56B0D4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EDDF-D10E-4FDA-8724-57F41DA6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C53C0-DCC1-4F5A-AA2D-94E2115D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14212-1BB1-4702-B475-30DB7D7D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F0261-B8D5-45BB-99B8-7E5A3802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09188-4692-4C21-BB6B-32DAEAEA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DC7C6-8033-4501-AFDA-599CFAE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4C6CB-0A3B-46A4-8242-4C6A490C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00085-7C50-4F1C-A3C6-53D4FD60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42853-BF7E-44AA-A665-D91D043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42209-10DB-47B0-94E4-16F2F0E7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31963-648E-4A88-880A-90153BF0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3347-B162-4C1F-8BE1-5499C672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2AD7A-7FAD-4C49-8BFA-CF32B80E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E9577-3D3F-4A55-84EF-D6CF23AA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E5D1A-635F-4C9E-968F-EC1D6151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9D8D2-C072-4ADA-ACFD-CA90EA5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1B326-E4C8-4F92-890B-F7C348F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4D76F-D48D-41F2-8E1A-BAF20807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0375D-999B-4322-9270-D0D0DAE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03140-041D-4BD9-AF24-3C14CD2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BB984-2C4D-4246-9016-C2521D6B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F9D8A-424A-44E1-8F76-7A691F91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4673-9705-420D-BE0F-49E608C5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DD11D-511C-44BD-A369-4169D698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D6CC5-2C76-4FA8-A694-35C29D08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6FACD-EC60-4068-A38C-70D4FA1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5792B-1519-4BBF-AA73-72E05BF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C52F7-676B-42B1-91CD-8BE10437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182827-1CD5-4260-B99A-DD4B30CA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95760-E47F-43BC-B1DF-056D372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5EE72-E389-4291-A087-6D4892E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CACF9-3F60-45C9-8E27-AF53B42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2EDFA-805B-4225-8CAC-EFF3DBB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C7B4-BAD2-425C-AA9C-B297F174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5B995-5111-4BF9-8F68-DBD2A978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92FF2-B4E0-4EDA-94F9-BB7ED29E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2E4AD-535C-44F3-8493-F84513D2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15E5E-9A15-406B-B2AB-9512E450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06A5D-A00E-4AA8-8341-CD140166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B6E53-5498-45A6-A473-CC173DF2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90510-2AC6-41FC-9152-EE0B3782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03D9E-2F72-4C9C-82AE-C818E781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AF370-2C13-422C-A523-EA0C46E8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2A893-B935-4BA3-A5F5-FEC18E4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067-FB62-4C6D-928A-2D4B44B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2B57-06F3-4853-B124-7398F5CC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C8950-96D2-44CF-AC83-7815D96A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F0889-9238-45A1-9371-1C18DA4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F6D15-DE2C-41F5-8084-820948F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02C58-4C02-4765-9871-3C5A7173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8ADCB-1687-48B6-BB68-0015930F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C0D3B-69F2-4B0E-B957-1BCF1C25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FF069-117E-4BA0-909F-8AFD833A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3CF72-6A83-4D9D-B998-66AC66E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87286-1138-4EC6-8723-5F119064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9270B-E695-4F38-99CE-F292F160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2665-57E5-4462-9C0F-31987E0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66CB2-D318-4277-8A1E-6BCA4B90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83D94-0B14-448A-9AE3-FD119BF3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8CD18-5460-499E-9ACA-85431D5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71863-C930-44E4-8540-D9F423A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9B25D-FCDD-4D62-8F0C-BC8BEA2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230C19-4BC3-4858-90D4-081D8C62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2FB67-C619-49CA-A1B6-3BD89ADF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BA59B-85C6-4D0A-83D5-598A25EA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C0B48-AA64-4FE2-8B5A-114281C5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2E964-0D62-4DBC-A0DD-FE65BC6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654-DBDB-4F37-8EAF-542991BA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698D2-0E51-4B96-B8D3-C129597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5BBB0-CD89-4717-A4BB-8A82BE6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E090C8-F901-4E53-9E5B-AEE497D4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CF21F-32D7-43C6-82C0-77AC9B8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29ED1-FE89-4D6B-B41B-61EB66E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6D693-C64A-4C7E-B9B7-6ABD4C3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2ED38-1F10-415F-A127-9D5EF9E9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64D97-258F-4FC8-A2C7-C6FFC8EC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6DB9E-DCF2-420A-82DB-77F8DCF0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58BC4C-68ED-49F1-BEE8-1066A965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4B84-3F5A-4388-B4F1-5F822053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9402F-17D3-4D49-9517-E221E54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6509BD-CF98-4888-BD5B-8B23EE85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6071B-9301-4A50-AE71-19DD2635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16C1F-58C8-49F6-AD5B-47497B9D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1036B9-4FED-4A64-A05F-6DD95F27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EF743-4B8D-4C67-8306-9E399F4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8C58C-3129-4992-A844-BCEE1BA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14949B-16D7-4808-8E4F-8CE53954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1FAB0-6882-44A3-A2ED-544502DE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9BFB2-0483-407F-9D37-8CD99636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4E68-6224-4EAB-A55F-2321612A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BD2EC-D7D6-4C14-8515-B86ECFDD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45D58C-E4BB-4D62-881F-383B95F1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730E6-D219-4546-94F3-88700DB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99BC5-E4E7-43D2-B0CF-CAEC737C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2253E-2B17-450F-AB3B-783B415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4F448-A6D4-4351-8F74-24E86CF9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1DCB0-4B1E-4C6C-B759-6AFE0510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3C055-B9D5-43F6-A350-7BA8125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F4A01-E450-4DE0-B814-C950C7D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F50D3-7980-423D-B68B-E29509DC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767C-2D53-49A3-B9C2-52A0A38B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595A4-1AFF-46A6-A513-2BFD19F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9351A-2072-4654-B68F-BAFC2375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A1CB8F-7F10-465A-B58B-AEB7129D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6B8F-BF73-4594-8273-99A62779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F2CBC-B7CD-4F81-A4A5-A8B7528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1637-94AD-4364-A2E3-006CAAE8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899D-6532-4175-95CB-49AF1B61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5B0-97DE-47C4-ADD9-F9E3BECD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8B00-0A91-4126-AD1C-1BD4378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7579-58B1-416D-8658-4066F1F7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64627-8A42-4158-9547-68DF2E85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177A-1A35-494F-95C3-C02AE6DB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0D64-65C0-4647-963D-8A4B298F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F8B4-B141-4E5D-9614-6A88E785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80B7-053D-416E-9394-B877740A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F624-0B2C-493C-ADBF-DA8FB147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9097-F91B-4045-93F4-AE1EA28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DEA9-2F93-4A89-8C0B-9B4FED5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B8B-96C4-4D0E-A24D-16BC35C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3E15-5646-44A2-B904-9C24534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9075-A641-4AEC-9727-C01D8B1A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3B49-E441-4E09-9475-0322DEB2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93DF-8B1B-4995-A422-29FA6ED7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EE4B-2A3E-4ACC-A39F-3052817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FFB6-A11C-4F23-9BEF-962C0BF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DCBA-FAE6-4A2C-ADCF-58E93571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7B5B-E5CB-4EC1-9206-0C340FD3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CCDA-4763-4389-AF89-CF16364F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9940A-0D56-48E2-99D2-423722E6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2A1-972A-4384-91A2-E09353B9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BE6C-FC94-41ED-9ACB-64F14BE3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7859-726C-4C2F-99A0-7253AF2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04D5F-CEE2-4499-8641-4461F40D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E731-2B19-4B71-B3F4-3AFAB2F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A9FE-D315-4598-A0D8-F30461D1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A211-AD0C-460C-B412-2B8C8048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6B0A6-1905-434A-946F-54F68A5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61B1-9CFA-40AD-9D52-C59C3B68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2E5A7-5A3A-496E-863B-08ADF78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2EDC-CE9B-455D-A07D-6B35DE88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88E-C17C-42C9-A373-6FE3298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BF56-3DD2-4D53-B9B9-4CAFA869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B5B55-28E0-4456-B736-31B159E4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6A9C-0A01-42FB-98A2-EB82E077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1B25-550A-4CC0-B544-4E67919D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2BCF-D063-484E-8F85-A99C8CAB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2318E-3C52-471D-847F-0480F2E2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0A03-D65A-46B7-AD7D-97AA1E70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94FA4-0044-4E40-972B-ADA81D6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894CD-EF26-4BAC-89BE-9CC4029A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810B8-4942-4A9F-B34E-9756F31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AF1-1F11-439A-A1A4-1945EF2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5BCC-E38A-4644-BAA3-45AF569C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BA9F2-DA77-45C8-A1AC-5C2D9075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6B080-4CD9-47AE-A196-6884CD13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C01C2-3EA6-4EE5-BC81-DD3849EE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9126-727E-4A2F-896F-6D90E10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3BCA-2ED0-41DF-B0A1-30D515B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F1C4-54DE-47A1-B3AD-20404FAE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0E4A-4651-4906-908A-851A3B87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9FD66-1F4A-4640-8648-3D334839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A0DF-FE9B-4538-8EE0-880C5F2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3FF-1386-4F3D-8DDD-A5173633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5461D-A2F8-473E-A522-DF72DB1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0F34-6F5D-4786-AC03-0D7F9F1F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DDE68-1B63-4CD2-895D-BB540FE7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AB0AB-F27B-4A9F-A2E2-53088B49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79998-CB17-44F8-A5FC-B5423DA4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29386-E401-489B-AC52-1A8580E6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72B26-1F18-4795-B847-5333CA1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A1BB2-0AE8-462D-A6D6-8A957CC0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4D668-8539-4D74-9346-963EC46E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4D196-B426-4634-8664-89FD54D2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35A-1113-4FCD-8533-1F73591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B6F66-CE7A-4287-BE0E-662B9A43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7F8EA-4142-409F-8C0F-B31C93C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1B88F-0B97-44EB-96C1-3E101B3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31F07-B775-416F-A779-91866C6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62291-5F32-42E1-B5A5-54DC0EA7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A85A-884E-4DB1-92D2-E306030A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7E4FB-5604-4EDD-B22C-08374D4A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3418E-CD8B-46CB-A3EA-24379AE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8EB32-D7BF-431A-8BCC-3930D42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51221-266A-4DBD-9418-A4C05AC9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49F7-4A5C-41DB-A6C3-5D9EDB14F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7CAE-E1DD-4B16-ADB2-6A6D2D00D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ACB-0E38-47A3-861D-358533394B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AF48-930B-4BA4-AFD1-93AFB27A5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4145-BF54-484E-9280-99D20D2215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1E7A-39CC-4653-A7F0-59A465017B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9A2-39AD-481C-972B-ED5C82D49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D87C-C996-426E-87A5-CB8842F5A7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86A2-EA1C-45C8-B9C5-7C6D4E0FA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D635-7A64-4B1F-8702-48573CA143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B11C-2DD5-4A29-ABA8-A14804C09F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DEE-5FB6-466A-9739-E73BEA885E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181-A674-4059-86C1-A20B5579E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8C3B-F2BB-47E3-A7CA-F7E7F15602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D62B-45D9-407A-B777-F99BBA412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F80-3061-4A4F-BA96-C1B268CB92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90C6-E670-4852-B5F3-CC2C634C58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55D4-D1B1-403A-A61F-10367EB58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99B-96A5-4309-9C71-97310F7A2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95B-A51B-4FD2-A8F1-70D12BE170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8DB-0E53-4451-B14E-219EDD636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CBF-594D-4DE3-B020-873406A87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5DAE-2CD3-43CF-80CB-3366B9FBE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6982-ED7E-4316-90F3-8FBF81AE6B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D5AD-9CB8-4764-9976-8B76C5FE8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706-620C-42C1-919A-E263459D83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7FB-E59D-4A5F-BA8F-6EC7BBF3C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A8B8-A842-4EFB-B802-82EDF70DD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91E0-C290-4EA9-A6D5-DF0DBFD03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2CE8-55B9-4A25-AE40-D72AD55369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829-AB50-4ED3-805C-50EDF01AB2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140C-0D5E-4240-9C13-E95FFD432B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E336-8065-41F4-8E3B-5D326B5670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CED-A258-410C-BB6F-A9AF33ACC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7793-52D6-45E7-B633-7E5FEB9BE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028-6134-4CEC-B488-98D7133F4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75D7-FB84-4DCC-9A28-5205A9307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03E-0C06-4E9A-A76C-D5054949B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FA3A-E26B-4D91-8F07-FBD685E420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26E-AABA-4066-9F71-AD1DE15A7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90600" y="2909880"/>
            <a:ext cx="47628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9633" descr=""/>
          <p:cNvPicPr/>
          <p:nvPr/>
        </p:nvPicPr>
        <p:blipFill>
          <a:blip r:embed="rId1"/>
          <a:stretch/>
        </p:blipFill>
        <p:spPr>
          <a:xfrm>
            <a:off x="519120" y="2038320"/>
            <a:ext cx="8105760" cy="2781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611280" y="20318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684360" y="304020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324000" y="4119480"/>
            <a:ext cx="84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228600" y="746280"/>
            <a:ext cx="8686800" cy="6067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755640" y="35877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84360" y="4091040"/>
            <a:ext cx="316836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684360" y="4653000"/>
            <a:ext cx="3168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84360" y="5157720"/>
            <a:ext cx="316836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898560" y="567684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826920" y="618012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7585" descr=""/>
          <p:cNvPicPr/>
          <p:nvPr/>
        </p:nvPicPr>
        <p:blipFill>
          <a:blip r:embed="rId1"/>
          <a:stretch/>
        </p:blipFill>
        <p:spPr>
          <a:xfrm>
            <a:off x="138240" y="1125360"/>
            <a:ext cx="8867520" cy="217188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7586" descr=""/>
          <p:cNvPicPr/>
          <p:nvPr/>
        </p:nvPicPr>
        <p:blipFill>
          <a:blip r:embed="rId2"/>
          <a:stretch/>
        </p:blipFill>
        <p:spPr>
          <a:xfrm>
            <a:off x="871560" y="3514680"/>
            <a:ext cx="7400880" cy="22194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5722920" y="1484280"/>
            <a:ext cx="1009800" cy="493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2556000" y="2378160"/>
            <a:ext cx="792000" cy="493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6"/>
          <a:stretch/>
        </p:blipFill>
        <p:spPr>
          <a:xfrm>
            <a:off x="7740720" y="2349360"/>
            <a:ext cx="79200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7"/>
          <a:stretch/>
        </p:blipFill>
        <p:spPr>
          <a:xfrm>
            <a:off x="1763640" y="3933720"/>
            <a:ext cx="792360" cy="493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8"/>
          <a:stretch/>
        </p:blipFill>
        <p:spPr>
          <a:xfrm>
            <a:off x="5435640" y="3803760"/>
            <a:ext cx="792000" cy="7776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9"/>
          <a:stretch/>
        </p:blipFill>
        <p:spPr>
          <a:xfrm>
            <a:off x="2124000" y="4797360"/>
            <a:ext cx="792360" cy="4939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0"/>
          <a:stretch/>
        </p:blipFill>
        <p:spPr>
          <a:xfrm>
            <a:off x="5867280" y="4883040"/>
            <a:ext cx="79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743040"/>
            <a:ext cx="8696160" cy="5371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331308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627280" y="5589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42880" y="1662120"/>
            <a:ext cx="8058240" cy="3533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6948360" y="170028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340000" y="2852640"/>
            <a:ext cx="576360" cy="1008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5954760" y="28242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6877080" y="4005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2268360" y="46386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19240" y="1314360"/>
            <a:ext cx="8705520" cy="4229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7667640" y="21906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667640" y="27957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667640" y="36590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7667640" y="48117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509760" y="1376280"/>
            <a:ext cx="8124480" cy="4105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84360" y="2895480"/>
            <a:ext cx="324000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240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292720" y="3298680"/>
            <a:ext cx="3240000" cy="993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5435640" y="4508640"/>
            <a:ext cx="32400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876240" y="2009880"/>
            <a:ext cx="7391520" cy="2838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71640" y="3241800"/>
            <a:ext cx="3744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74508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219640" y="3270240"/>
            <a:ext cx="374508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219640" y="3919680"/>
            <a:ext cx="374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547560" y="1252440"/>
            <a:ext cx="8048880" cy="4353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4680000" cy="86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4680000" cy="863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1547640" y="4941720"/>
            <a:ext cx="4680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571680" y="2090880"/>
            <a:ext cx="8001000" cy="26762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71640" y="3141720"/>
            <a:ext cx="568800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568800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900000" y="4278240"/>
            <a:ext cx="5688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62080" y="1109520"/>
            <a:ext cx="861984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0:1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