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0AB-4412-4093-ADDE-84DC075D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6AA-62D5-4FEC-809C-5E00BB5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0EAF5-AA32-4334-A56B-7DEF66A6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7E17-B81C-4C62-B65C-DEB4A50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46DA-1299-4F48-9571-2F4EEE9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56E51-62DC-4D99-A96C-EC4B9D0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6D95-008E-44E1-A2B0-91096AC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F74E2-EB74-4196-89AE-989CDC0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615F-2468-4147-AA8F-D4F4F12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0BA8E-27EA-4884-B8D3-9ED68BD0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A1137-0FF3-4EBF-9B99-5D32CC49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BFDA4-8992-46D3-B124-F1AE7075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9FE-043C-474A-8062-80064A66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814E9-BAE0-49EB-BF72-55870339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6F9C-1659-44E3-9BFD-AEF9B40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7060B-C469-4741-B6A4-FDCF8AB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A0882-5B65-4D9F-A91E-59EF4A8D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8AC3F-311D-4038-AAAB-DB66836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95730-37FF-49B5-ACA6-D7D49A43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6E1FA-1545-4194-8375-DFB17D0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ABA6E-1FD5-4F37-BBA7-68F4138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C49C7-AEDB-4054-9A68-EE98800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F80ED-3434-4B3B-8B87-00639B97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73D-6024-4AEB-B997-C76151A0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17789-FBFF-4FDF-ADF1-CBE58CEA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6C6C5-4552-4D9E-85BE-943A9A3C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70B3E-702A-4104-ABB5-5503826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3D658-F3AF-4A26-BF02-77AFD17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C427-D81C-443B-A45A-4C91AD95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CB30A-BA94-4E6C-BA15-EECF888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8344-9C54-4962-AB18-CCEDECB3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F532-475F-4900-BD45-56B99D9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CCE4D-2096-4328-861A-35DCD1B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FECED-14E0-489E-A92D-5959517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7A2E-FB5F-48B9-B83A-3BCD465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9AD7-5D97-4D1D-B454-75F87A2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EBBE-7D80-4F6B-969E-5E954D1E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F0E1B-F262-4159-9471-56271F52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90B55-68DE-4E9F-B4E9-A97CFC33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F42C3-9052-4FD6-A7E4-C5DC934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37170-F1D3-4C47-AE84-CA723C2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A23AA-85EC-4455-A6F8-1DE633A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A6B83-1036-4B40-8D07-5B21BF9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19978-46DF-4C9D-A604-A3ABC93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CA5AE-F357-4B43-A22C-03DE583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79E-8259-4B76-9702-F31E0D4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52506-8DD0-4FBD-BF99-C569F10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961E5-6C15-4F2C-B3C1-4FD3778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84B9-E7B2-47BF-859D-5675FFBF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BF140-5F3B-4FAB-9AB9-8A696B05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DE3E7-E6F5-45E5-A39C-22F32EA4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AB3F3-B43A-4FDA-A998-45207F0C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B80B6-EE5B-46D9-8364-7CB94B02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4B476-C00D-48AD-A3E7-AA490FB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1D893-A771-4B73-BCEB-ED6DD4C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F97A9-4370-4855-9F10-016F2985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DA3B-7768-456C-984B-B4E1FE4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6A346-7AE2-4D9B-9CFF-9201CD3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1DCE8-E84F-44A5-B280-480049B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CCD5E-CD6A-44D3-92E7-A617229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0824B-6E61-423B-95D2-905F34B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3240C-FA58-4E9E-B71C-4946DFC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796BC-C3CD-45E5-99DE-7E87362D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052C9-D2DF-4D88-B803-C58CDF75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57351-4B28-4184-9A1E-EC4A019B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E2A73-E528-407E-B15A-4723FCCA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B0869-0940-415B-9B21-527676D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863-88A4-4A84-9D00-69509E82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DBE79-1EC1-4633-9F44-AF108C1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9314D-3FEC-4FC1-A6D9-625D612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D05D3-001A-48C5-9594-6CF767D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13173-E1C8-4797-BCD4-3A3CE72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7A5F5-78E0-4147-98C1-DCB11CF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B01C3-682E-44CA-809E-684CCA5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9AFC9-9527-4CD8-A5B7-58859A3C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EAE94-0DE3-42AC-9DC0-BCB8BD34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592A9-B699-4FE1-A8AC-1D6442E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B2C5C-8024-40B4-915D-4ACFBD49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DBE-20A9-4DD9-B65F-3463928D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D496C-8827-4AE7-863D-24A4D064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A1E9F-7870-4BE7-A65D-95E3461A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B54AA-D805-414B-9AD8-2C4FFA4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5D846-1334-4E75-930E-9AF973E7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49F1D-7CC4-437B-9F9B-DE5FC21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1094D-163E-4345-8CE3-212063F8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7C965-2045-4A24-B2D0-6451949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8AC9B-752F-43AA-AA80-D027B1A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DCC74-3C9B-4A3D-9B68-432C400B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0E129-D36B-40EC-8532-12AA7A41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3F9-7F3F-4679-BFF3-5CD8509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B4F53-EEF7-481B-8DA5-1F9CCBA8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35A98-17BB-4145-86F1-11D1374C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95613-0151-4101-82AF-CA6407A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486C2-A958-43E8-8EC3-1BA15B6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AC1B8-CF34-429D-B2A3-D2DAABE6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E48C9-4789-4EFC-980E-34F0D261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6F945-AB8C-4B91-BC24-50EEDDED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E482B-0604-40A3-B933-BB53409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0076D-DA83-480D-846B-74A5FFA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E2586-9EF1-4955-944F-D62038F7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C8E-FEBB-4268-8028-DD398EB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7D592-0563-4548-A711-5863F57C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A0A57-EA82-4D99-B61E-B676CF70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DA822-18F9-4C0F-BF99-BD37D18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78119-9CE1-42C5-8D8F-7252202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7E16B-C2D1-472E-A7DB-29D0DB7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88B25-976F-4221-9B99-3759D45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78B4E-EACE-48E4-BD7C-E7595B22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EF7ED-5EF4-4FC4-B90C-E4CDF97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E6759-B353-46FB-902B-8C42398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52D08-6DF1-412A-935A-3EB06EB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538-F677-4749-8DC2-0B4952F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623-03E7-4B5D-8B13-EB0DF77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08DED-DEAE-417D-BD63-FA89A97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03C95-121A-4DEC-95D9-049D34F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3ACED-FCAF-4734-96F9-47AE8C0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45E4A-1688-4E39-B330-1F13632C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2C310-4610-4C8D-9770-C740515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965C8-399F-42DE-B52D-F2ACCA0C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D4768-5BB7-45D9-A8FD-1C6B941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DBB53-474B-49A4-B720-8247E6F7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63DC5-F337-4521-B9CD-3EAA3DF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951B3-1DEF-484A-89C5-C7CB629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F61-4810-4C23-909F-B81E94E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B1DA9-04A8-42D0-BABE-94A5EB1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B8EF2-97F7-4D9D-A760-F562717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5D7D3-239A-46D5-9BE8-C29B0540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335EB-9BC8-4964-9F65-47877E6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EA8F9-5E83-44BE-BA81-84A25C0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736C6-26B4-4B00-8B96-DEE15DC9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99805-1AB3-41E6-B025-CA2D1F8F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591B9-8F90-455D-A70F-9D7682A6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5FBC2-5BD6-4919-BDAB-01459FE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AB228-73D0-48F5-A8D5-74EF90F1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8E10-2771-4148-8F2E-615790F1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3CF17-9FDA-46D7-9A64-BA17BD0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A5CA9-17F6-4283-94E4-6A6B5B8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1A0DA-EC88-4B73-BB3D-4E6525B9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6CD18-CF8D-43A6-BB6D-221FEC3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FA3D7-5764-446C-9741-FC58A8F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D1150-8842-443B-ABBA-12B2973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7C07A-EADF-4133-AB0A-6164148A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C5E2B-3C19-4328-9F88-7E5FC051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39E98-B182-4C47-BD04-4E0DB354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8DDC4-F5D8-4F6A-8B68-C9BDE15E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A9B-5BF5-41BB-8791-825E156B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805DC-815F-4E56-8CEF-3A5568C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E419F-E523-4772-8F3C-7EFE091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B3258-6DAC-48F0-9EC1-6ABC7FB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24E20-388B-4C65-82CD-6FBB7976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50ADC-C1E1-427A-84D1-8A63DF0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F25FC-1E52-417A-A04F-DE4D63B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A7CD3-5493-4E05-AFBF-3408EBB1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32082-C003-4F1B-86A7-A9BC68C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BBDD7-0AAB-4C18-A0CB-8042D35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75A6E-4F6F-4F8B-A84D-48B1FC7E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0FB-8303-4113-8B67-D907CDE3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3699A-0144-4B48-AC92-9A4185A9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D4684-D630-421A-B514-7716277D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8C4E6-D549-478C-A0A0-BAB0CE9E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03988-B3AF-4172-9433-A8F2BA8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7E297-97A1-4DC3-9B42-8690E7F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74A1A-38CD-4EB7-8BC3-1EB41ED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D4E1E-CB3F-4C16-AF61-52FD6999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2418E3-269F-47F6-905E-13E044C5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D9F90F-AFA6-4F6C-B62B-0C3A350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1EDEA-A35C-413A-B28C-BFF688F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839D-92B6-4309-9B11-AF37EC05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F2761-F4B9-4B4D-9B48-FCF2BB8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2F485-5255-44BC-932A-A9DCFF4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F0F4C-C58D-42AD-8785-24696286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FB486-37C2-489A-9D4E-22C8FA61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D0378-74B6-44B6-A827-2273204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E2299-9202-49AD-8999-62B96456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22B4C-1661-4E8C-86D0-B24E425E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BC286-D4B4-4023-81FB-D0BE75C5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3F8050-61E1-4887-B8D8-E29CB66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036D4-9037-4904-9DEC-0E2DF79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ADAF-AF3D-4B5E-A5A5-70B6DEF2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6AC05-958D-4C37-AE9A-25AACD83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E1C565-BAB1-4221-9D5E-E9EF88B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B8C8E-6CF0-4DF6-B5AF-3C01EFE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18450F-A02E-4FC4-9EA0-84F5973D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6F9E42-99EC-4987-8B93-3C2C31B8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45518-64C8-48D5-B010-57067ED1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0D3DB1-38D5-46DF-9E10-7FDDA53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60CE0-46A9-4C01-9D29-7132029A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62418-149D-4924-B94E-726E848A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94B08-E4D6-4FA1-83EE-8252A0D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2C2C-746C-442D-90ED-C53303D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F5DD8-6FD9-48FE-B2B2-4838BF3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37A62-9274-45CD-ABAF-80761D8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E45759-3AFE-4011-B3C9-EC064A2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4B36C-58B9-40ED-B85C-12D365B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CF060-E0F6-4D12-A3CE-F871D6C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D8BC2-E1D0-47A6-A829-0D41B1A6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94180A-26C6-47E4-9F92-0C7A1D4E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BA51-5D82-40FB-9B24-EB5F8B8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9D8C-5D3A-455D-B489-81299933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85B-94DA-43EB-87C3-AC0785C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2DDD-701F-494C-88C5-6A8C8CE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C3A9-03B2-4486-B7C4-1014D0A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50CA-2A0C-498C-90F3-1DE596B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BB1F-B01D-4AC9-BD94-B5C1F47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EC02-31FA-402A-8E1D-05E18AF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3271-DF48-40D7-9EA0-DFD87159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B4F7-3C13-4421-95FC-6B779508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760C-CE2C-4484-8E80-507CE6B6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5BD4-2999-4E44-9CBC-C7E33BE0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9A0C-409A-47F9-BB57-6A10AF5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53B-3F1A-4566-B88D-3DBC5AF6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6E78-A63B-48A8-8ACB-9FCC18D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9D7E-E426-4772-A1BD-88F2734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CB7F-59E7-4A21-B639-CBE8D9C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A325-5CB3-4D4D-B404-F83AB23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0F03-FBCE-40D2-B42A-03129DA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AEFF0-AFCC-4BFC-A7CC-4D9BAAA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9872-09E7-4BD4-B886-86A1E337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4CF4-21B5-4C20-9763-FDEBE4CB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3F36-47E6-4ECD-97DB-5EB53FB2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C477-0A98-4198-81AD-9CC3F454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CAF-98BF-4FD9-88C5-B3A32177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C138-836A-4FE4-BA3F-E57C158A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B7ACE-2C7E-453B-8966-23EFE10F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845D-D545-4227-8C44-51702A1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D4B8-0D48-44AB-82D1-1FB1D37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E90F-F1DD-4EED-9ADB-08EAC5D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D26D-5271-497D-A7AA-9A6BA97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6462D-19F2-446D-8BFC-468DA6C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E23A-F278-4E0B-89B9-29B1B4D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C9FA-3E1D-4EF7-AFD6-A7FE383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1331-BF04-4D14-B4BE-A40AD432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5F3-DB21-48F5-9F25-97170D0B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6670-C645-46B4-9175-19684E9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D7D3-2439-43EA-BF2D-A87E317A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41B6-D3B3-4AD5-B8AD-1EDC1C5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A390-C7BC-4C6A-A4E4-9B586753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0486A-EF2C-4A2E-9098-9F35D986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F856-4441-44C4-B695-66947CB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1E4D-8CE2-4F6B-9390-743B913B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D618-BE4D-4A49-A6EA-405D5E9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D1EC-E490-4CEF-9ABA-61900A2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254D-FF33-4FE0-972B-FF50929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A49-7219-40D5-A2A1-AD1CB17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3B826-1966-4E7C-BF85-762E0279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5D02-7BB8-40A8-9AEF-5D9F5418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3669-A668-464B-B4FB-A1ED450A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0942-2D7A-4E5B-BC50-7EF3F89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69B54-FAFF-420E-881E-9B9D88D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549F-D2C2-41FC-8C7E-DAC6CDD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6586-2237-42EA-9B6C-9F5B1B7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A2922-373C-4CD7-AA44-28F51590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6C66-E801-4176-AB87-A39E9D9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E0021-BF59-4BD3-89A5-0538F22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F8D-6AC5-4036-A1A1-3C8BCCCF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1FE1A-5576-4D1F-890C-FE489DC4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D6CE-BD64-434A-916F-02FA943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6ED1-05F5-43EC-AD93-1D12B4F9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76CB-286D-4DCC-B639-7D7A189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84EB0-3D9C-407E-B384-7166FABA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619E2-CC51-4A5B-BFC0-9866251E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9BCD-6FA6-4510-8895-8F831E2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43A78-A802-4C67-AA4E-62E1FA3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784A-954F-42D3-9947-E852466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230A5-F221-41E7-AF78-78E4C65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D7F-4826-4C04-B660-7AA872A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0F9FE-BFB6-42B5-85FC-5815087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CF69-D195-421C-A490-8DAC324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5D7F-CFBE-424D-8C30-387067A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BED1-4036-4D8E-BE00-A15E256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D9867-B982-4609-84CC-EBF140F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07D3-049A-46EC-B71A-D59E451F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FD8E7-F04C-4DD5-A325-4467BEC7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2F095-10CA-4D10-8547-73297057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9CF52-634F-423E-8E27-C10C595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8C211-BD78-437D-9ED7-9D20EDF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63AC-218D-4FD0-9F91-A8FC71AD63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E3E-CD08-4509-89F6-A8823B399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9D1F-A4E7-4CF8-AFEA-C382647A7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DEA9-0431-47C0-92CE-886EE347E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27C-731C-422C-836C-00C4E7B8F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0D0-E0F9-4289-8FED-434ED21FC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A27-02B4-4034-BCF9-EBE8E7087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DA4-9696-42D1-BFBB-8A5931EFA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2A0-BCEF-4700-8B64-E3718DA48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E3B2-B7AB-436B-9744-C820EF817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C94-3803-4E08-8171-5181A2BFA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9F1-424C-4E89-8BD9-6BE7E0D61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41D3-2D29-4699-A769-85159880F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F31B-9637-454A-9719-CE3A82F97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A58-3B3B-4368-A478-4922AE3CB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3D24-900A-4E63-99F9-F45764302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6FB-A193-4283-BA72-098DF875E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C75-3C3B-4B59-9828-5438BB16D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773-2A31-4EE4-A914-87337400B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673-5846-4E1D-A8C4-A7AC0B605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5EFC-B2E8-44DC-87CF-E6D19E1C31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618-88F4-452A-A00A-D68E1E8391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2F7-8A02-4D8B-842D-E974F4C3B8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8A7-847E-47BE-B4D8-E63B367F8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5004-58D4-43AA-BCBC-8C3773820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334-A188-4207-9894-F2BFCCA2F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B7B0-2B57-4329-93E6-7829F97F3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78C-18BB-433D-BB58-FB3640CF2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710-F699-4742-843C-FE47A7643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BB2E-F2AD-45AE-9370-7B89468B77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81AA-7B9E-4EC0-9A41-3D8D5CBA1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53F2-D667-49FC-8C3A-8D905705C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D3C-2AEF-41DA-96C0-0AA3734B30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6BD6-EDDB-4A92-87EE-E78D25DD1D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F70-2ABC-49B0-AE51-5B37C0A2E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204-088B-4527-AFBC-ED925E2BA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68A-DC81-49EB-ADD7-2682EF085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4179-C1FC-4C4E-868F-F2994931C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12C-9716-4F28-B90A-A292EA492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C35-890D-4E7C-985B-3E2575DB9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753-9F0D-419F-ACCB-5755093A3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6859-A67F-49AD-82DE-A5C2DEB55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76320" y="2976480"/>
            <a:ext cx="8991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93600" y="1327320"/>
            <a:ext cx="8956800" cy="18255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224000" y="3444840"/>
            <a:ext cx="6696000" cy="2276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34800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0120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1010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59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27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6372360" y="403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6659640" y="46674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181160"/>
            <a:ext cx="874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8480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070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52520" y="750960"/>
            <a:ext cx="8238960" cy="5848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92436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99760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98320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4989600" y="3645000"/>
            <a:ext cx="19587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067280" y="5315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622440" y="92160"/>
            <a:ext cx="8351640" cy="667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183024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0974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4859280" y="183024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4788000" y="2565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1474920" y="485460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1403280" y="63244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5435640" y="481176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5364000" y="55468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5364000" y="628164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66560" y="2247840"/>
            <a:ext cx="8210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538200" y="1362240"/>
            <a:ext cx="8067600" cy="4133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3492360" y="50846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257480" y="1581120"/>
            <a:ext cx="6629400" cy="3695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3635280" y="334152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995640" y="4508640"/>
            <a:ext cx="36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7040" y="601560"/>
            <a:ext cx="8629920" cy="6201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403280" y="305424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2700360" y="3573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2556000" y="5300640"/>
            <a:ext cx="35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1403280" y="584820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627280" y="638172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71440" y="851040"/>
            <a:ext cx="8705880" cy="5895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042920" y="34131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39909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4552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116000" y="508320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116000" y="566100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1042920" y="623736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0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