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0E8-EFB7-44A5-BD70-F063E6E3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1C4-B9E0-4313-96B7-2F3884F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8123A-E88D-45B2-BD2D-80489B1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78DB1-9E56-4229-8F0A-16A3D0B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07C9C-53BD-424E-881D-EB948905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42CC-EBDF-43B7-9E06-EAE6E74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45E1F-E20D-43CD-A980-8C795B4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9CA6-BA2A-46E2-9219-582D8F7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2FC0-DD08-4220-A46F-B2D2614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5C7C8-0EDC-492C-847F-5DD64EB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6C06E-6F11-468B-A4F2-DE053D2D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D197B-1B03-4A4E-B9A2-E46CB013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4FB-391B-4A21-9096-A3D32831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FD02B-672D-4C49-B4FF-3C4407C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22D46-D621-4FCE-A10B-B0A4EC1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3618D-7907-49F2-9283-D4991269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4847D-4469-401F-B090-FBC7B04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1B5F1-BA9B-4A8F-8DB9-D0CC0749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AA41C-92CA-4193-BDF7-17D2DB8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53C9B-73BD-41BF-BD3C-9E8D5C8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F2FFE-83C3-4BD2-9597-7737347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F824D-D144-40FB-9EA9-8337547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CE21D-40CA-4271-BDC9-20E2E66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D13-1132-4FCF-942E-124F9BC8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91101-8AA1-4842-A083-241E4E7C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2627D-CFB0-4F3D-BFBF-BFED3E2D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DDE2-9F18-4AD0-BFDA-7C6979E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6B1F6-C920-41AC-84D3-A5072D1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56103-A780-4C23-A1E5-23E32A3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6A8E-D43B-48C0-95A3-B1C15350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23FC-791A-4286-9119-4A4D5CA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54E19-BEF1-4F61-B514-FA0500B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3FB0F-12B4-4754-95C6-C19AEFF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19DC2-0638-4F3D-9543-94C5FE6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B565-CD86-4172-8324-F904536A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EFC6-11E8-4B39-B722-8ADCDAC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93A23-DE1C-4E0C-80E4-9A494451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ECDC-5AF5-468A-935C-FACB87D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A3CD9-E3C8-4664-BDD0-948C2598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56C8A-B155-45D8-976F-A23417F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CD1A6-5424-4E72-A56B-13AE0564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48938-7411-4C39-9BFD-26DB57A4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1FF48-AD4F-4487-ACAB-E4E0EE8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69C42-44FE-475E-A80F-A55B3153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79864-BFED-4019-8BDD-C8A8866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C810-ED07-4E1B-9C45-94FB9B2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3037F-5695-4884-AFBE-9E2B6D20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25FEA-F022-4F83-826F-1A46BC8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8736C-8287-4459-8B21-78E09A2D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F9070-A9F2-4F85-80A8-DD646A60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0BEBB-A680-4F80-A427-3A345300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E5105-EC3B-4FEF-9765-BE6C8EFE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3DA0B-C8F3-42CB-8605-98FFB3DA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E6774-09AA-4354-9F88-5960A34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2DA81-AB77-445A-8449-57BF04E6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8DB8F-3530-4F50-A332-D8B9440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77FF-E9AC-4860-9F94-0E83A49E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329E0-425D-4424-962E-502EE0CC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DC46F-891A-43EA-9F46-E39375F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89D1B-8FB7-42A9-801D-873A7E6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09585-B6AB-4F4C-89E1-D8EF1E8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C5D67-DF9A-4123-A058-D6A853AE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87CEA-CBA7-4919-B819-2AC19547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B99A2-024D-4A7C-98AB-E745A17D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DFBE3-DEAB-47C6-A360-922FDAA3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25B63-9074-4AF0-BDA8-D01D4FB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DF531-C94B-4C95-8231-8638A96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5C53-2ACB-45B9-B6D4-7BB1548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0C15C-702C-4FCB-BC1E-BC4BF7F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F2DE5-9932-48F9-B238-596BC320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F3B5B-406F-44E4-AD5C-11A5439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95230-F99C-48F4-ADCF-8C745A5B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D5900-3A55-4386-9377-6C6F928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CD3B0-FE51-4D3B-A5D9-536305F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76ACA-7135-4C24-9B50-645C7FF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FDD15-5EEE-412E-AFE0-B19D7218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E2DA7-4404-4AB5-BB2F-14A67A84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F146F-4592-49C1-A634-D390D744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A7EA-6986-4ED0-AE34-B3377599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028B7-1BE5-414D-B8AC-DE7EEE76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84572-51A2-4D2E-958D-D933E6DA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421F4-912B-4EA4-9AB8-92ED0CC3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2F40A-8AF5-467B-80C5-1A63D8C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63761-E4A7-470F-9F27-7D0B02E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66B47-532A-4D6F-9230-84F4A9F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87B4F-A26F-4E2F-8DC6-A42C374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798B7-C20A-4857-897C-083CFC1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2C047-0B96-49F8-83BA-2A0F877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1BDE1-8008-43CC-A3EA-B64181F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F63-AAC9-4686-8433-63375D9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0ACA6-F0B2-4289-A522-BDF329F9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2B13E-1EE6-4763-AB13-0112C83B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808EE-0A7F-46DD-B7DC-8D8B6FC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15EE8-2D4D-4AC8-9D31-B2030E2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C2765-8F90-4878-9169-ECDEBAA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85CBB-5DFA-4AD0-895E-8BCFCB8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DACD8-4D81-4125-8612-8D2C3D4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652A2-3ECC-4275-B318-4B5E54BE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4ECEC-9DFE-4B81-A6B2-2DB8C06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DA079-8B2F-4FEE-B3FE-E6767A9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4AC-0B02-4292-8162-351C6AC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6ECA2-F2D4-4413-92F0-EF167DD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D6600-62F2-4079-915F-55DB20F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D055A-320E-45C6-AE41-84C5A92D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F235C-38F7-458D-8322-6595BE9B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86B34-0B8E-46E9-A16B-8B907894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F0317-18BF-408F-8575-2099F8BE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1240F-A80F-47DA-861B-EF3A8DB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049F6-DCA0-467D-8657-873A652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F1DDB-895E-419C-A2D2-4E9150C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F1D2E-BB9F-442B-A73C-E4A0FE1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428-1927-4100-9703-AC54C2B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775-FEFD-45BE-8192-78761B3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D95E3-B829-4AD4-80A6-DA7BBAA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C04E7-1B4F-4710-BE8D-5B5FB6B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5324B-3377-4E04-B9C5-DC6C00A7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412C6-016A-426F-B37E-00EA5F90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E64DF-96D8-4E30-B1EC-5C6D2C28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802ED-AD6D-4D2D-AA38-B3CC6FD6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DB268-DB60-4DAD-9969-53702CFB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F3CC5-DA55-4FB0-94BB-240D5923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047EC-ADC0-443D-A194-E8A85501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7FD78-019E-46A2-95D8-D6FD53CD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451A-EC11-46EF-BA50-23CBD90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DD9EC-0275-4543-B8B3-19A743C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F8B04-EEAB-4A2C-92C5-678F39B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B98D0-EA2C-4F3A-A74F-720EE002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E840F-0BA5-44CC-93DF-F4E50D3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0B8C8-BD14-4639-A106-1CAECF1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DFF52-EC07-41AC-AA3A-13E83BBA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B2292-91E0-4399-BD6B-9FCF4B1F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F908BD-742D-42AC-BE11-0466066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44D16-EBCD-45EB-9777-788285E2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1C8B7-93AC-4E0C-B3AE-58F69A40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705D-4D42-4809-9EB6-67BB230D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38EC0-5EFC-4183-9332-CB4716AC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B16CC-C4A1-4BC4-95C0-F818A2B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8F2B9-92F3-4139-8BAA-E75A4E4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B1C55-9000-4EEE-ABEC-08E9939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57B70-1E8E-48F5-AAC3-47120B4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6B474-0761-468A-A0E2-C671A4A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7AE79-B948-4D74-B332-A84B2833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ACF16-4276-4233-8112-7720CF72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D3D41-C332-4529-9F90-CBFF8732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FF853-A55C-4418-890F-71B7FDBF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648-F018-47AF-A92C-1EF4DBB7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B87F1-0E44-40D8-86DB-A07653B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19088-8BA9-475E-938E-A0FA7A1F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DF90A-0D7A-4F64-B5D6-E34CC2A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BB932-D66B-4727-B6B2-58660D2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6C861-99BC-48BB-B580-BAA22AB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25EBE-60D1-4FB6-9FEA-D6DA906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261FC-7062-402B-B471-0EE08DC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5AA11-1875-46A5-8740-1D9E4F7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30DE9-CCFE-4D0A-8419-9612617A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366E0-2F6D-47CA-98E1-3FCA540A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05AE-5987-478E-A831-CC4C39CF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25DAD-8883-4646-B4BD-55CE291D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AED10-289F-4D21-B815-2D0B35B0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949D0-D3C2-4E54-B3DF-4575A43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DA9B8-7859-426A-A64B-75042A25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6C266-1981-4C3F-B33B-7112FD4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1ABAB9-72A7-4D04-A348-7832AC9F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92C6D-1B5E-425E-8F91-C9506AA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096E1-3F00-45FC-8B43-5866641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DE9B0-D338-4DD7-B6BA-26F4B20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18C79-2C02-4379-8628-27E479A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0843-C2BF-43F6-973D-2218BAF9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83EAA-2A77-44F6-BFD1-53299DEB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2887D-0B4D-4B6F-A7DF-71BDE30F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5AF18-D702-4DD5-BB6B-08C2707E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8B10-4712-42C4-9A52-BA3C8CF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4F2F-D2F1-406F-BA4A-0D88CDB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C5B3-F720-48E5-A819-1C15FD3A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F442-FC0E-4FA5-A816-12D45351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597-99E1-4444-BFD4-4B2CBBF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CBF6-B19F-41E7-A491-7D91099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20E8-ED8F-4B76-9E90-DDA4D38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9F72-2875-40F7-8503-28A4B09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2037-3807-4AA2-9D53-ED244B88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AAAE-27A0-4933-8C42-A258DC8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CCA0-2404-4F8E-8FFD-814D8BA3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7427-8243-4B86-9C22-83C64D6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A9E1-AD68-4916-8367-96E3E8A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A7E0-C609-4241-88B9-AD484B37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3391-1ED3-4C9D-92FA-B8778F4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B48-1328-4169-8AC0-FE7BBC5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88E3-8DAB-470C-9D0C-5EA30C6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2775-2316-4BD6-BD27-14CBC907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F97A-1968-44F1-B277-E157109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2840-1B29-44D2-B9D9-1D19A32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CC34-CA63-4066-BCEE-672D212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3144-86D8-43EC-BCD5-7D17D8F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86A2-E31F-461E-B501-197B332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97D9-B43D-43CD-AC78-F4C8A75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70BF-8B8F-439A-B556-91BA64F6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0402-5460-41DE-B57C-E21EAE46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A1C-5D75-403E-ADF3-C51E63CB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7F79-A384-47DD-93C7-0081AD7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5647-2D2F-4995-9E25-4103ABF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D5BA-E272-4E76-9AC6-E92F4D0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D99E-2BC2-4B23-944B-20A3C78D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87D4-832A-4869-BE43-EC6BC10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CF30E-95FF-4C0B-9843-7C51612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D8ED-0F0F-40EF-A458-20E39BB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BE5B-610A-41A5-9931-2127DA0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1237-109A-42D5-9254-886FFB83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D98B-BDEF-4110-9113-2C1C5C3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478-C34B-4290-9291-6FA2E07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B413-1D49-403F-8671-38A8E88C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5033-FB4E-4014-B4AF-95D42EF2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850F-01F7-402D-BE9B-9340D628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CF5DE-1583-4C10-B04A-939135A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214C-B28B-494E-8327-519606BC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22B1B-F54D-4D34-A1F0-7F4DEC3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66D1-7098-435D-A4E6-95BFDF3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D666-FC86-48F3-8A70-4B6B834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6946-7331-473B-AC34-31DFCC2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558E8-2E86-4C48-BFCA-4BD3B13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696-0BC2-46DF-ABDD-9AE3505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7D92-4A7D-49A8-8CB1-4F20CA2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C312-41CC-4E29-A005-AF13FE9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3105-BA88-413D-BB8B-CEF43D2B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773A-A15C-4EC0-8C2A-F72418C3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9511-369B-4D08-B2B0-D6A82E3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5AA1-B364-4A49-BC42-694C9213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7D702-A8A4-4D24-BC9C-DE9ED381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48C0-4DCE-4D0D-8BC1-CD5A6BA4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835C-1D36-44CB-A9CC-CD71429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C626-BE13-4C9C-A835-3EA8AA8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595-14CA-4FD9-8096-C0D93AD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A35B-6FCA-4AC5-B9C6-3A1D9F7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6115C-9763-4AB5-A87E-8945D88E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1EA3-3ADF-4353-B6E2-4F2585DE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7B55-4FD9-4302-AA64-AFC52333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7DF8-78EF-4649-B58A-87788F72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D18D-5366-49BF-A9E2-9ACE9F86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3942-7457-426C-A7E7-82D8A3A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3922-9C54-4E9E-B004-211A5E5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3628-8FFF-4B3C-B055-9E93252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6FAB-1B27-4AA5-B791-DD8F4ED2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579-64D9-4533-BDF7-5884444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C828-F3DC-46FC-959B-362E77C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6F6F-B311-4596-A791-59376B2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2C85-7E99-4997-8ADE-19E70F2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ACE8-97A5-4689-B70F-3C17E16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09F2-C4C9-4366-AF10-C5B93C1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966B-5FC7-484D-979E-6AA02BEB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14A9-073D-4703-B8FC-D57EE36F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142EC-0C81-48AE-9A77-582DA138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371FB-B307-4EAD-BABD-9A71A3F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5D13E-8601-4E4C-B4C6-01463F8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81B-D3B1-4AA5-93F7-EE27D445B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F16E-7EC7-4776-9F4C-E79F14206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4CDC-A1E8-4DA8-88B3-488DF232F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E02-736B-4BA5-9BD3-AFA8B39EF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3BD5-39EF-4BB9-A9B9-18F49A15AF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FFC5-71E6-4897-9794-E97A1C4EB5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AABA-F4BB-4D24-B6A5-CADFA44FD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CE6C-62BF-42F9-9C37-CCCCEBF3CF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6FE-D055-426C-8071-DBE459255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F54-491F-475C-AC3E-AC28624B0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080-B285-4BBB-BC57-C1CAEFEC24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8E0-5AD0-4938-8220-C3263ADA89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ED6-5823-41D5-A2CF-0F67EFA91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5EB3-50F8-46A9-8B5D-729F3B36D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315-1A3F-4404-B7F3-10BFC79E0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FF7-EAE7-4286-A729-C6B8AF0C7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E6D8-A684-4E2D-90D6-B173B5D4B8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E1AA-690E-46A2-BE65-DE57AF520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4E3-01CC-4266-8011-2CE751039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C0B-B552-4C5A-B03C-A7E22619C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B49-B0C8-4511-829D-7BD2F397C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1113-71A5-4927-8C76-B138AC64C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EE0D-D998-4AC0-873E-73FD9B7C8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F32-8F3B-4742-9A2A-8DCD840C3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6C82-9030-4427-BBB2-48183447B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09B-9092-4AB6-B50F-5C4EC3B16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65A6-0CF2-48CA-9832-B61FD2CA7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2D5-773C-4233-89DD-0C36B24C3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2FC5-2081-4C94-AF48-85DA6E69B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5C5-6EA7-45A3-BD67-400EE318D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004-BE83-4F11-AE06-481A54D22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463-4FE0-410C-9E03-2A519FCBD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F08-177C-474B-B43A-39EA96FD8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B8C-EFF6-44F3-A056-11D97D9C3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1CC-7F21-4B90-8382-6B898417A0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79E7-CBD1-41DF-AC8F-3C56F9800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0ADF-0AC3-4FD3-8E90-A06F70E4E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D908-EEB0-4678-A689-27E309F68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6E9-5D9C-4EAB-9E23-DB618661E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822-D2ED-4C76-B6EB-FC2857655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86120" y="2995560"/>
            <a:ext cx="5171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66760" y="828720"/>
            <a:ext cx="8610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8609" descr=""/>
          <p:cNvPicPr/>
          <p:nvPr/>
        </p:nvPicPr>
        <p:blipFill>
          <a:blip r:embed="rId1"/>
          <a:stretch/>
        </p:blipFill>
        <p:spPr>
          <a:xfrm>
            <a:off x="933480" y="1514520"/>
            <a:ext cx="7277040" cy="382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116000" y="1542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044720" y="2060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1042920" y="2550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3068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898560" y="370368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826920" y="422100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755640" y="4724280"/>
            <a:ext cx="80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797040"/>
            <a:ext cx="85536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00120" y="1162080"/>
            <a:ext cx="7943760" cy="4533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788000" y="12114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403280" y="247824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492360" y="314172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164360" y="314172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156360" y="375912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332000" y="5084640"/>
            <a:ext cx="619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633240" y="2152800"/>
            <a:ext cx="7877520" cy="2552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140360" y="2147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2795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1258920" y="3471840"/>
            <a:ext cx="50418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140360" y="41497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572320" cy="5209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042920" y="5530680"/>
            <a:ext cx="684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638280" y="1405080"/>
            <a:ext cx="7867440" cy="40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2751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042920" y="475452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332000" y="367344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260360" y="4753080"/>
            <a:ext cx="6336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042920" y="584820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8010720" cy="274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1160" y="1519200"/>
            <a:ext cx="8581680" cy="3819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755640" y="3241800"/>
            <a:ext cx="6480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4321080"/>
            <a:ext cx="6480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1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