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77A-52A1-4CFC-9425-7315A8F3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EFF-7951-452E-8688-8FFC14E7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609B4-4654-4EC3-8AAA-5B79FC25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BC52B-9998-434E-ADC7-4098D468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5F142-E384-4768-9E9B-975107CD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5FA19-37E7-49AF-8E23-AEDD6148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D0221-B9FC-4C12-8ECB-696780F9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65B4E-1A99-4BEB-8C61-BB25FCC1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30A83-B1B7-4BED-BBDF-F7D1FF8B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256A1-1E16-47C1-A2FC-1E81D5A9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A29D4-B206-4E2B-B8CC-7281F061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13361-5F6F-497F-8E37-062E4B8F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E6A-7442-4227-B4AD-283C10FD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14D1B-E552-4019-AABC-7F16F793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28A57-A35B-456A-90FB-7FFC5EAF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6F371-2420-4392-AB5D-9495C38D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1D1C9-9BFC-4865-93BF-D37C3E61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55876-9621-4FB6-B8AE-DC0D0B18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B8659-352D-4601-A79D-64A30534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F6DF8-692C-48A2-AB28-40B5E016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73223-E9A7-4224-86F4-102FC2BF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9D64B-520B-443B-A1E9-BC79FE1A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7ED9D-511E-40F1-9C22-AF6E25A8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611-665D-47C3-8FD7-4FA5909C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8DAA2-9B6B-4E12-987C-4A555E16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E3A71-4231-47D2-BC5B-9A9D62BF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9916D-7322-42ED-AF42-C063CF38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883C2-B72A-47CF-8184-1A5B6250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9F56D-327D-4316-8A45-C3FDF48F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A5B2F-ADDF-4B05-B81E-4AB114D7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77677-4B43-456B-B518-69865F67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1B9E3-1613-4420-B167-11C9D41A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5DCEC-AE53-494B-AA2F-C5A9DE23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92EA2-8CC6-4931-9031-471C4BC8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EB3A-3B0C-48F4-998D-22A11E75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3D4D5-0D66-4022-9A4F-B2345F4A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4B8F4-7FEB-4210-AB68-033E41FE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F5CBE-2583-47C8-97BB-C7E7A305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0F317-3D41-4366-91AC-6AE0EABB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FDE2C-FC90-4F92-81F4-EA01EAFC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5012D-1C1E-4045-AFD8-F7C0A83F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11F57-9E5E-4834-93C9-AB1A7D2D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569A3-4D6F-417D-AA98-6288797B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3DBC5-6E0F-456E-9D63-49E6C71D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C574F-297A-4324-977F-B307CB68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9717-09C1-4772-9FFA-ADC6ED40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FD410-943E-4729-BD9E-9DB65A05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0214F-66D2-4654-A85B-2BAD6160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E2507-A882-4858-BA24-FC51B53D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C0B83-6DEF-4719-B57A-E05447AF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39E2D-D446-4EAD-BADE-05776782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88643-376C-46AF-8BCF-6869C4BF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D4CD6-4E51-4EA7-9B37-E59D9D09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0D967C-B6F4-499A-9571-774269EE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82030A-4B11-404C-8F3B-2A12DC35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95238-D00E-483C-854A-746E06F7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AC40-9C2A-4647-821E-AAFA657E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A45677-B9EA-4E66-AD67-A4F572B3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5A52A3-ECE7-4E69-BB04-F1C0DACD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B5881-1A76-4CAA-9F77-9CC76D13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3C30C-0950-4746-B5F6-4FA3224A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3FCBA7-7BD5-4F6A-9CD0-7C5BB425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5D0B1F-933F-40E7-B441-748BA661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D875A-C57C-4AEA-817D-1EDAD3DF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0C4884-1BB3-49B4-82B9-C7484C82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3E9A71-C7E3-493A-96D0-2BC3BCE7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88F7BB-8D23-4243-95DA-521CB3EC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25B9-A3FF-4303-B96C-B82DA128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97F967-1490-461A-9724-77698A1F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B6A1AA-BD3B-4F93-9EB5-D1F5C0D1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A01661-82E1-40C9-ADE7-12631E5B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8826C-7D5D-42FE-979A-F19E711E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245085-A648-44AF-B8EF-4ED019CD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33069A-38E5-46A0-9465-25DF7F90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222575-521F-4153-BD9D-2F5168E0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72E44C-E5CA-40DB-949C-F4272A21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3981C6-5321-4E5B-8D50-A73F922F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9079FA-AB83-406F-BEB2-BB759A94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CFF4-C0C2-4BFC-AF30-0A87AD84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AB5EE7-F28D-4F23-B0A4-D271972A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3FAB36-7CCA-4E18-9A5A-7E53B5B6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D95042-0FE8-4ADB-BE18-06651146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C953BF-B92C-4904-A72A-F8E36281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A0552-19E9-41C2-A062-346CB9B5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93E9F5-E123-4A2B-A8DD-3DF95CCC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19B762-0E39-469C-89F6-8D1AF325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F318FA-C90F-41BC-8329-276CBEAE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961F09-BBAA-41ED-8C4D-3E07D2E3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B8F1B5-38D7-4C6F-849D-5059201E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BA44-2EDE-4DB2-BCC5-1B0C62DD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574B27-B7FF-4A74-A38F-27DAD3FA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FBB2DE-14D9-4B0D-B171-AFC43B76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69BA30-24F6-426A-BE9F-B50E749D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B5AD0-87CE-4095-84D0-944BEFE1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ADAD20-907E-4182-A5B7-02A80AE1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5C7E1C-1316-4FAD-B36E-6D682AC7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567B20-4507-4736-A4C7-8C661064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EFA96B-FD35-49A3-8119-86247BAB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9F9C3B-7A42-4B5D-9FAB-F32B05B3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2109E5-2D12-47FC-8B33-36DF2375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5BDF-9040-44C4-9113-268496E5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1163C1-6DDB-4DC4-ADF1-60117050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703439-462A-4D3E-AA4C-1BA1C42F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7103F2-A591-4D3F-B220-50E72B55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4E8088-C8BD-46C8-A756-A951811E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6E8D1D-5A77-46CA-B371-89199F06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D7F0CE-9845-4D70-89C5-C2247DE8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07C8CB-D3FA-4B94-9C07-1B0BFC78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18B5C9-4FC3-4DA2-A845-A9630913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083A51-7EFA-4701-AA47-FA84C50C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D88F79-51E9-4612-BCF5-16DECBCB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3B0-3D96-4BE8-9040-54A6B3C6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4ACA-3CDA-4867-B316-B8F7FE3E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2BA8D0-BD1D-4626-B817-7361DEE3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C4D109-73E6-4270-9FD6-8D84A611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6E0D4F-4967-47A0-B979-714A41AD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F3218F-3982-444C-B779-33B034DF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B999A3-041B-4E46-9B5B-2E02FD6D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1FBAB5-BE27-4E8C-B183-B796C0D6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71FAAB-42A0-44B3-860A-0A13C09F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EC078D-AC7A-42F8-A961-4FAE5B70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4B0976-3484-4884-A913-5820D247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40D501-E128-4F0C-8A91-B0DDB94E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B0C3-B60A-41A0-9478-9F867CB8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0F091F-080F-4960-8A99-42E26BC8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D5A627-9AF2-4EB0-BAC5-CC09E324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9EC2AD-2D54-4EC2-8070-5F41BFB8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FECCC1-1B59-4BDB-9BC0-9309E8E9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3B1D25-4A29-4985-BE92-F3909A29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05AACF-3336-460C-BF53-D4B4E8E2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43D9CA-8641-4E6E-9263-E023EB62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B7AC1D-4C5B-42C6-8BD2-86A67CB0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007F5E-AFD2-42C2-A60F-D4E37B43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10EB6B-2DA6-4574-90E0-CB3D7859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5C71-A88E-48CB-B31F-9E5307DC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9C3B9C-8505-4509-AD27-1D391618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FF11E6-D0D8-4F81-8A4A-8E286712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723E36-4B23-4300-93AC-121275FF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303997-B211-4203-8D3C-21F2C41D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C5FE7E-C0F7-4FDC-9C37-FA591FF3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97DC98-106B-43F5-A4E2-879645F3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E7B1F2-1DFF-4BE5-B6CD-610A375A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42902D-3891-41EF-8B3B-3CA6E604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5F5803-6BEC-4561-BB6C-3D89D779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42FF2A-3309-49ED-8802-684551C9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BC67-8516-4BC2-BCA0-D11B92C3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9206A0-8C57-4F47-A3E1-101FD061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0D459B-D4FB-4292-AA9B-4A589A61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1137E9-695D-4735-B603-629CF7C6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4DE4F1-EA3B-4626-96D2-077520F5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153156-DAC0-4B53-8593-E7FD0490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F87A6B-6515-49C0-8F38-D23F0D76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ECDF55-4891-4149-8675-08BFBDDB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B9D264-9DC8-47C8-8277-B944F253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40CC9C-4A2D-4C04-9192-43C821F4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E39050-4310-43B4-A8D8-DBD8950E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00BF-F406-463C-B381-A582C3F2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F036C2-19A4-4BB3-93F0-5D901806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C74C3C-5DE5-4292-ABFF-9BABA131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B8E6EF-FA95-4BAB-AA9B-7AAAFA3B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BC64D7-5E97-47E7-9FD7-C5C128F0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B60FA3-F3BD-4080-B3C6-E44D2CB0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E5A7AB-39CF-4154-B045-3F725EC1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8B4A3E-A51D-43C5-9417-7BF4742E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EBDF11-190F-419B-B8CE-2F49E706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87D600-5C40-4822-B4E4-8C7E42FD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B471B5-4302-4E95-86F2-313FB99F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7E7A1-8BDC-4942-9389-17D566ED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3CC8AD-EE28-460D-BA81-5009E090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46CB0E-DCD8-4A99-A954-B86121AE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E5B4B8-ED08-4EBB-B641-34D1029C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E9EEDB-7E92-4B48-A91F-89367C15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65401E-6032-464A-AD44-A37520A7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D2E7CE-4015-4B64-B961-EA7C88C7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2DE66F-9D9E-4793-9206-B137B058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2D1DEB-00B5-407C-9617-ACA837FC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2A9892-6E60-40EC-A9A8-EF54C80B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537920-961C-4D42-8823-EA58885F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F2B2D-9CC9-4445-A16B-DE6681D3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5E1A4E-E842-4536-B3F7-EE58D6F0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35C23C-49DB-44C6-8E8D-CDD652A9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3E2B74-CB1E-4499-B767-D55B2C81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0A8C7E-D288-4020-8014-A7C62E6C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9C869E-ABB4-4DA1-AC41-4A23ABCB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9D889A-992A-44D4-823D-4909D3A5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BAD5E9-8AA7-4674-893C-34B6C90B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E8DF35-3B71-48F4-9CD4-8F055EEF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E3A3B8-47CC-4903-B734-DBF36F18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7F33CF-8632-4896-8E05-15289C91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73B32-C5FB-4B05-A3BB-47C3DF4D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740856-A06F-4AA6-849C-369F9CD4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3B26DC-D8A9-4E4E-9B78-2A895728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C90AE9-732F-4BA1-80D1-9B039A8E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29EF7B-BB3F-455C-80CA-5FCBA805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DC8820-EB3F-43EA-B86C-DE77CD70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B8DE36-2B89-4BE8-AEBB-0A1D11AE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8481AB-5375-4A51-9FE6-56493B6A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C9AB2-2E96-4084-9F6B-F6E16FDE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F0044-584B-418C-90B5-50288934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009E-B6BB-461C-9F04-A6802B9F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04F1E-B139-4B0C-B5D3-719A649A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A9607-9C77-4FDF-8F0D-1A5A89C6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8EF06-A7A4-4FBF-8D7E-1D5BC4EB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4D29B-D8B9-4792-B54E-C0E468AB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D1387-51A1-41A7-B7CE-2333D358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C8711-6436-46CB-ABD5-29B56B5E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73701-2F46-4E8B-AE6D-4BBF8833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2FA7B-A0A5-4CE5-BCF7-64DE13C3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C9146-7528-4C1E-8090-F5603AAE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260DE-4C81-4918-BA43-83B9B276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D73-4CD5-4C72-BDBF-2D3F3F7E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F1612-127D-44F9-8280-BE480520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63991-F57D-4529-935C-0F94C80F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1A3F3-DBED-4801-85E9-9E2597A7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79937-ADFF-4F8D-8134-0C3CE317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595C7-C54E-4FFE-8750-029F7245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05D75-C667-4C3C-A891-E9392000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C9334-00ED-4978-A6F7-26D353EF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13E19-9D56-4276-B3C0-09ADDF41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7DA55-C374-4F6F-900B-166981E6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BEDE5-B894-42EF-B380-693BF715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9667-064A-4E50-A330-2D1A0ED1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39CB3-33C6-42F1-9D0C-6AFE4A8D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EDC3A-66E1-4C9E-B095-1A0E6919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0E8FC-2062-4E1F-9BBD-2A813C9A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54970-B921-48C1-AF4B-1254560B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BFAB0-B4EF-4824-A63F-12A10FDF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4651D-2B72-4FB1-9950-437ABD56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A5C2F-E0E0-43FF-BC0E-BB6B6F65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0A75E-9619-4498-86C2-2C1374B1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8133D-F793-4A68-8035-5E4BB5C6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1DCD5-89C5-4EEB-BCD2-89C189FA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9926-BB9A-4320-856E-90CF7BE6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67F32-DC77-4868-9CB7-986856FE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7D9F0-1D80-4A47-B841-B859CBFD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01A44-8DDE-405E-8212-8F08C74B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4BBEC-DFE4-4ED0-B8FF-6071982B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6978F-CD70-436D-A3E2-CE22AB74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E5AC8-B889-4899-9B91-EFDA6CE1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68C9C-3580-4F8F-931F-4F34E72A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E3A60-9F30-4635-ACCC-F14CFEB4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22EDD-FDC0-4B9E-8914-89DB836D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D2982-057A-4053-A3E0-B11AECFC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6BE2-A40B-4170-9D88-29DD88C1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819FD-41CE-4826-92F0-673D07E3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D0CE4-C628-43CA-896C-5F1F2AAC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524A7-E684-4FA3-9008-DD86A083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E42B6-B93F-4244-AA9D-F15372D3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2AFFB-3DB7-4C49-9059-633B0990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AA4CE-A429-421F-94DD-E83AAAAA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362A7-1DE4-49D0-9C66-3252CE55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82141-48C2-41C3-B59F-F5F4C013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E785D-3C44-44AF-B411-A4D033C0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653BC-EE12-4E2B-9947-255C79B5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B721-8EC6-4B5B-B732-E3EC0D20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B0F52-A581-4691-92C4-DEBBEEA1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6CD41-BFFE-4A43-8635-758BB0F8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E57AA-343B-43B3-897F-D53A2FCC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B6B80-2BB1-47E4-9DDF-0F651A76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ABFFC-00A9-4381-8A15-E78E9EB4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79937-B766-42CE-A9E1-C3D8D3C1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1A398-28E4-4E36-A76D-7316E428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C4135-E42B-4271-ABC8-790E97A4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74236-2AB4-40EB-A539-89C79B0D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3C04C-B548-4DAD-9C5E-454F34CF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31FA-B29E-4635-B091-4B76DC00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35D98-AEF8-4BF3-A9EA-F1941E7F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C5E1D-99EB-4ADB-8A40-9786E9B8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F856B-D76A-4A53-878A-5778A976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F41E7-3046-49EF-971C-BA842CD2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AB2B7-A700-4034-AE9A-C822B7D0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71B20-22EF-47A0-884D-ADEB7DB6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825C4-20BB-4B68-9C5B-68A99833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DA668-011C-473C-83D9-88C03F57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BF075-D336-4F72-B31F-7B91365A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417C1-515A-4A3B-95ED-50DEEEA7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74DC-C73D-4E0C-A184-0B435AB86C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E8ED-33D2-4ECE-9F56-D9BDCA8C4F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7A7F-5CCB-4443-A580-4194689354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86F7-1539-4CFB-804A-815365A0B9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C708-C390-40E5-A2F8-2289824068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2AA2-733A-499B-A5F7-B3F2E786AF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3E9E-AC3E-4060-A6E5-C0B1A6A737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A150-F480-4DC0-AAB6-0D7AE2EF98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3A51-B6BA-47F7-A788-15D265DFA1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2D2E-2AA6-43BD-A720-F95B72946D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451A-E6B2-48F4-9827-F38A3AE484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E3C6-13CD-4FEE-A48A-0E4C85119B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9F47-0ECF-47E8-B551-7AA1FEB363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A5F6-8A2A-4A0F-9194-EB127FD79D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287E-7E08-4CD9-9A01-26BF1828E4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455E-9710-4247-A1C9-7F89064114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6807-096E-44CA-8D11-98B1ECF8F6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44F5-1F6A-4D9A-891F-3B26E00BF9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9CEC-F406-4D23-B83F-CA1D108AB1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A298-A8EE-483A-A7A7-378C76F42B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C0E4-9169-49C4-9155-AEC518BE3D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DECE-7080-47C8-B7F6-15287708B6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90BC-5B9A-41DF-A48F-F6F550CF56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52B0-4879-4851-B759-641C338E4E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AC74-5427-4D30-B6EF-326DE70D11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58F4-F4C6-437B-A4D4-45364AE9B0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26CE-FE9E-4870-A77B-B8654B018B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EDC5-1ACA-46E5-88A3-539DB5E92F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E565-150F-4E8A-B66E-12658B29A5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4892-9995-4AEA-906D-0BF0D74BE4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313E-3F77-4E98-B10D-9D4C5F4250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A218-9D6E-4B77-9886-85CBB034FB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9DD6-6FE1-4728-A515-5AE0325FA2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65C0-559D-46D9-AE5E-027A0E0B8B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3EFE-2DB1-4D81-8CC1-1AE800FB8A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A1AA-C908-4C3D-AE60-E93DB5ACC4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BDA4-4792-465C-9322-221DCAFEF4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3329-3336-4DA8-9AFB-680D65BCAA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76C7-9CDB-48A9-8358-03CBDA4DF4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AAC9-5296-40C0-8C9B-01FFDD07CD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63FE-4D38-4A97-B7C4-77463A9BDC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D28B-1313-4C75-AABC-AC6B5CAB40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38160" y="2967120"/>
            <a:ext cx="906768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595440" y="909720"/>
            <a:ext cx="7953120" cy="218124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2" descr=""/>
          <p:cNvPicPr/>
          <p:nvPr/>
        </p:nvPicPr>
        <p:blipFill>
          <a:blip r:embed="rId2"/>
          <a:stretch/>
        </p:blipFill>
        <p:spPr>
          <a:xfrm>
            <a:off x="184320" y="3276720"/>
            <a:ext cx="8775360" cy="20415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4154400" y="1484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4614840" y="2133720"/>
            <a:ext cx="67788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7451640" y="1469880"/>
            <a:ext cx="86544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7351560" y="2133720"/>
            <a:ext cx="86544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7"/>
          <a:stretch/>
        </p:blipFill>
        <p:spPr>
          <a:xfrm>
            <a:off x="1979640" y="3789360"/>
            <a:ext cx="57636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8"/>
          <a:stretch/>
        </p:blipFill>
        <p:spPr>
          <a:xfrm>
            <a:off x="1692360" y="4437000"/>
            <a:ext cx="57600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9"/>
          <a:stretch/>
        </p:blipFill>
        <p:spPr>
          <a:xfrm>
            <a:off x="4716360" y="378936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10"/>
          <a:stretch/>
        </p:blipFill>
        <p:spPr>
          <a:xfrm>
            <a:off x="4500720" y="4422600"/>
            <a:ext cx="57600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1"/>
          <a:stretch/>
        </p:blipFill>
        <p:spPr>
          <a:xfrm>
            <a:off x="7740720" y="378936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12"/>
          <a:stretch/>
        </p:blipFill>
        <p:spPr>
          <a:xfrm>
            <a:off x="7494480" y="4365720"/>
            <a:ext cx="57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95120" y="123840"/>
            <a:ext cx="8753760" cy="66103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7308720" y="28814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7451640" y="4581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7308720" y="623736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1" descr=""/>
          <p:cNvPicPr/>
          <p:nvPr/>
        </p:nvPicPr>
        <p:blipFill>
          <a:blip r:embed="rId1"/>
          <a:stretch/>
        </p:blipFill>
        <p:spPr>
          <a:xfrm>
            <a:off x="243000" y="1352520"/>
            <a:ext cx="8658000" cy="4152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900000" y="413388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3"/>
          <a:stretch/>
        </p:blipFill>
        <p:spPr>
          <a:xfrm>
            <a:off x="971640" y="4897440"/>
            <a:ext cx="756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276120" y="1809720"/>
            <a:ext cx="8591760" cy="32385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900000" y="3789360"/>
            <a:ext cx="568800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1042920" y="4581360"/>
            <a:ext cx="568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219240" y="1523880"/>
            <a:ext cx="8705520" cy="38102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971640" y="348624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900000" y="4336920"/>
            <a:ext cx="576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185760" y="1495440"/>
            <a:ext cx="8772480" cy="38671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900000" y="3860640"/>
            <a:ext cx="410364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971640" y="4508640"/>
            <a:ext cx="4103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204840" y="281160"/>
            <a:ext cx="8734320" cy="62956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50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826920" y="5373720"/>
            <a:ext cx="504036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611280" y="6093000"/>
            <a:ext cx="5040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219240" y="1166760"/>
            <a:ext cx="8705520" cy="4524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971640" y="3544920"/>
            <a:ext cx="511308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971640" y="4221000"/>
            <a:ext cx="51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4"/>
          <a:stretch/>
        </p:blipFill>
        <p:spPr>
          <a:xfrm>
            <a:off x="1042920" y="4883040"/>
            <a:ext cx="5113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190440" y="833400"/>
            <a:ext cx="8763120" cy="51912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900000" y="314172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900000" y="3817800"/>
            <a:ext cx="525636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826920" y="450864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826920" y="5172120"/>
            <a:ext cx="741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5:5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