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138-34DF-4466-89D3-2388F453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C3B-462E-4E98-876D-4E7C4BC2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0F7EC-3133-42FC-AAD8-8EAE12C0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A97C0-A4D9-4D7F-A8D4-EDA10CDB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F9140-E4AB-446A-9FCA-6C77555D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95935-C8C7-4024-93D8-166A18C7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8C055-8A3B-4451-AE46-B8C98A72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93EBC-CEEC-4361-B79E-CCE9EE2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3D8AF-4B80-4A16-940D-95291260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ED8B9-612F-4A0B-AD4D-BD9E2375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CBC5A-A252-4E08-8C17-D906CE7B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30865-8BA6-4C2A-BE3F-D47E911D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055-BE9B-4258-8530-F9CD7AB7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D0CFF-A8D7-4C0E-BB7F-DD8FFD9F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E44D4-B173-4D41-A53B-C2F7093E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7634D-6134-4F73-8042-A83DA931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0515D-F4C9-428E-9268-720EBAD2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A1A2B-B1D2-4D46-856C-ED00C066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EBF61-7BAD-48A8-BEF8-CD371127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B2952-6E0B-4FA9-9116-17406017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32931-DC80-41D3-AAD6-1D7F6A8F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A20EB-D88C-4595-915F-4585E3CF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E4B25-33C4-4FE6-A1B0-0005A8A6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238-CD81-451A-8B17-2E84C2A5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F2F30-B6BB-478E-BCD0-55A96AEE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71622-7088-48B6-8ACA-6BD476DD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AAE00-4E44-417F-956E-82FA464A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04293-AFEE-4686-854B-28939C99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06130-A246-4535-981D-19CF8D29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6FE9B-B04B-483F-9CDC-E371CB84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DEBF4-5CE6-4E4D-91CC-ABA92565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3A9DE-2533-45CE-A037-840E0223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4817B-D544-4DA9-8E0B-09A35755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0BC84-9DA7-4E39-94B4-8FF1A4D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C111-4763-4534-980E-9D48E886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48AF4-957B-4378-95FE-86B1C59F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B0447-B19E-42A3-A551-7AB1A939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D3C21-1078-4D70-9DE2-9CCC0269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34B8A-1434-43DB-B192-F7E98AAA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73B68-1CFF-4575-887C-226FDD15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DF497-ACA9-44F8-B361-A3C82948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B87EE-004C-4C4C-8E41-91D445F2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1D993-4E43-4FFA-A002-B6AF4609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4A6B5-284A-4234-B0D7-D054EDD0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BEB7A-936E-44D0-8173-5FEB611E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CFA7-7776-4D3E-BA7E-FC8DD807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A737A-984D-41B1-87D7-EF1B8EF8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A5354-D953-4E9B-AC44-77963FB1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5C666-F288-4BFD-B99A-9DB63C97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EE053-92B3-4C70-B743-D09F91CA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73178-1C61-4A9E-9087-9B76C48B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F5583-646B-4340-849A-5EADB5D7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513BA-BF04-4118-AFF6-749A6490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8002C-1928-439D-AB40-D24B1015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BAECE-1CA8-4D0A-AD5E-D46DBB52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67297-7BAB-4502-BCFC-4C2F2034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263E-1F3C-46B1-B43C-7E34560A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BFBED-2DD3-4F28-8218-DAF57A3B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907FA-5255-4C6B-B0F1-A6135BAB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2DADA-55AC-4DED-A442-6423569E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44CE8-1D3C-41DF-8DEE-954CAC73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3BC67-5593-40BB-AC24-9ACF4A8E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C4F0F-1854-4F00-B8D0-D3776B3A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C7A49-BBB1-4687-B0F4-DDD76806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30B78-1FC9-4939-839A-E23BEB0B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AFCEE-99DE-4E2C-984E-BD1EEA47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486FE-71B6-4622-B608-573BEFCE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B83B-BA6D-48CD-992E-435B4E82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283FB-8547-4199-922C-C410E37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142C7-CDBE-4FC8-B07A-74047B5D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A846D-B8B4-4364-B926-C97AAAA6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5C83F-A793-4B29-8037-8A565C6B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F198E-8E82-4882-8294-28FC0710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2C832-EA7C-4D81-B77D-0EAF593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B84FC-1683-4CD6-AF7D-38780C0C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6AE78-F779-402D-B0C3-5F75FAC7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5F840-0DAF-40BD-A893-D947FE7C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CBD5B-C25A-4771-AB58-C55ABA34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9968-3CF1-49FD-BA71-E496A305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02007-0AEF-42B8-BFB2-004EDD40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CCD2F-E511-4A91-8811-A2E12C0F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0E1D68-B8E8-4A9E-BCB1-96BB846D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B2E6C3-ECCF-4F52-A76E-F12F401E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2CB40-1122-4A71-B661-FCAEEDF0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8A44F-EF0D-477E-AF53-61B20496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F782AA-5775-441D-B5FC-03FB32D1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23CAE-3835-4082-AA8E-AB58AA8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8D85F-30B8-44A8-BD04-A7C8317B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7382C4-7E5F-46B0-AE1C-AB27C1D9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90F7-5C9B-4383-9420-0417AE0F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864BA5-31C3-489F-8B47-66F8C20A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6757C-3C89-4CA5-90CF-13D71B30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A366C-9578-4901-8257-68DC2E25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2B32C-C546-4660-88C0-8BEA514E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82E85-5EB1-4C18-9271-6FFFFAAD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965D05-9CE4-4DA7-BA01-85261504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73627B-5F36-422F-AEAD-7C8B00D9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224B41-FB8F-41DC-92F8-131C5C3A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9632A0-DD3F-4245-8173-F5CEBD30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E9294-79E9-4EB9-B163-087845E4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DAC6-D01B-4DA0-9B65-4A761160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FE4A1-7729-4FBD-A9A9-FC59EE38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C6E702-09CA-402B-9155-5A179422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54576-8750-41EA-A046-EA93052F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22A2EB-29A9-48FC-9DDB-3F0D0148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7591DE-C11F-415D-971F-0149B71E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BE27FA-B916-43B0-B962-F6A9454D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9A6F2-F6D5-41E3-887C-7859DBB3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89937E-C34B-4D2B-AFB7-A438E209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F7572-794C-4487-9168-6A75E62C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A892B0-38BD-427A-9C3D-A613F5E1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366-76E9-46C5-9963-2E2AC1D5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0DEC-865E-4DF6-BFFC-463B1AE0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D3A835-2339-41DD-A941-C21ACF63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EB5AA-988D-4DD2-9761-94B96B8E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6D274E-BF74-44B4-AD29-24243406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A3ABBB-741F-4717-8642-5065F55A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67D980-7B0B-42B9-B1FC-4F668805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8D353-7E6C-45DB-8C67-CDC1DAE8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35797-5D0B-40D1-84D6-2EB70A98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8B4F66-8CA3-492D-9F77-10A7D2E5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B07FDB-2117-4AE5-B493-A779E33D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1C4064-2E50-4BF6-B105-BD6F9F5E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6B93-31B0-4B1A-8F8E-57A54CC9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33A7A1-618B-45C4-8C0D-EA453B7A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1F6C2-F7C7-4D23-9B98-E26408B6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12513-9B58-472B-8D00-58FBE5F7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9B3312-CAF4-4D39-ADC7-8EF2C473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16DB4B-80E4-4A67-A8EC-7B07EB4A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02BA1-B0E1-419D-9604-161C3345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FBDF65-B81C-4C53-BB52-746E544A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8FD9FA-5260-4BC8-87BE-FC900624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7D9B89-D672-466D-A272-0014B357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64F958-1D02-4255-8B36-C09C1585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C33A-3614-4A32-81F5-1AA6A921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8F18F2-456E-4CED-8C15-1287DA84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6DAC1-E33B-4A40-A980-9923175C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CF1157-BD89-4761-9AA3-6A3FFACA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F03100-6FBE-4951-AC72-CB46F631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23D6F1-1C11-4FF9-BB17-3C048EB5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D03A51-2AC9-44A6-86C6-D9557D69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6BF3A-2FF7-4D1D-A71E-FFB149F0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7FA4C-C987-40CD-8A6B-E89E8CEB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3B607-3CD9-4C0B-A24B-F5E2D98C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F08A0-6022-4397-B98D-C1C1495A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84B5-8F2A-46C3-A5FE-ADB5B65A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0AD315-2248-42E5-A7BD-9401DF6C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047840-E201-4819-96D2-5EDA8077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CE72E6-2F3D-45FB-8DE6-3BF3A55D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FB735D-779D-4731-96BC-C9BFEF29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00D61-2FDD-4AAC-8422-C6C2CD85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D37343-6A62-4C19-B1A3-8F47E06B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64C988-DEA4-41E9-9777-A6937838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A445B7-DB89-46A0-BFD1-9F7F2309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4684E9-9DEB-4898-8CFA-66E88EE2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07E3EF-45DF-4591-9001-F47CABBF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F713-4ED3-4E20-8F09-13C34558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5C8328-BA12-47D3-BF56-683C2C09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8761EA-A70D-436D-B790-ADC635DD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8D3C10-CCC0-4490-8474-7D746FD5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86C0E-28A9-4225-B174-F3E5CCA7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9AF577-2787-469D-AF41-FD1BA079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52B4C3-B616-4D15-9DB6-06ECF0B0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F9CC91-7019-4108-B123-186F3A2D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C9F515-C9B5-4BF1-B568-47C5B724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956B66-566C-4E7E-A35F-C63AC363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3CEB0B-359C-4D0A-8071-13C789C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9C4A0-4795-45A0-A96B-CF3D06A5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81FE7-1C39-41AF-96A5-633FD1F8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5C3E33-F0C7-4D3E-A049-1C7BC699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57BC6A-98AC-49C2-A122-8BF72486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E73DE-057D-4058-9D2D-BE294222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6A3F-D722-470F-BDDE-5414F68C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AEA2-3184-4075-9D1F-E93B9233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C11D-97F0-409E-BB7F-50F8BBD5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1E4-E5A9-48BB-8C3B-E2B5AA01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77FCC-AA5D-4F30-A51A-4C8C4162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B074D-BABF-4439-BF33-0674E25C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3896A-B57E-4ECE-B836-C73836DE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5D7C-2439-4490-8F2F-04122368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7574-3F23-4FF9-851D-DC8E209B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64C20-B53A-4C36-9261-1DD201AD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4C8E9-CAE9-49D7-885E-171FB82C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E6CB2-2D20-4736-ACEA-8BFD16F4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A7744-EB6E-49DD-92D6-7B6F79A4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9A0FE-E56D-469E-89DE-FC54C338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E79-75F9-4F09-BB21-758024BE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260EF-E142-4794-BAEA-65F4C048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4AB9-F6B2-414B-802A-44391923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241B3-344E-4259-BCF9-4247392D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B832-6E8A-451B-874B-2AAA9D56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D00F1-2AC1-42C5-98F9-7461199C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E5168-A326-4462-82B6-A34508C3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9111-2060-4DD4-97F2-45307786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50B4-FB7F-4748-A6B2-EBEC8641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48AD-E271-4105-B413-6C8C54F4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1F474-633F-43CA-9456-C84DD04A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F16-1198-4FC0-8509-67002AC0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2F510-4A33-4F5F-8136-7BD9FE91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F777F-FD50-4537-9BC1-7942F41C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E54B8-7753-4325-9692-A3316C56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0AD4F-85F7-477A-A070-24D71061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03E73-622F-4D09-BD95-4063A9A3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C3F61-8BCE-4AFA-8B59-0FDBEB46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E829D-9902-4C82-9364-C3A98BFA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C6E5-DBF9-48AA-A0E1-9B43C366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D9423-0B2A-4E44-BEE0-3A849688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87766-EFA6-4F45-B73C-1D859B7E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DF8-1A34-45C8-8C14-9078200C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329E7-8B04-43B3-B2FF-504FFD27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C29F8-4A85-4B98-94C3-D3751AE2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25DC4-959E-4BB8-829B-1463FB6E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F6C2D-5217-44CA-9A99-D6B7B8D7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0AEAB-FDC7-47A4-9610-E3A183D7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3DE64-6FF5-436E-8817-7695634F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F8F37-BCE3-4B50-9BBE-49D3E116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9960B-E068-4582-A37C-DB7B6413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173F1-25A6-41FD-BD03-48D393F4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84EC7-9EFE-4BB4-BAAB-F8565C12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DC2-FC0C-4691-9DD9-B8610D8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6819-D197-4536-B92A-57CC4209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3F619-A5C0-414A-8AAA-9CD35F16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E4229-7D48-4238-BD9D-C7365798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58C28-2A06-4409-95EF-91B96A6F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DAB9F-A81D-4D85-A5A6-0F2273DE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71785-2F3F-4B12-B449-AD964C8F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C3290-4AAE-40AD-A694-C2C66FA7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2821E-D5FD-4722-BD9E-5839B646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4784F-932B-4305-A22B-E0CF643C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D28D-D2B4-4E83-83A4-26D2AFE6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E7A-3050-45EE-876E-5128E171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408CE-9DA8-4A70-BCC5-2EB6D615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20C21-F559-4087-A17E-434A0BC8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9522A-0535-4DC5-9CD4-0AD6A939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1B00D-EADA-4462-8072-987E7AB4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5C346-4605-41D7-89F6-6AD21D1F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4B3E0-3B12-4A98-8A70-007974D5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1219E-FF86-428A-B301-34EF2A5C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E2DD8-4048-4A39-9FFC-0E7136BC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86801-52E8-4419-A3BF-BA7E03CB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66C21-7B04-4777-AC1D-28030135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A00-D11A-4785-92E9-FAEE1A9D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B70D1-65AA-46B3-9FCA-E8365F5E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67210-EDC6-452B-B6A0-C0A6889C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859B4-C84B-4DFC-A525-53A848D2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DD34A-B547-42BB-98EC-26EC4B7D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C4445-DF60-467F-B8D9-CC94C4F8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47DB8-216D-460D-8D28-22D2AD74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2CB0C-CE0E-4A3B-9C64-0A59A735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9AB27-BACD-4887-8F49-1A519C8B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D02FF-DB50-477C-A8DE-3EEB8796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74D09-C1F3-473E-A8C7-09A7D540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9C63-744D-4A97-8AD5-63F41CC0FA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8F50-5F4E-4187-A893-BA2A4DD0D7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338A-CDBD-4AEE-B61B-E8EE433A77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0829-93FB-447C-89F5-D4D4E1066A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D161-07CD-4A2F-AC59-E509B31C52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214A-17BE-4733-8FF6-1A244F7E10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9A92-53BF-4B91-93D0-9871F29990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FD9E-1D64-4A02-952F-CB205E3293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EE7B-1F16-4E05-8E9A-7A29F05838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06CB-563D-4E3C-9C4A-54A201C74A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4268-6725-45BA-875B-B33D2D2AC8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DB1F-DBC3-4B46-B360-1371084223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128D-7059-47D4-BC6E-F8AFBB4F55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D918-54EA-4D27-BE5F-E8FA3DAEC9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8920-92FB-4FB3-9799-A7935A325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E49A-129B-4D3A-A634-1CB6B9DD9A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5E6E-9B15-482D-A729-7D20B34DEA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ABC3-2E79-498A-AEF3-83C5E8DA62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EE47-FDE5-4907-9FB5-180498DFB6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AE8A-78FD-40E3-AB26-290252418E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E1C0-E9BC-423A-91B5-6D7F37BB84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5BBB-7955-44D1-AC7B-AAF67A8E8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4F37-8A89-4EDF-A7B0-08C4885740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6539-873E-4F46-AD70-7289D7DEB9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9B63-3B11-4ACF-8416-FA66B20813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E0C8-8163-4833-87C8-6E2C3EE28F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6E67-1C93-4B41-BEBF-582762C023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67CC-F536-420C-8949-3D5CA216AF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F63E-0A95-44DD-868B-A1FA0000F6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2172-95CE-470B-A497-C9FEAB7DC1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28D5-FB4E-44A9-9DCC-3487FF4BA6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6E19-7F13-4148-A4B8-163ED80C9C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05B6-0094-49A6-BD67-3AB29AE4F7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E30F-8859-4FE7-BD23-B1DDFE9844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3826-0982-48C6-A040-17167CBAD2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5F03-786E-40E1-AA54-AB3526D49A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829D-4A6D-4414-A0E9-9E404EEF8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4D06-BAD2-4EA1-86FF-61E3E222A8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36DB-0E77-45A3-9DED-08511464B5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4D32-10F7-48E4-A710-D6F29515EC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095640" y="2890800"/>
            <a:ext cx="29527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69633" descr=""/>
          <p:cNvPicPr/>
          <p:nvPr/>
        </p:nvPicPr>
        <p:blipFill>
          <a:blip r:embed="rId1"/>
          <a:stretch/>
        </p:blipFill>
        <p:spPr>
          <a:xfrm>
            <a:off x="324000" y="4130640"/>
            <a:ext cx="8629560" cy="196236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69634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20000" cy="19620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411012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4211640" y="2435400"/>
            <a:ext cx="503280" cy="7776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7093080" y="1557360"/>
            <a:ext cx="503280" cy="777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7149960" y="2421000"/>
            <a:ext cx="503280" cy="777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7"/>
          <a:stretch/>
        </p:blipFill>
        <p:spPr>
          <a:xfrm>
            <a:off x="2050920" y="4292640"/>
            <a:ext cx="503280" cy="7779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8"/>
          <a:stretch/>
        </p:blipFill>
        <p:spPr>
          <a:xfrm>
            <a:off x="1979640" y="5157720"/>
            <a:ext cx="503280" cy="777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9"/>
          <a:stretch/>
        </p:blipFill>
        <p:spPr>
          <a:xfrm>
            <a:off x="5076720" y="4292640"/>
            <a:ext cx="503280" cy="777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0"/>
          <a:stretch/>
        </p:blipFill>
        <p:spPr>
          <a:xfrm>
            <a:off x="5076720" y="5157720"/>
            <a:ext cx="503280" cy="777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1"/>
          <a:stretch/>
        </p:blipFill>
        <p:spPr>
          <a:xfrm>
            <a:off x="8244000" y="4292640"/>
            <a:ext cx="503280" cy="777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2"/>
          <a:stretch/>
        </p:blipFill>
        <p:spPr>
          <a:xfrm>
            <a:off x="8244000" y="5157720"/>
            <a:ext cx="5032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85840" y="800280"/>
            <a:ext cx="8572320" cy="57243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71636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380360" y="213372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443640" y="26654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443640" y="3284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843280" y="378936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164360" y="486900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796000" y="5502240"/>
            <a:ext cx="86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324000" y="557280"/>
            <a:ext cx="8496000" cy="57434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4067280" y="537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5003640" y="537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6012000" y="537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6877080" y="537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7854840" y="53737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652320" y="1457280"/>
            <a:ext cx="7839360" cy="39434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042920" y="4292640"/>
            <a:ext cx="7561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647640" y="1157400"/>
            <a:ext cx="7848720" cy="45432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116000" y="2333520"/>
            <a:ext cx="7488360" cy="1095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1116000" y="407664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900000" y="4653000"/>
            <a:ext cx="7704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6324" descr=""/>
          <p:cNvPicPr/>
          <p:nvPr/>
        </p:nvPicPr>
        <p:blipFill>
          <a:blip r:embed="rId1"/>
          <a:stretch/>
        </p:blipFill>
        <p:spPr>
          <a:xfrm>
            <a:off x="461880" y="1838160"/>
            <a:ext cx="8220240" cy="3181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4427640" y="429264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6472080" y="4292640"/>
            <a:ext cx="86544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7524720" y="4292640"/>
            <a:ext cx="86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585720" y="871560"/>
            <a:ext cx="7972560" cy="51148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258920" y="3213000"/>
            <a:ext cx="525780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525780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116000" y="4365720"/>
            <a:ext cx="525780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042920" y="4941720"/>
            <a:ext cx="7777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614520" y="1031760"/>
            <a:ext cx="7914960" cy="51339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640872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1042920" y="2781360"/>
            <a:ext cx="640872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971640" y="5084640"/>
            <a:ext cx="705636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971640" y="5661000"/>
            <a:ext cx="705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2231" descr=""/>
          <p:cNvPicPr/>
          <p:nvPr/>
        </p:nvPicPr>
        <p:blipFill>
          <a:blip r:embed="rId1"/>
          <a:stretch/>
        </p:blipFill>
        <p:spPr>
          <a:xfrm>
            <a:off x="314280" y="816120"/>
            <a:ext cx="8515440" cy="57816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547200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971640" y="5013360"/>
            <a:ext cx="547200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826920" y="556092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826920" y="6137280"/>
            <a:ext cx="547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47:4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