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B6FF-11C7-49BB-8CC2-5CFB9142C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31BB-3635-4FCF-9FF3-B52D5CBA4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618E0E-5BA2-4FDE-9F03-E325DD3A8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35422F-F823-4069-A689-FAB082816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B22705-3258-40CF-917C-EECD9D802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7DDE6A-CB5B-4127-B98A-B7B875C92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07FC44-ACBA-4937-AC93-D2129790E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D58DD4-7566-4FFF-8E81-B26FFDCFF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47A05A-DFBF-49AE-9CF1-EA8B98F82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F67FD7-DE93-4D4E-8C9A-07A94C32B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6217D7-F35A-48E9-BEB5-45EB2C6B5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90126F-941B-4007-AB1E-7AD68DABF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11FC-1775-42F2-8902-40AF5C3F2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1A397C-B3B5-4E93-8B1A-49F3A3C75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8CBD98-92AD-43FE-B78E-AE2971353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E0DD22-2E75-4382-9B4C-626A053BE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0EF8DA-1576-420A-A272-3A0A736E2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8E3BF5-B4F1-40C5-B2E3-EE6F9A26B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CE038F-E497-43B7-AAB7-5E4C35B05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D62BEA-F00C-42BF-B516-DD5E60DB6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BC965E-9DC3-4264-87F1-849CE1183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4E9331-2250-4BC4-BA29-D6D40CEFE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A9E9C0-4169-4CB0-A564-F6BE65680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DE9A-9749-4747-983E-033CE401F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27D591-F5C1-488C-8F11-D934C9D7F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EBF84D-CF1B-44E3-99FD-E52D4BA04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C75DFD-62B7-472C-9CA1-993E54BAB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8774E9-CE8B-42A3-93C6-0210DE205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A779A7-7BE2-4C8B-8AA5-6B7A500FE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2C8418-DD09-4578-8014-67AEC18EC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5575A3-6A3B-40D2-A316-FBCCD0B2F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58C570-3FA0-465A-8870-F11914457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230F98-180A-4275-A8B0-E634365A2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C35829-7C1A-4D2D-BF1E-4603745E3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87856-0DD8-4EBA-A6F4-E2875EBDC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F64184-521B-496E-AA53-0B418FA06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F438F0-6A77-4F7F-A4F6-47015B6A8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FA7A3F-FB2E-450D-BD75-248B0E7A6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E51FAF-4F69-42EF-B659-D8692B9F5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FA26F3-A1D5-42CB-B88A-FB8635427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A7F51E-E5AB-4029-A4B3-7FFE16E72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869576-9709-400B-9E2B-38D105587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E1F3B1-0170-477F-9A13-25B0C2A0E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DE3C26-D82D-4EDD-9206-B8BCEFE3F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8088D2-0C5C-4412-8632-26A962132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B9378-5B92-4A06-B364-E8F0010DB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700C79-CF21-4419-94C9-35118F312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3F5E3D-9EAE-464E-A851-BCBAACDA2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663DF9-51DA-4B61-8A74-6B12658A5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0BF943-C10D-4A62-84C0-E7863DB9B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66EB94-2E9E-407B-8E07-211F75619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DEA3C1-7314-4FE4-8CB3-2EEB53C03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11DB23-0193-4803-803B-B5DEEAF76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6111ED-7A37-4903-8FBC-9FD359C6C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4E6386-96D4-427E-8933-0496B396C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3414E6-1A12-4875-BCD3-4A22DC5FA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FDDDD-BCA0-46C6-97C8-A49BC4CA3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441CD2-8C97-47D9-A5B7-BEAAA205E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0B11C0-E34F-48EB-9199-9F3D0F347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C81589-D339-41A3-984F-7BE942BD9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387407-8BF6-424F-88C6-FFCBEEF29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30B023-8286-46E6-A175-949269920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127AF6-75BC-4C06-856C-FC011F5EA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DC512B-FD38-4724-AEFD-A2FCF7412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954BA2-3F4D-418F-A013-C5B253810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E4B529-E1D8-48AA-99CC-3BB068356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D59D27-208D-4182-ACA3-57D0CF5FC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99EBF-D6F9-44F0-9720-F58ED414C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2F8519-6FC4-4F9A-A1F4-1B3B0C096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EBB6F9-9E22-45BF-A3F0-E32E1F01B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C477AA-FB94-4D79-89B8-217F5C8E5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351A44-7286-400F-A33A-308319195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00EBE6-A5D8-4D29-B7F8-3455A5878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1D0C47-2C1B-4794-8C19-36672158C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DF7E1A-C447-469F-8C9A-51F4CC12B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9424C4-F657-4894-80CB-6EA729AA1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6EE0DA-34D7-4079-89EC-076388B52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E25ABE-8702-4ECE-B110-473F61AFA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ED8CA-A4C7-469D-9BC0-0CFF45714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721EE6-0219-445E-AF62-4D218EE79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99FBFE-2FAD-4DF6-B5A4-6DE51AC02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4219C3-FE1C-4DA8-AE91-02801297C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2F5A6A-F3A7-48E2-8D40-CAF79D7CE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DFFFB0-25F3-4609-B943-D246A6496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7E001F-1461-4347-AFC1-5F3198465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E27CA9-97CC-4F9F-8C52-BCCDDD2F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352979-2623-44EA-9F48-DE08BFC68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980239-8F52-40E9-BB6E-9640EE920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56EF8F-13AD-45EE-BF84-98D845CB9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8701E-7DAB-46AA-BFCB-3C092F1DE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DC7B8B-03A1-45FC-B61B-F75D3AB31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C2E792-8A80-465B-AFF5-16ED928B9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FE28FA-CFB7-403A-8AAF-6A59C8DC4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EE99FA-8B79-40DC-AB92-3666D9F64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AEB749-78B0-46D5-BC5E-5531AF999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6E8AFC-E6ED-45DD-A3D2-956D0642E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2FC1A1-3618-4C29-B4B2-DFB776555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CF3969-C73B-491A-B2FD-1CFCA3686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DB8D5F-596C-4197-9693-A430BC014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BA08E5-2F44-44F4-8778-91BAC11F6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4D946-20C7-4E0C-93C9-FC2258395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272307-065F-4378-9F59-6CDB581CB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6E95B8-B165-4368-A700-61142BC2F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61C1BE-B473-4394-8E0E-D6DA9A967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1370DD-4BF0-4BF6-8970-1D46EA169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B054F5-EE8F-47F3-B546-7C686B500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560051-8085-477B-BF3C-9906B755E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9E58FD-4BC0-4409-BC20-D007A7C51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B1CEDF-FCB2-4DAB-9CC5-B6919C449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A4295F-45A1-4A10-912A-081CCB8F2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D94E20-DE7D-4793-AA5C-5FC2DE8E9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A6D7-654E-4F83-8392-FE52B7453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48C80-DB44-430E-ABCA-6939248A3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C546CF-1F9C-439C-894B-70DCD1BC5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CC9F31-D042-437F-A0A1-A490EC957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71FA0D-462E-4B50-B205-85D03DBF6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4658BE-6AD6-4FC9-AD21-5C66423CD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192B00-8913-45B3-8603-0599AFBA0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2AD2F7-537C-4FAD-AF25-91DBFF045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98CE97-C64A-42F1-80C7-6C5EB690D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600C03-6B28-433A-8834-53287A6D0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563779-A7C2-48BB-AD53-5C79DB878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70568F-9B26-4F60-B046-57691C708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1F152-CA91-4434-A518-F6181A174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AD021A-1CE8-457A-9EF0-DE6186245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F06BC1-562E-4E40-99A5-0F033B59F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4A3D85-3082-4440-8152-F9DACC090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F4FCE3-F942-4B01-831B-DEB05C6AD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D24BA4-9C52-4086-871F-92BA560A9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21025A-8F0E-47D9-91D9-DCE879F95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758103-92CB-4036-8E0B-AFBECD909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66B15A-B4E3-42EA-A591-548F8D252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F3B60B-49F1-480A-91AA-1DE8132BE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AE513D-F51A-4DCF-B16E-E789778C5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61275-0CFA-4548-9B59-136CEA67C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6282F4-2755-4DB5-A586-2AC456E97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9CECBD-20EE-40BD-AA9E-90D493E4C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80557E-16CB-4C05-861E-DD0FA44D3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D4D8F6-E2A0-4284-B48C-0CD1A042B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89566F-FABB-4F3E-A794-A35B08782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322697-7605-427D-8241-783ED7653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F8EBAA-5846-497F-851C-AC93D871F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E51046-9997-4B38-B9AE-BF2AA19AF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A2BBAC-9977-4ADE-8DC0-183308BF6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E3B4D6-DFAF-4A02-8FCD-16C63DC27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02E61-8CD6-46AC-BE38-B478F9DB1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C8DD3C-1F5D-49F5-963C-95852911B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1112DB-7559-4DE8-8573-13A759882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A1FEF4-C4F3-41E7-8883-102B508FC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7BEAA18-789E-4FCD-A847-13843130E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5482E1-F958-430E-B0AA-76CC39508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C99E15-AC7B-4FF9-9F51-9D77C2241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CA97A6-D508-4B63-9BD0-51ED66624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593ADE-42CD-4CAD-B84B-9174688F2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1C57F9-F2DD-4C44-AC3D-4C0E6E63F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121D20-5E15-482F-8443-2B1E9BF95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3D104-7E5F-4A0D-B334-B09E04471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07B880-086A-41DF-AFE7-6191E0D31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EC80D8-E458-41C8-A711-08229DCB6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CB183EC-C80A-4E5E-8404-91B0BE776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9B64F9-0498-4D6A-8C30-ADEBEC709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7A5E8B-ACA1-4147-9243-E77D47F07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B1E195-DEAA-46DC-9FB7-0C1639126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6EEE64-A2FD-4CB2-85EF-0B101BA52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24D885-0539-4112-BCCE-9A9A17F19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D5A1EC-BC7D-4CE2-83E6-96513D63B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ED7764-D67F-4BEE-828E-9EEBB8E26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CDBB4-9DCC-4040-B18D-E8185CAD3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1065365-33FF-41AA-B748-B275671A3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7924022-BFD3-4EDF-98F2-2AA8643A7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28FB0B4-76DC-41BF-B5EF-3DC5E789D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08B65F2-6EC5-4186-A774-9700BD197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3324768-9510-4465-8BC1-1A20E138A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10BAEFE-B1B7-4CCD-AC77-677F16818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98738DD-490D-440E-B523-AF66FBEE2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6A0223B-5A60-49E1-A71B-1D0C3611F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CAD442A-D269-48CF-9BF4-11878C70B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2D46061-96C4-41A8-8E86-06218D64A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0BB99-26DB-48D1-B78F-30149A36F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7267772-E442-4811-9336-2B2F9BFDC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ECD8AAF-EC63-4FB3-9CBE-81BA9CEE0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9839C2C-B2C8-474E-A51B-235A6B59D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E5092C8-662B-4DA8-98E5-5A77703AC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06ABA53-151B-425B-856C-33C853A3C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5FD199E-0ED6-41F3-8C8E-7A8FC741B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EB355A5-CD88-4F5A-98D3-5A665F269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743C5BC-DA1D-42E2-B15F-FC523C9A6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0A44E68-A932-46F1-BC43-610B9CC05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E11F7B1-3A0C-48DC-9957-44869632C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5CDE6-3599-4103-9A19-8EE757A84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9829D05-BAF7-40FF-8101-EA4751638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6D2F3B8-6E6E-423A-A063-CBF054063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C49E190-C91A-4947-925A-3D26DD729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C769DF4-0666-4F0B-8BE0-F25394E7C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FD78408-F654-484A-ADA3-C9700425F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9C30BD1-FF08-4A49-B314-99AF38446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38F7F9C-5DA4-4E4D-8B71-499DD4397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CFECC-1ED0-47A0-A724-C5EAE2180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E7D45-45D1-48C8-8C0D-25CC76669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7842-A25F-4E5B-8148-7A6325027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D9627-42C0-4A5E-8274-BDB35E2F1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315D4-A172-42B8-8515-D8DF9AD73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BC1CB-E089-438A-A2AE-D8F92355D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91BF9-7FA6-42F3-B524-F3C3D28F3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454C0-84D4-4403-A4EA-A7EA49386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16616-AAB6-43F9-9A7D-B79578492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A3105-5F3D-4C8C-B9DE-4C12A041C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A85F4B-86C7-458E-8A9E-6EFB081BF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90223-E16B-4C31-BC23-5231880A1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78CCF-4326-4254-93DF-C725D1BDF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D859-81B1-4809-AD02-7CE732096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2755A-4F01-44D3-9D45-8750514BA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1D7C0-BB40-424E-9B3B-F2406C3B9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7C1157-67DA-489F-A859-84A089EF3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C063F-EBE6-41AA-BD26-FBE372F36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59E87-FC15-4471-ABF9-4BB004F08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F5E8E1-DD9E-4056-8A68-C2CD3A224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CAB4C-4E9B-4F60-9AF2-CF2F4A009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923B3-CD85-4BF6-B2C7-C175B92BE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817B6-3584-40DE-AEF1-3B850C64A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B07CF-57E8-48DE-A7C8-B6345942B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CFC0-3D69-4615-BD0B-C3B3E19ED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58719B-C648-4F95-8F5F-6BB17F1EF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9A03E0-0DBE-426F-B9D5-916066B92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EEB468-2F4E-4CF3-8F97-ACC6E8B40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BB9FA9-31B2-415B-A265-6EFDD40B6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EC4AB7-42CE-40FE-8529-8444BFE3B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5D443B-6B3D-4C95-825D-B9048BB3D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6CA816-CCDA-465F-BE99-320F8F854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77F7FC-6E69-4B05-9B14-BE4992D00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DC58D-7587-45C1-9DCA-7D0AC3F96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563F94-8C84-4B59-A19D-C6987236E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63C6-FC54-4DE1-8208-6C8A56B4F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DD0197-6BC4-4E47-8B0D-719A0BA25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1BE6DA-B1B6-4DBC-96F7-16EA55A96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4067B9-B11A-4A71-AA1D-597CDF55B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14C58B-B53D-49A8-B0E8-344513038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A688F6-6A21-45A6-A3FC-C52104DAE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1C9527-AD78-4FEA-AFEF-86DADF294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A9C2C7-2DFD-49DA-A3C1-9309AF41B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2D408E-7914-4930-B1AF-0AE753E9B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27E26E-13E0-4251-B7DF-47DA1EE21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246A69-C15C-491F-8BDB-EDEC35F81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3404-254D-4131-8761-F42865F90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E98B8E-B486-4982-9566-19EC2A7D1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0857D1-9E56-44DA-A31F-161EE4EAF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A5EED9-5D51-4143-B0B0-1897354AA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16F3D9-6AC6-4EE4-8F38-EAA6617D9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BBFA4A-5F1F-4FC3-B2EE-A12856B38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660483-9562-496F-87CF-935316630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0CF4CE-2F75-49C6-9B5A-822E28C8A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085094-67E8-48CD-8982-188B53402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E47594-C703-4E2D-BFD4-0367C8FDC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BB1C7B-64B0-4729-B8C5-00EAEC7D6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F0CB-8E4D-413A-987B-3370261D0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7FDFBB-D98A-4189-AFC6-A1D1C9227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AEB944-0834-4B7E-94F9-7BD2F3CD1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A01B25-2DEC-442F-8008-A1D43041F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BC187B-2AB6-46D5-8C46-4CBECED92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05870C-1F1A-4047-8038-2B6AC8F4C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06AF42-E0E1-45DD-9ECC-007DC00BE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AC0EBA-CF04-4651-AAC7-F531C7133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12890A-379C-4A12-A264-111863F0F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B16612-A9A9-4E02-B9C8-E4485DE87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18A9DF-941A-4514-A4A4-448AF5234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9FC3-C66E-416D-AAB6-6F65A4C05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01FD8E-B4CE-4BE8-977E-5954A2195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CA5D82-C80C-48F6-9EB6-3016FCA57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6A14A3-241E-4ABD-AF21-435164E79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AE8D80-681D-44AB-B65F-72F4B24AC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2C91F4-EF96-48B6-A051-FE0FD0035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CAD894-1439-42B8-9C08-ED3778124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60FA8E-5572-4B4C-8972-E6F9B2CD1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752628-CC6E-4D23-AE11-DF4A097BA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95B1FB-28F3-4815-A513-320C11DCD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85853B-2428-4C5C-A4B4-1E99045FC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98F50-BEE4-4517-94F1-3954C268179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70F96-22A8-4F3C-B5F8-251A8D1669F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CBFCE-802D-4023-BBDD-9D156C9294B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AA6AB-3915-43B8-BED4-CF55FEB4FB6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AB6C8-47A5-47E6-A90E-8C4349C7BE6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D39E9-A066-4036-BA45-DAD0C93D086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0A04F-950E-4A6D-868C-BD60FFA5FC8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D3B21-68DB-4D22-845D-22DCCB0C3A8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F353D-A023-448F-9F30-755D87441BA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8A057-15F4-4D0B-AB09-6C113CF72A0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4BF1E-2039-4C07-8157-383279ED77C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C45EE-35F0-4EDB-B093-73CA4FB8EB6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60AF5-3FC5-48C3-8A04-7BEC68F1195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BB442-C52A-4B75-94B1-8C4D36FD331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8D5E0-5340-4025-9366-23CE3B93BE7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BCAB9-A86C-46DB-86D3-23D229BFACB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5654A-39FB-48C5-A9B8-D14090ACD95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478ED-9905-45D8-A5B3-1DCBCB40715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CA472-4A7E-4B59-977E-2CDC5AD64E1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DBC10-8108-42A2-A6DE-E6F795A1AF8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16459-32CB-4F19-8020-FBDC21540B5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74CD2-C97B-4EAD-BFF5-151540F5EF3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0E536-0EF9-442D-9AA0-70A6F1CD416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2899B-C0C9-4B87-AF5D-4B94E72730D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9A2CF-2B29-49DA-8DC7-97FF01BFE0E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81932-929C-446B-ABCB-C2AE357BD1C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DACBA-8F02-4988-A745-90AC36286B5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F8883-FFB1-497A-ACCD-B7236174D77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639B6-FD4C-49FD-871C-9C5938DCA26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342E8-0F50-41BB-BE16-0887C170D3C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84A23-EBE5-4402-B92A-8E70794F1F8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F91D2-F54F-49F7-8249-B2690B6EA88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5C642-6572-40C1-91BD-E9CC78BF9A9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34688-EC65-472C-9D1B-93E7BE4F894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215E2-D2F7-48E9-BBCD-040DC1AD3E8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C0B0E-D759-4B49-BD37-80EBA4EB52A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7F011-92A8-420D-AA31-ADC728EECFD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B902E-0D2B-46B2-A072-EBDFB8F78B6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4B46A-BBA5-4918-91D2-31A0C7E7B69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469F7-461A-4DA3-949B-EEB8841BBA7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40C4C-A672-4ED7-8130-8CDA41DD496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A0077-63D5-400A-BE3D-7A89FDD5AFD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162000" y="2978280"/>
            <a:ext cx="8820000" cy="90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6" name="图片 1" descr=""/>
          <p:cNvPicPr/>
          <p:nvPr/>
        </p:nvPicPr>
        <p:blipFill>
          <a:blip r:embed="rId1"/>
          <a:stretch/>
        </p:blipFill>
        <p:spPr>
          <a:xfrm>
            <a:off x="52560" y="966960"/>
            <a:ext cx="9038880" cy="492408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2"/>
          <a:stretch/>
        </p:blipFill>
        <p:spPr>
          <a:xfrm>
            <a:off x="1979640" y="4149720"/>
            <a:ext cx="647640" cy="44784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3"/>
          <a:stretch/>
        </p:blipFill>
        <p:spPr>
          <a:xfrm>
            <a:off x="6070680" y="4133880"/>
            <a:ext cx="647640" cy="44748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4"/>
          <a:stretch/>
        </p:blipFill>
        <p:spPr>
          <a:xfrm>
            <a:off x="1706400" y="5070600"/>
            <a:ext cx="648000" cy="44748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5"/>
          <a:stretch/>
        </p:blipFill>
        <p:spPr>
          <a:xfrm>
            <a:off x="7034040" y="5041800"/>
            <a:ext cx="648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2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图片 1" descr=""/>
          <p:cNvPicPr/>
          <p:nvPr/>
        </p:nvPicPr>
        <p:blipFill>
          <a:blip r:embed="rId1"/>
          <a:stretch/>
        </p:blipFill>
        <p:spPr>
          <a:xfrm>
            <a:off x="298440" y="968400"/>
            <a:ext cx="8547120" cy="1866960"/>
          </a:xfrm>
          <a:prstGeom prst="rect">
            <a:avLst/>
          </a:prstGeom>
          <a:ln w="0">
            <a:noFill/>
          </a:ln>
        </p:spPr>
      </p:pic>
      <p:pic>
        <p:nvPicPr>
          <p:cNvPr id="1052" name="图片 2" descr=""/>
          <p:cNvPicPr/>
          <p:nvPr/>
        </p:nvPicPr>
        <p:blipFill>
          <a:blip r:embed="rId2"/>
          <a:stretch/>
        </p:blipFill>
        <p:spPr>
          <a:xfrm>
            <a:off x="1098720" y="3570120"/>
            <a:ext cx="7124400" cy="221940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3"/>
          <a:stretch/>
        </p:blipFill>
        <p:spPr>
          <a:xfrm>
            <a:off x="3059280" y="1427040"/>
            <a:ext cx="720720" cy="44784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4"/>
          <a:stretch/>
        </p:blipFill>
        <p:spPr>
          <a:xfrm>
            <a:off x="3059280" y="1916280"/>
            <a:ext cx="720720" cy="44748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5"/>
          <a:stretch/>
        </p:blipFill>
        <p:spPr>
          <a:xfrm>
            <a:off x="5508720" y="1484280"/>
            <a:ext cx="720720" cy="44784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6"/>
          <a:stretch/>
        </p:blipFill>
        <p:spPr>
          <a:xfrm>
            <a:off x="6084720" y="1916280"/>
            <a:ext cx="720720" cy="44748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7"/>
          <a:stretch/>
        </p:blipFill>
        <p:spPr>
          <a:xfrm>
            <a:off x="8244000" y="1469880"/>
            <a:ext cx="720720" cy="44784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1" descr=""/>
          <p:cNvPicPr/>
          <p:nvPr/>
        </p:nvPicPr>
        <p:blipFill>
          <a:blip r:embed="rId8"/>
          <a:stretch/>
        </p:blipFill>
        <p:spPr>
          <a:xfrm>
            <a:off x="8186760" y="1974960"/>
            <a:ext cx="720720" cy="44748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1" descr=""/>
          <p:cNvPicPr/>
          <p:nvPr/>
        </p:nvPicPr>
        <p:blipFill>
          <a:blip r:embed="rId9"/>
          <a:stretch/>
        </p:blipFill>
        <p:spPr>
          <a:xfrm>
            <a:off x="2700360" y="4149720"/>
            <a:ext cx="934920" cy="44784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1" descr=""/>
          <p:cNvPicPr/>
          <p:nvPr/>
        </p:nvPicPr>
        <p:blipFill>
          <a:blip r:embed="rId10"/>
          <a:stretch/>
        </p:blipFill>
        <p:spPr>
          <a:xfrm>
            <a:off x="2843280" y="4797360"/>
            <a:ext cx="934920" cy="44784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1" descr=""/>
          <p:cNvPicPr/>
          <p:nvPr/>
        </p:nvPicPr>
        <p:blipFill>
          <a:blip r:embed="rId11"/>
          <a:stretch/>
        </p:blipFill>
        <p:spPr>
          <a:xfrm>
            <a:off x="6732720" y="4149720"/>
            <a:ext cx="934920" cy="44784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1" descr=""/>
          <p:cNvPicPr/>
          <p:nvPr/>
        </p:nvPicPr>
        <p:blipFill>
          <a:blip r:embed="rId12"/>
          <a:stretch/>
        </p:blipFill>
        <p:spPr>
          <a:xfrm>
            <a:off x="5622840" y="4797360"/>
            <a:ext cx="11098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4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9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4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9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4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9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4" dur="1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9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4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9" dur="1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619200" y="1319040"/>
            <a:ext cx="7905600" cy="421992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" descr=""/>
          <p:cNvPicPr/>
          <p:nvPr/>
        </p:nvPicPr>
        <p:blipFill>
          <a:blip r:embed="rId2"/>
          <a:stretch/>
        </p:blipFill>
        <p:spPr>
          <a:xfrm>
            <a:off x="1403280" y="4307040"/>
            <a:ext cx="3024360" cy="44748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3"/>
          <a:stretch/>
        </p:blipFill>
        <p:spPr>
          <a:xfrm>
            <a:off x="1547640" y="5013360"/>
            <a:ext cx="3024360" cy="44748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4"/>
          <a:stretch/>
        </p:blipFill>
        <p:spPr>
          <a:xfrm>
            <a:off x="5722920" y="4307040"/>
            <a:ext cx="3024360" cy="44748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5"/>
          <a:stretch/>
        </p:blipFill>
        <p:spPr>
          <a:xfrm>
            <a:off x="5867280" y="5013360"/>
            <a:ext cx="3024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1" name="图片 1" descr=""/>
          <p:cNvPicPr/>
          <p:nvPr/>
        </p:nvPicPr>
        <p:blipFill>
          <a:blip r:embed="rId1"/>
          <a:stretch/>
        </p:blipFill>
        <p:spPr>
          <a:xfrm>
            <a:off x="642960" y="1004760"/>
            <a:ext cx="7858080" cy="484848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2"/>
          <a:stretch/>
        </p:blipFill>
        <p:spPr>
          <a:xfrm>
            <a:off x="1116000" y="1844640"/>
            <a:ext cx="3168720" cy="44784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3"/>
          <a:stretch/>
        </p:blipFill>
        <p:spPr>
          <a:xfrm>
            <a:off x="1187280" y="2565360"/>
            <a:ext cx="3168720" cy="44784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4"/>
          <a:stretch/>
        </p:blipFill>
        <p:spPr>
          <a:xfrm>
            <a:off x="4932360" y="1844640"/>
            <a:ext cx="3240000" cy="44784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5"/>
          <a:stretch/>
        </p:blipFill>
        <p:spPr>
          <a:xfrm>
            <a:off x="5003640" y="2565360"/>
            <a:ext cx="3240360" cy="44784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" descr=""/>
          <p:cNvPicPr/>
          <p:nvPr/>
        </p:nvPicPr>
        <p:blipFill>
          <a:blip r:embed="rId6"/>
          <a:stretch/>
        </p:blipFill>
        <p:spPr>
          <a:xfrm>
            <a:off x="971640" y="4608360"/>
            <a:ext cx="3240000" cy="44784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7"/>
          <a:stretch/>
        </p:blipFill>
        <p:spPr>
          <a:xfrm>
            <a:off x="1042920" y="5300640"/>
            <a:ext cx="3240000" cy="44784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" descr=""/>
          <p:cNvPicPr/>
          <p:nvPr/>
        </p:nvPicPr>
        <p:blipFill>
          <a:blip r:embed="rId8"/>
          <a:stretch/>
        </p:blipFill>
        <p:spPr>
          <a:xfrm>
            <a:off x="5148360" y="4653000"/>
            <a:ext cx="3240000" cy="44748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" descr=""/>
          <p:cNvPicPr/>
          <p:nvPr/>
        </p:nvPicPr>
        <p:blipFill>
          <a:blip r:embed="rId9"/>
          <a:stretch/>
        </p:blipFill>
        <p:spPr>
          <a:xfrm>
            <a:off x="5219640" y="5373720"/>
            <a:ext cx="3240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0" name="图片 1" descr=""/>
          <p:cNvPicPr/>
          <p:nvPr/>
        </p:nvPicPr>
        <p:blipFill>
          <a:blip r:embed="rId1"/>
          <a:stretch/>
        </p:blipFill>
        <p:spPr>
          <a:xfrm>
            <a:off x="552600" y="785880"/>
            <a:ext cx="8038800" cy="588636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" descr=""/>
          <p:cNvPicPr/>
          <p:nvPr/>
        </p:nvPicPr>
        <p:blipFill>
          <a:blip r:embed="rId2"/>
          <a:stretch/>
        </p:blipFill>
        <p:spPr>
          <a:xfrm>
            <a:off x="1692360" y="4724280"/>
            <a:ext cx="4248000" cy="44784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3"/>
          <a:stretch/>
        </p:blipFill>
        <p:spPr>
          <a:xfrm>
            <a:off x="1619280" y="5416560"/>
            <a:ext cx="4248000" cy="44784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4"/>
          <a:stretch/>
        </p:blipFill>
        <p:spPr>
          <a:xfrm>
            <a:off x="1619280" y="6165720"/>
            <a:ext cx="4248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1042920" y="1262160"/>
            <a:ext cx="7058160" cy="433368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2"/>
          <a:stretch/>
        </p:blipFill>
        <p:spPr>
          <a:xfrm>
            <a:off x="1547640" y="3500280"/>
            <a:ext cx="3672000" cy="44784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3"/>
          <a:stretch/>
        </p:blipFill>
        <p:spPr>
          <a:xfrm>
            <a:off x="1547640" y="4206960"/>
            <a:ext cx="3672000" cy="44748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4"/>
          <a:stretch/>
        </p:blipFill>
        <p:spPr>
          <a:xfrm>
            <a:off x="1692360" y="4941720"/>
            <a:ext cx="36716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8" name="图片 1" descr=""/>
          <p:cNvPicPr/>
          <p:nvPr/>
        </p:nvPicPr>
        <p:blipFill>
          <a:blip r:embed="rId1"/>
          <a:stretch/>
        </p:blipFill>
        <p:spPr>
          <a:xfrm>
            <a:off x="223920" y="1290600"/>
            <a:ext cx="8696160" cy="427680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2"/>
          <a:stretch/>
        </p:blipFill>
        <p:spPr>
          <a:xfrm>
            <a:off x="3247920" y="328464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3"/>
          <a:stretch/>
        </p:blipFill>
        <p:spPr>
          <a:xfrm>
            <a:off x="6012000" y="327024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4"/>
          <a:stretch/>
        </p:blipFill>
        <p:spPr>
          <a:xfrm>
            <a:off x="4110120" y="489744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5"/>
          <a:stretch/>
        </p:blipFill>
        <p:spPr>
          <a:xfrm>
            <a:off x="7553160" y="4869000"/>
            <a:ext cx="4320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图片 1" descr=""/>
          <p:cNvPicPr/>
          <p:nvPr/>
        </p:nvPicPr>
        <p:blipFill>
          <a:blip r:embed="rId1"/>
          <a:stretch/>
        </p:blipFill>
        <p:spPr>
          <a:xfrm>
            <a:off x="619200" y="1824120"/>
            <a:ext cx="7905600" cy="320976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2"/>
          <a:stretch/>
        </p:blipFill>
        <p:spPr>
          <a:xfrm>
            <a:off x="2916360" y="270828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3"/>
          <a:stretch/>
        </p:blipFill>
        <p:spPr>
          <a:xfrm>
            <a:off x="5724360" y="270828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4"/>
          <a:stretch/>
        </p:blipFill>
        <p:spPr>
          <a:xfrm>
            <a:off x="3708360" y="432288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5"/>
          <a:stretch/>
        </p:blipFill>
        <p:spPr>
          <a:xfrm>
            <a:off x="7278840" y="4292640"/>
            <a:ext cx="43164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8" name="图片 1" descr=""/>
          <p:cNvPicPr/>
          <p:nvPr/>
        </p:nvPicPr>
        <p:blipFill>
          <a:blip r:embed="rId1"/>
          <a:stretch/>
        </p:blipFill>
        <p:spPr>
          <a:xfrm>
            <a:off x="195120" y="1152360"/>
            <a:ext cx="8753760" cy="455328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2"/>
          <a:stretch/>
        </p:blipFill>
        <p:spPr>
          <a:xfrm>
            <a:off x="1332000" y="3514680"/>
            <a:ext cx="4319640" cy="44784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3"/>
          <a:stretch/>
        </p:blipFill>
        <p:spPr>
          <a:xfrm>
            <a:off x="1403280" y="4164120"/>
            <a:ext cx="4319640" cy="44748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4"/>
          <a:stretch/>
        </p:blipFill>
        <p:spPr>
          <a:xfrm>
            <a:off x="1476360" y="4869000"/>
            <a:ext cx="43196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2" name="图片 1" descr=""/>
          <p:cNvPicPr/>
          <p:nvPr/>
        </p:nvPicPr>
        <p:blipFill>
          <a:blip r:embed="rId1"/>
          <a:stretch/>
        </p:blipFill>
        <p:spPr>
          <a:xfrm>
            <a:off x="1200240" y="1919160"/>
            <a:ext cx="6743520" cy="301968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2"/>
          <a:stretch/>
        </p:blipFill>
        <p:spPr>
          <a:xfrm>
            <a:off x="1835280" y="2981160"/>
            <a:ext cx="3816360" cy="44784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3"/>
          <a:stretch/>
        </p:blipFill>
        <p:spPr>
          <a:xfrm>
            <a:off x="1908000" y="3645000"/>
            <a:ext cx="3816360" cy="4474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4"/>
          <a:stretch/>
        </p:blipFill>
        <p:spPr>
          <a:xfrm>
            <a:off x="2050920" y="4335480"/>
            <a:ext cx="3816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10:13:02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