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78F-B583-43D0-B3F9-41DFB446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3E12-EA78-4E83-B74B-325241A2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7931C-31C6-4664-8742-D7B28FB9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43E46-BE69-421B-9126-38373630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CD148-869F-4E02-B693-6EF93643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90566-9070-471F-B168-60410FBA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55115-5A54-4433-9CA8-BE979E31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429DB-9D16-4C03-A8FA-D514CD75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CB8A9-B226-4B52-9F42-B6AF0C02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F11CE-4D4D-4098-95E4-F84126BB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047A2-2BCE-48C7-861B-1EB129EE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73170-61C0-4175-806C-82FCB55E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830-7817-4A4A-9BC0-DC1F98EB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8A6C6-D49F-4E7E-877F-6246DC13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327BE-1833-40AB-9E4C-2E90ABAE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D9286-C418-4A40-8237-D0AB634C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32E36-7553-4451-BEE2-AEC632A6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552A2-29DE-4655-BCFC-37BAA8BF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2C75A-4037-44D1-8750-DC86BF60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EFD16-ED5E-47A9-8D73-BBC171FB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3D95D-3A63-416B-BC42-1AB35AE4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BAEAD-63C4-47FC-9823-295DD4DE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8AD9C-FC48-45F0-BDBA-5540AED9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1CE-1B6D-4B98-A281-4C1758D8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20844-009D-47E4-B0CD-726BFE38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3A4B1-C34B-48EA-AFE3-DC2DB15F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EE73B-BF33-47C7-8B35-5C6FEC3F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5FEE3-9FDF-4B4F-8CF1-C7D719D8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0BA23-B696-40DA-BD1D-7F178D4A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CEAA4-1378-42F8-AC5B-82182BE2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D725B-7FDA-46C1-BA8C-2B2777A9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A5257-B44D-400D-8287-1F27C758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09AF3-8845-49B0-BFED-21CA885B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C5F56-24F8-4198-806D-A3C6F482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339A-4D5B-42ED-8587-D94F1E1C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47199-CB06-45A5-A849-BF72641A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1774B-D45C-49C9-9867-C0C6CF1C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10126-554C-485C-8B3E-D6A6CBE0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8C9B1-3AC2-40CF-9111-66232535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975E5-CCA8-4359-A89F-1C74042E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B7864-2E28-44F2-86C1-AC104195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9B324-C9DC-48E5-ACC8-F678A65D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F8324-B6DE-4625-8DF3-E08CDEA2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4010A-F7FB-42F2-A196-AFD90EC8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AA689-AC36-498A-9756-307894C8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F312-B95B-43E2-BC3E-F8D85ED5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9441C-A728-4C8F-8172-50BAC0DC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97886-A8E3-42D8-8F49-02324E02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4DD37-BA96-4AD8-A8E8-DB5060FB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DAF39-6AFA-462F-892C-ECCC44EA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0E2A4-23E8-4775-9C14-FC3D53D1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064AC-031B-4150-BC0E-145ADC7C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63CC1-F22B-42D6-8432-F1B734F1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82FE2-F83A-4EFE-ADB6-21D4CC5B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24DC7-6057-46DF-A7A7-C6A4A107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48D184-2538-4E28-8FAD-E3580137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80C6-6F40-42F4-AE66-28652DC1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33263C-22E5-4695-8F60-6067D2D6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0D41A-28C0-4DD6-943D-622C716A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32FF8-3F99-45AE-93AB-2B51B41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809AF-8E4F-4173-BD06-4168D491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9B0C8-896A-4519-B633-5989615F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49CC0-3B82-4A76-AAD8-25AF962A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4A2C38-AC9A-4118-9530-E0748140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52C5CE-1987-4C49-8EEE-4E771C35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37C45-FA7A-4D7B-9185-B8F041CE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8EB8D2-FB78-4329-B3D8-6A623DF8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560F-170D-4958-872E-3B95ED16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2C263-E115-4F95-9216-11A79479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37D325-ECDB-465D-B8E8-AABE9B41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3E89FD-D23F-4417-852B-08F6D5C4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54DF7E-E7F5-4540-899C-88899194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63BCF-A176-4439-9214-D81C3FF1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258D68-65E1-4919-B347-DF869E15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C69B73-F545-424C-9DBB-905CA9F3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D5886B-6B76-44A2-94E6-B903F74D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3BAC50-8DE3-498B-BA79-82693263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1C16B-44E8-46A9-9F88-0062D277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AB65-7235-4243-A6A7-A28435B3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B493C4-BB58-463C-A0B9-6ED63961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5055A-054E-4599-91B4-2A5B0043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95E4A8-4C85-4E2D-B102-9F6909B1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01B8EE-6F0B-4B0D-AFDD-6C1C3095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E3DB85-100F-4834-9D9F-77DAFD95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FE49F5-5F29-4B69-B383-52D414A9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92C504-09F6-4EB6-B376-F62B6276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FDC0C2-4138-4CB1-8F1E-DD98C5FF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094A11-8AD8-4388-8270-0CBF64CF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0AB631-54A7-4FF0-B492-692A5D9B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F251-1DE4-4C2A-A5BB-2BD6024D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CBB0D4-4E60-4810-9265-49CF8214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986543-FA79-4B56-B0BA-C3E506FF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E4E840-51FF-452C-B867-8943A395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4BEE32-7402-4C5F-ADC3-C2EDDE21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D4F1FB-54F0-4AFF-955A-ABEA3895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08EBD-B759-40A8-949F-ADD96025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337B02-6E2C-4C12-8756-A4721C01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172146-836B-4691-99BA-C18E7C63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DEB2A2-23BA-4004-99A9-88727553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2A9B43-3D56-483C-BAF3-021A4C4B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548F-EFD5-4770-86D6-5BD5A3DC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9A6B7C-A97F-4267-8012-43183307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748AD6-663E-4550-B6BE-688AC663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4E3F83-9D1D-4180-ABC4-36508B39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4A99BF-8213-4101-B7CB-3F030283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0AF201-26BC-46AA-A2EA-BB710541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1BE2D5-36D9-4058-9AF8-088419F1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4EAE29-F6C4-4808-BFED-D8CD0982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909636-64B5-4605-B0DA-87F3F313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4EDFFC-627B-485D-A39D-B8CD0A49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67CDB9-6A48-490B-A75D-B13D18A1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86E-C47F-45B6-8ACA-818EE352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4735-FF7F-4BF9-9DB7-76D063D1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826796-FCC2-4725-B009-60EFEA96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6BCE25-307C-42A3-88F1-4D652A32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73FAF5-DA3C-4AEB-AFE0-D7748698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76F4DF-41F5-457F-9A4B-932988DE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6F1D1E-A5F0-4627-9180-2EA44376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AF881A-3FB0-4015-B66B-E0C7B541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9E3043-1D08-4151-A9AE-341DFAB0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D71A2-66C7-4A41-82C0-882EC4BE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ECE19C-FF5F-4C7D-B82D-965FE43D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089E28-47F7-45EA-AC70-A7FFE92B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6DCB-E8DD-4273-9326-AECD8EB7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38F65C-4D35-413F-8603-59C1A15E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37983B-66B9-436C-8821-A1BD7E35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D72CEF-FC79-4573-8810-FE50B317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541375-B70A-4C84-ADCC-4DB4717A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E624E9-1932-408C-A279-D777841C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9F3D58-CC35-45D8-A756-B4404F84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87A16F-886A-4852-816F-6013D8F6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F7B905-EA91-42A7-A80D-B6DFB4BF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E5DCCD-3838-411A-92A7-1C51B94F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1A10D7-CC40-493C-A8C4-4B53DBF1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D649-4401-4AA7-A7FC-220C65BC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C09283-D61F-417D-9C47-C47A2C29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E87C3E-7DC2-40AC-882F-A76F7E1C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2234F3-DD0B-4008-893B-E2EA462E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F77827-3006-49FA-8371-8E25596B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16EF78-C00F-4157-BCD0-053A2083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E21225-3742-4D59-B3D3-FFD3C6DB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23C283-EE96-4F8D-B526-C1F188DF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004FFD-F652-47EF-860F-0E39759F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D31712-312C-4C7D-B663-9AB42986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FE6458-1911-4A7F-AF6A-B4DBF67F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4870-647A-456D-A23D-BBF6C298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149F63-867F-4823-9319-85B52E23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7DC7A8-6619-4EAE-8568-E5F6AA45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82F344-8F89-48C0-AF9A-59299EBB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D621EE-FA0F-4CEA-A176-5A6BF773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8C0006-B55B-4190-8F66-C4688C58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1C8985-EACA-454F-B935-1ED622C6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1EB933-0F23-467C-BE9B-96D1B0B3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5D7E0F-D236-4470-A7EA-1DFF7DA5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818CE9-5EB3-49BA-BDDE-EA815C86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C143B5-A265-47D2-B655-0273DA62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2AEF-36CF-4A75-9052-9F0C935F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386F1F-A0F6-4CBF-88BE-1BDB8EE9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847B20-C9B3-4E03-940D-F7C76402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7D9AFC-5D25-4981-A831-E50E3F25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A5C64E-C520-47D3-A451-1D0BE35A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3E9A76-9ECA-4F1B-AB47-7E77A5ED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9C7E37-7F6D-475B-B67A-DE39809E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F955BC-4205-41E5-BA35-F9440942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79CEC6-2512-4FC5-AEEF-5C2D9E95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ACB66E-FDA1-4244-97A3-5D5F77E9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2489B7-3878-408C-A734-79C67F55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B494-49C0-4364-A9B3-61F79CE0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8E4AA5-C00B-4071-B721-E6A3DCD1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B7AEEF-510D-4390-8780-296B611E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EDA62F-D88C-4B79-8E3F-CC834D99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A01C-7C7A-40E0-AFE9-649F4CE4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31020-E192-444D-9F53-F4D254B1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00440-B7F5-4FC5-9391-0B1DBE4A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68512-EAD4-4410-96EA-4FCD7B2D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C8B-BFF0-42AC-B083-CA5AE0D1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47F2B-B89B-4CBD-AC54-016CDDF4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58F16-B9AA-4B33-AA80-9B006811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60BC-785B-42D4-8B21-BA172F4E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9C825-1A5D-4B2A-B875-AE1197F0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0A52D-0188-46C8-AAC7-AF0DB386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362AC-7141-4CAC-9791-D559A126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BEBB1-3728-4988-8073-2BC52D55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7D486-F1D4-4484-A246-63C70373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A83E4-2D0B-4773-8CDD-BE488444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4B6AA-6140-4C26-8E23-DC4E385A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800-980C-41EA-A454-E8E6013F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F18FF-3C6B-4A14-B7A2-FC61474A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31A0E-C869-4570-B251-08F803C4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0526F-4B2E-47EB-8299-53D96451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133D4-6F13-49DB-804F-79FB8E2F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04EB5-5BCA-488B-96D8-1CEF2883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1A20C-405B-4D25-AEED-2611FBE0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1DAE0-C92B-46B7-9BE4-62C76BE3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0E4CA-2074-4E16-8FEF-EAA2C363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EDDE0-3840-4E2B-91DF-5B8B5BD3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E53B7-9087-407B-86FE-D78AFB1A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1621-EEAF-41E9-902F-D6EC6E26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69F08-3A14-4970-AAF5-4F8C736B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B9FEE-E3F9-46D4-AD09-F35F0E29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407E4-BBE7-44E7-85EE-AEB3BA9C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4D9B7-EBB0-4897-99AE-2C4A3F40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DDAFE-5699-48F5-B827-E8E0AE32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76FA4-964A-4B86-9BB9-925CF42D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B8A3B-727D-4CF1-A6E6-BE5CBBE1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D0D1F-481D-4920-A51D-6CAD7EB9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FD36E-C379-4C57-825F-1333BF3B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27016-A530-4096-929C-B9A4CABB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EC7D-E4E2-428B-8C59-02AD911E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DCB07-3F97-4AB7-A926-F536A540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7AA66-01F3-4213-AB84-989EFFA6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E9E7B-A190-4BB5-AAF3-F5B52F28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49B47-915D-4C8B-8ECC-82EF27AB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2A1A4-1085-486D-91B7-4C57AFE3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ECA9D-C250-4046-AD61-0C1C7DF8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A6CF7-3E3E-452B-9D6F-097BE062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27596-CBFF-4ED5-934D-87A887D0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CD217-DB1B-4CF4-8B4A-D80ED94D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5DB8D-FAD8-47B3-BEE4-F67C35E7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EE7-22F5-4B54-89B2-36EAFBBC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FE0AC-051D-49FF-918E-D0F2D8A5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5477C-91CE-49A5-BE66-1E32987A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94F8A-D9FC-4923-9B64-83E64BE8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4986D-1DFA-4103-99FD-89B5D5A0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A94F0-107B-4F42-B119-2D9EF75F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55772-2253-40F2-9D66-66AF13E5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3A8DD-B5C4-4FA1-B677-11790BC6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39DA4-6171-4257-AF48-72A83D20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0542D-341C-466D-8762-41C759F1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FC670-597A-491E-85BA-391BB93E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450-FDF5-4175-8E0C-9E9869FA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4AEF4-F6B5-467F-B01A-375228DF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E9C5A-94F7-4C7F-A9E7-829AAAC0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6E6B7-C4E7-4CA8-A72D-AF3C09F3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96765-0FEF-4B08-B303-94B02188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9A95D-E81C-4734-8866-55FDBE95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C03B0-9E40-4C4E-A84D-57F63DD0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A660C-D132-45C5-902E-54F66E4C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3E573-8C85-4EEE-BCF8-5DAD72DB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0D1B3-0D98-4C15-8D42-526D13CD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C2288-82B9-42B7-921B-0A438EE0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E80-167F-4704-B01F-EE0BE519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F7398-785E-48FE-8ADF-62F7725B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244B2-4802-4BAF-8222-FFBDE3D9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CDFEE-2F25-43AF-99AE-8E7D4876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4EFFE-AF89-49F9-AC8B-1C7BF4B9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2942B-8F11-4ECD-80B2-3845422A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4863C-5C55-41A6-B45C-4B3D4B61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53C7F-F141-4690-BC83-552F3F29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1A033-AC02-43E9-AD7E-00C921AD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CF0CA-E1A1-4668-836A-537A8301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A640A-4EDB-4AA0-88A1-9A3A6150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271F-304F-42C2-A877-70FD52C057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B06E-5AA5-4BAB-9E93-08622CB26F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86E0-25FC-4E27-81DD-43E137F92C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BE82-0E83-41AE-8397-1E525605D8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2D74-12C3-409C-A03A-2845CCA6A4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694C-4B75-4CD4-8D64-B0F1777C5D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18F1-7287-4DFC-A9DA-2C3BDA8BBD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19F8-940F-4739-A41F-FE5727E43E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1AFD-716A-45B7-B637-07F53CBC49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C98A-F5F9-4B28-9FDD-5BAE8499B1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1DD0-B9F0-4A9C-9887-D3C4CC3133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FBDA-92AC-4E2C-8521-10E66C5DA8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76C4-6373-4FF1-BBF0-91F55F2930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8E7B-8066-4D02-A6F4-C324B27AB1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7B35-DDD3-4889-85F7-82DBDF3DB1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1157-B58E-4FCD-880F-71D3C5E642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75E4-5DA1-4785-BA21-EAAE753A82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3B25-DEF9-4F82-9503-F875F34636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A5B5-39F1-4FDD-9BF2-5C0C45E702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EE36-3EDB-42BB-85C8-6E64CCBA10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9D4F-FD8B-4803-B258-90F7AAFADB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A5DE-1C54-4061-BB7E-DD46A62021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EFA6-29FF-41EE-B488-2B09981BC3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B953-2E37-4E27-A083-929AD7C1C4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C4F4-DBE4-4AA9-B5EA-75333F7CA9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48AE-192A-4330-B60A-D7440E31D7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93AB-90BC-49F2-9244-D8BA405EA4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6EE5-1D5B-458E-A6C8-42BEE3AA50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4304-1A2D-447C-A77E-36EBDF6346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8344-15A4-4F4E-A16E-FC5295DE5A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06E6-891F-4A42-8B61-CCA6C585ED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BD90-EE88-448D-AC5B-3B408E66BC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9D28-82F9-4ADA-8FB2-10C0B3822D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5CC7-7FD2-47EA-8E5A-588D39D2B5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AA0C-FBAE-47C1-9B65-F8BF34F253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02A6-4033-49A1-BFB3-CB1C642DEE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EBC6-07DA-4458-B03A-15C3ECEBE5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4534-0E51-4A6F-A38A-6D0B8414A5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A726-DE66-49B0-B353-C47586A0E7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FB1C-BF35-4EB4-9D23-9923277E33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14560" y="3090960"/>
            <a:ext cx="511488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69633" descr=""/>
          <p:cNvPicPr/>
          <p:nvPr/>
        </p:nvPicPr>
        <p:blipFill>
          <a:blip r:embed="rId1"/>
          <a:stretch/>
        </p:blipFill>
        <p:spPr>
          <a:xfrm>
            <a:off x="295200" y="3919680"/>
            <a:ext cx="8553600" cy="188568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69634" descr=""/>
          <p:cNvPicPr/>
          <p:nvPr/>
        </p:nvPicPr>
        <p:blipFill>
          <a:blip r:embed="rId2"/>
          <a:stretch/>
        </p:blipFill>
        <p:spPr>
          <a:xfrm>
            <a:off x="684360" y="1542960"/>
            <a:ext cx="7819920" cy="18860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4067280" y="1773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4140360" y="263700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7451640" y="1773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7451640" y="263700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7"/>
          <a:stretch/>
        </p:blipFill>
        <p:spPr>
          <a:xfrm>
            <a:off x="2771640" y="4149720"/>
            <a:ext cx="57636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8"/>
          <a:stretch/>
        </p:blipFill>
        <p:spPr>
          <a:xfrm>
            <a:off x="2627280" y="5013360"/>
            <a:ext cx="57636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9"/>
          <a:stretch/>
        </p:blipFill>
        <p:spPr>
          <a:xfrm>
            <a:off x="5867280" y="4119480"/>
            <a:ext cx="57636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0"/>
          <a:stretch/>
        </p:blipFill>
        <p:spPr>
          <a:xfrm>
            <a:off x="5867280" y="5084640"/>
            <a:ext cx="57636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1"/>
          <a:stretch/>
        </p:blipFill>
        <p:spPr>
          <a:xfrm>
            <a:off x="8172360" y="4048200"/>
            <a:ext cx="576360" cy="7491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2"/>
          <a:stretch/>
        </p:blipFill>
        <p:spPr>
          <a:xfrm>
            <a:off x="8359920" y="5070600"/>
            <a:ext cx="576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85840" y="762120"/>
            <a:ext cx="8572320" cy="5333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851280" y="495612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627280" y="5646600"/>
            <a:ext cx="79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571680" y="1547640"/>
            <a:ext cx="8001000" cy="37627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3635280" y="164304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2627280" y="229068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3780000" y="2967120"/>
            <a:ext cx="424944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2556000" y="46386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6"/>
          <a:stretch/>
        </p:blipFill>
        <p:spPr>
          <a:xfrm>
            <a:off x="5651640" y="4638600"/>
            <a:ext cx="1225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295200" y="1100160"/>
            <a:ext cx="8553600" cy="46576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2340000" y="458136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1403280" y="528624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7352" descr=""/>
          <p:cNvPicPr/>
          <p:nvPr/>
        </p:nvPicPr>
        <p:blipFill>
          <a:blip r:embed="rId1"/>
          <a:stretch/>
        </p:blipFill>
        <p:spPr>
          <a:xfrm>
            <a:off x="304920" y="1519200"/>
            <a:ext cx="8534160" cy="38196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2916360" y="1627200"/>
            <a:ext cx="511164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3564000" y="2276640"/>
            <a:ext cx="511164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4032360" y="2938320"/>
            <a:ext cx="450036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3708360" y="4292640"/>
            <a:ext cx="1800360" cy="7920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6"/>
          <a:stretch/>
        </p:blipFill>
        <p:spPr>
          <a:xfrm>
            <a:off x="6948360" y="4437000"/>
            <a:ext cx="1079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6324" descr=""/>
          <p:cNvPicPr/>
          <p:nvPr/>
        </p:nvPicPr>
        <p:blipFill>
          <a:blip r:embed="rId1"/>
          <a:stretch/>
        </p:blipFill>
        <p:spPr>
          <a:xfrm>
            <a:off x="343080" y="1595520"/>
            <a:ext cx="8458200" cy="3666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4500720" y="2708280"/>
            <a:ext cx="4392360" cy="1008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4716360" y="3789360"/>
            <a:ext cx="273708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4716360" y="4451400"/>
            <a:ext cx="273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5300" descr=""/>
          <p:cNvPicPr/>
          <p:nvPr/>
        </p:nvPicPr>
        <p:blipFill>
          <a:blip r:embed="rId1"/>
          <a:stretch/>
        </p:blipFill>
        <p:spPr>
          <a:xfrm>
            <a:off x="266760" y="857160"/>
            <a:ext cx="8610480" cy="51436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4751280" cy="8636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900000" y="350028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900000" y="4164120"/>
            <a:ext cx="338472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755640" y="4840200"/>
            <a:ext cx="56880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4276" descr=""/>
          <p:cNvPicPr/>
          <p:nvPr/>
        </p:nvPicPr>
        <p:blipFill>
          <a:blip r:embed="rId1"/>
          <a:stretch/>
        </p:blipFill>
        <p:spPr>
          <a:xfrm>
            <a:off x="281160" y="682560"/>
            <a:ext cx="8581680" cy="59151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755640" y="282420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1116000" y="350028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826920" y="4149720"/>
            <a:ext cx="554544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755640" y="479736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755640" y="5459400"/>
            <a:ext cx="80643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2231" descr=""/>
          <p:cNvPicPr/>
          <p:nvPr/>
        </p:nvPicPr>
        <p:blipFill>
          <a:blip r:embed="rId1"/>
          <a:stretch/>
        </p:blipFill>
        <p:spPr>
          <a:xfrm>
            <a:off x="285840" y="738360"/>
            <a:ext cx="8572320" cy="53812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900000" y="292428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900000" y="357336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755640" y="422100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755640" y="486900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7"/>
          <a:stretch/>
        </p:blipFill>
        <p:spPr>
          <a:xfrm>
            <a:off x="755640" y="5559480"/>
            <a:ext cx="777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15:2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