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E0A4-7CF2-4430-8001-6413F91E6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6D6C-CF95-450C-AA36-0D361732F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C89B3E-0293-4911-84AE-A4CF37983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088FE1-A032-4DB6-8364-20F013228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C07E8C-7184-47A6-BB23-886DD7D04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59CFD2-12BE-4B2D-972D-22D2FF9E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CCFE10-A86F-4C64-BA10-D245AD65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A47F8E-C0A4-405C-BC97-95C570A6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AFD80F-5EBE-4C69-B536-BF33D8BE3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B8E7DC-78A4-4789-9E1F-AA4A1533A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CB9940-B125-4B8C-AB42-2406E8941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803383-3AC7-41DB-B644-0966B6006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8AC3-725D-467D-AA51-14B5E9BA1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845792-109E-4000-8971-CE7ABB208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FBF052-386A-4BC9-AED8-597BFF503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328CD0-A824-4F9D-8C49-3BE339CB2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A9065B-259F-4198-85C8-F85D1190C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4EC93B-AE76-42BD-A1DB-AA4FE5DD2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77307D-DD9C-485F-AFDB-400B48C0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237F4A-9B8D-413F-AABF-0B13F9DE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DB7F47-BBE0-46DF-9D18-38414F9D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DCE73F-7DEB-4754-B48F-D920F369F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6A3C59-D6C5-4CA0-9D10-B72B7B023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0CB4-C520-4D4E-99CB-B94AA5B26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59D057-1500-4F77-8C57-21AE9AC77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4F7B17-5206-4573-A4FE-964075902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DB3EB6-8814-448B-A57F-81C6CCAA8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2F4594-6EBF-4D6A-8CB0-1B1D048A3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976388-898C-4AA2-A858-93C09656D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94F1CE-5154-4B07-99F5-A981E7845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518B52-E1B9-47D0-82B1-0402167E9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037A2A-ACA1-4DBD-ADA4-32617459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010641-9651-4B33-ACB7-AB72903A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7D42A8-6743-4F68-9E4B-E6C53AA9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8DC3C-F32B-45BA-9EFE-C9243B5D7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6B5472-7C62-4294-829B-A11A5D13E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D149F8-D23E-44DA-B478-8C15EA45F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5D6A71-BAD5-48DA-83A4-CED4CEC68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892887-85F2-46E8-A99B-D9FE24A79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232424-1B66-4D0E-ABE5-015A8F680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D50718-A33D-465F-B2A7-6E9538E5B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6A97C1-33E1-4799-BAAE-53D5882C8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2A6257-FF0B-4137-916E-409A66829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DDD1AD-270B-48F0-8DAC-506E41047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8D7D01-CF65-496D-BD39-E0E37726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467B0-41B7-4A9E-A16F-6F28A4DCE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180848-A7BC-4ABA-BB60-F87CA683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CD79D6-AB35-46F0-9E7E-DFEFECCA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7CBB09-CE8F-47ED-B4AB-5099F62B2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E19621-7C07-41AC-B83C-E7B32DD48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E576B6-36A7-4C61-9FF2-96FD5B93A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44512D-846D-48D8-92BB-EE65B08D4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237EF6-89E5-4154-92B4-09EDC7D65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FDE7FC-A515-4FE1-AE35-D601249BA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53BC55-2A4A-4D44-B9D8-FA187E1BD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604D96-400A-40CB-9463-78D63CF46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8D0C4-E390-4679-961F-BC517F90C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953B0A-17FC-48DE-B127-2E841D038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F74445-FD35-4BDF-9466-0865F0D64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A2219E-B774-4F09-8B85-C15F80A8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900A18-93F2-48D4-88F8-BC4CCF28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C6D076-54C0-4436-8983-54AE4D207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1E0D5F-9E10-43F2-8D10-9230D404B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908898-03F5-40BC-AB59-5AC912482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3C12E5-91A9-4BC4-8103-AC1C36F40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310572-1B41-47AA-86FC-297209E15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8215E3-D2D7-4FB3-A924-CF23F41C1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BAF59-30EE-4A43-BCE5-543359F33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7D9CA6-4043-497D-8E0D-BF32512E3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0FD52C-28F9-4E5B-87DE-F462F2156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DADCDF-75F1-47BB-9F6B-E235A7173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030371-18B1-40DF-88DA-8F9A6261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3B3137-465E-413A-BD83-4288F6FE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98DAE1-3E7F-4E66-B24B-2337F779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7BD3BD-F7C4-47CD-AECF-4233BA4B2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649E02-BCC7-446C-A0CF-39E12CF67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AD0C5E-9A91-411C-8491-0E2A68400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0E6114-B0CE-4663-AF12-6A1F99747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3E38A-C103-46C3-8F1D-A7EB1669A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7BC3DE-54D8-4369-980F-B5B0D8C8F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21BA0F-3BAC-47A2-8E9E-4B606C3D2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100F26-1541-41B2-8083-EC172D339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54019D-F876-4811-81C1-72B35BDD5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F4B8AF-F909-44D6-9AEB-35DA8C5DD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910A61-09AD-4412-B106-226CE1DC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BBA26E-D738-4B8E-A0BA-EECF741E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B2A202-8077-4905-B3FC-DA4C9725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734856-10EA-4712-A485-112F864C0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EA56E0-53C0-4C8C-AC0F-1DE241869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B078A-18E5-41FB-B207-4849B6592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C5052F-B373-451F-AF2D-5D6DBF839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A06591-2B1E-4712-B6A4-E3945EC1B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AAF8D3-7431-489B-B0E6-A42E8A6EA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AC4653-5B0E-413D-BD43-7AC3F6AA3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8E1CE7-895C-423E-8AE2-CF6BC1CAC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D30C85-8E16-454C-924E-B37847256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B0A62E-B1A0-4351-B29F-0EA1D6FF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47AF1D-8120-42D4-B113-F25F6275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227A4E-609D-497C-9239-2BDD8D00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B3C204-0A06-4D53-9A1A-CAC08553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29CF4-BA20-4A8A-B4AA-0D70C826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EFD8E0-F1CE-46C4-A099-6324857F5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ABBED0-F63B-40FF-805B-E2544B35B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44A7A1-9DBD-4817-8215-AB77B50BA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144A70-991D-4BE7-878D-8461AECD9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76DBD6-1130-40A7-9291-E09602751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C19001-18F7-4615-9CE2-6F703BD41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34D7BE-85CB-4765-A16A-233640F22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B4216A-827D-4E58-ADAA-61BAC3F0F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456D7D-D87A-4577-A629-D46F7459D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B61667-F9EC-4AB9-BFE6-0B258D9F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6F4E-F1C0-4780-B39E-E6D09F467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E6C82-907A-479C-A89E-360595C1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916941-0BD8-4040-AA8D-B28A8974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0FB27D-46C1-4B5C-B511-034BEEDF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18BAA5-8DBD-4108-86BD-FC179D23E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144365-7202-4D87-9634-AEECA9439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052D52-DAD9-4A65-B7F6-7D1A8729F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5FF3A6-2F51-4897-A34D-EC38F55A8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ECE4C1-C9E2-448B-80AF-C7CEF92E2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AE6058-2D7C-4BA2-AEB0-8F26C4C0C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3F3565-114B-41D3-B6F6-4F8CF6225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4A9E6E-363E-4922-BF0B-39A669399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6EC21-24EA-4FB7-8D99-1589B941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854E34-3A37-4FDC-B88A-A5D9E89C9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CE6570-4842-4CBF-8D3F-E1783165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8FC7E7-8CCD-4564-91DB-7B36DF0B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E92788-01EF-4934-AF11-E99ABDDA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D16026-6773-4ED5-AE8C-5341E65CC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1C952B-2312-478A-8F35-855A433D9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A168D1-9579-49CC-B0AF-FF89E5BCD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6C2EB2-668C-45EB-8702-7666463BB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4AA7FD-7184-4F7F-933D-AF1792E0B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700D9D-6CC9-4C42-A74C-B418FFD9C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A2BD9-8259-4038-8997-6A47AE518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E5F6CB-50A3-43CE-A0BF-B225E1F65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4FD1F7-237C-409B-ACFF-201EE694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068603-FD66-4976-B6FC-1B65C3CB3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E02096-4702-49B0-9A6B-D1DA79BF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F35AB1-D3A5-4F80-93C2-F5ABEA92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B91618-D892-4FF2-BB1D-2C672347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D164D7-8916-4A48-ACE0-AD927F73F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D1B7AF-09B2-4819-B5D5-26E711C9A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680335-3860-41F8-A668-5CE3B6013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85D767-B777-4D71-B4F9-6E8B768B1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28841-5FC0-4BDB-A472-2C953F85C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924D3E-3D9C-4511-9AB6-9E6E46EFC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1E6CA2-054B-4D2F-BA07-89BBBE3BE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2BDAED-36C4-4C5B-BA8F-7987A536F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A28881-ECC6-4F68-B700-B24E2A019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939384-BB86-4BF1-9CBF-6CB3DF6F5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931ABA-A414-4927-BD0F-090B240F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325663-CEEB-4CE8-8CFF-3A6DA9B6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9C15E0-4B4F-4F46-B9B1-ACA782DC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E695FC-0B27-4E70-BF00-DA11F6433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C53EF5-D308-46B6-9534-4EDFC44E2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F73DF-FDCD-4040-8312-C7D2952A7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ED5323-F994-4B82-8158-507F2B012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2D635C-151E-4729-B0B3-1F6CCDA76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4A6834-D2BB-4811-A107-B4A978E25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2BA273-CB15-4CB0-8677-A4E15CD9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E220B5-3F8D-49E6-B256-69BE825E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811624-6006-4ADD-9CCA-300DD08FB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281F39-1BA0-4458-9D01-086B68B6C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D95646-15A7-4693-B85F-AFF2D52D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4F79AA-326C-4D34-915A-1297C2E8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FEE729-FE88-4F21-A021-F5933776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1D1A3-4618-436F-86B0-EDD8B7096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9E4D4E-0E6D-495D-8DB9-4ACCE0642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DF6FC8-C30A-4BD6-A519-4BC4CDCB5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E7FED3-C814-4008-9704-E2587EA02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1A72857-A601-488A-A446-0EC6F3051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BEF9AF-D179-47B5-9A77-1EF99E999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139D333-2C97-456B-9682-7CC7A4D66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C0C3491-FCE8-4743-A4F9-0D05210FD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1D0920E-CAA3-4897-808B-2643F4083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D1AD551-8846-459F-80E6-9CDC5A546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404BC8C-8088-4CDA-8116-11165311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768D4-0DF6-4CDF-8CA2-96262CCC7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D0669AE-763F-4B2E-90C5-58D6F001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60BB26-AE2B-467B-B57A-E445F257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1EDEBC-1FB5-496F-B0F0-A5D8CE547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B56E612-F041-4943-B10A-E67CC106C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3851A7E-B5DB-43F3-9A75-38477CBF1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ACDBC0C-B343-4495-9C90-418F94336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DC863C0-5872-4BDC-BE80-40DEC83CB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410D235-C809-48C5-9086-4BC3054D4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A05EBEB-C7C7-40E0-B7DE-B8B30E791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A717B10-E4A3-4724-AC56-74FE980C5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EC8DE-0EC1-4BF2-843F-1EFDBD7EA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1F4B59E-BBD6-418E-AAFF-E47E4DFBA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9D45325-2D6E-4988-A75C-95871519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C1BB4CD-0E94-4BAF-BAEA-6F0B8E93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7BD5EB9-CA57-46E1-B873-1999DD6C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A9CCB9F-A422-4F3E-BE5D-ECB6E9A3D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FEDE21A-6D37-4B8E-91FC-7E9050509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797DAA2-12DE-4375-9F00-A80B5EC8F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9626D-C47F-41C8-88EC-4C830AB27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050C2-BD15-43BE-97C9-53620DD6B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B376-224A-4308-909D-5527DC911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89D3B-95EE-48DA-A34F-1E929FC0E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956C2-ED70-45AD-B19C-7A65A2AF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6605D-49DE-4875-834C-E881280D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B4BB3-4219-4257-81A5-364E60E3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CF77A-64EF-4394-9C71-2CA88C08E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75CE9-EACC-4014-8800-F7471011F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98FE5-DD72-4465-9E11-4526D05E2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9214A-61A5-4CF8-930A-D2296BC4E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73CF9-E622-4915-B5F3-425D91062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3F785-EF85-4938-AF8B-44BA199F9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8C37-2034-4FC7-9568-5066A9A84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451B7-1919-434F-8715-B57CD8257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C28CB-8E7C-4E22-94E8-FA721A0CD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51013-D045-4FFC-AC4A-822384A18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321C1-43D5-4DD8-84B6-03A33881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E4689-C6F4-4F2F-A4B4-3897269E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FC58F-0847-4531-B159-408DA789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AF57C-D91E-4D61-8890-50948F179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AE56E-A95B-46EF-99E6-8097B15AE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29D15-2455-425E-B3DC-C43CBCD27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A04A9-28C1-4630-90CD-BB832A902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CC03-61F4-4EFE-8B59-908ACC728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265B7-89DE-45D8-8A8C-5E4E65725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373FD-8B74-4B07-BDC1-A83A93A83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309C2-917F-422F-8600-D9F880E5F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E4224-68C5-47EB-9C9C-52C42316A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92C9A-14F4-4D87-9ACA-B9EDC067A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BD190-5F7A-4CCD-BF1B-5FC04955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BAFCE-E246-40C5-BDB3-3066C856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51243-7AB5-4026-B2A4-27ACB094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8C5EB-7CC6-4B70-809C-5A434D50E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4F394-DCEC-4B57-A04B-CC35BBCB5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8974-73D9-4303-9C28-417A80B8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BC9D0-0B55-4A59-8C39-76BC5D1AD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E3AAC-5DD7-4E75-9A68-3F465BF0D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29340-BFFB-455A-853C-D7FB8A437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F4259-04C2-4F18-929C-CCAA5C6A0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76717F-B941-45D5-A611-8BA36D0BA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04E22-CCDE-4367-8BF8-C420EE64F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32013-CEE6-4AE3-A849-A25051DF0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6D36B-F8DD-4159-95DE-2D4D7634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A55AA6-E78F-4915-8B47-D674073D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861D6-9701-4AC2-AA0C-FF9C346A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3F9C-460B-4205-9059-9EA60A32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9E1DA-AE11-4681-8025-18533B74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D509B-FD7F-40E8-A0D2-0D4515202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B76AB1-5E8C-48DC-B54C-98DBB012A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3D2B09-F114-4E47-95D6-BFD8DC01B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0834A-0988-4C73-BF09-B37CB729B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83364-DBC3-485E-A166-10A86C407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85E1B9-831B-41D8-832A-DABB53662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EAF11-188D-404B-9946-7954AD4CB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376032-92AD-435C-B3B0-CD9831788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85DD7-2596-4E3F-8391-CC472372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F22C-38DC-43B6-8275-B687FB34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CA36D7-E035-4C8F-B0BB-BC8410EE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42230-930B-423E-AEB3-BFC42FF1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32BF6-4AFB-4DBA-BAD0-A6A05AF2C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AA88A-5BF8-411C-AD82-B3E4ECCED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71E44-713E-46DE-83CA-ED78E10CB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8998F1-9CA7-4052-9041-36A0830CF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6CD52-CE2D-418B-BD52-6345923FA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433FAA-DD99-4205-BF3F-D61117163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548090-C1E3-439A-93D0-102A7B50D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01C71D-C1C2-4F00-8F83-74A8322A6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A842-9E1E-490A-8A76-848FA572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E9ACB2-1BB2-44F8-9623-5C04F0B4D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224F5B-00C0-46F6-9268-AA176D33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1B992E-4087-4A15-B736-03B74147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113157-8793-4F22-A525-F4F9EC18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E6726E-6F2B-4AF8-A97D-2FE6BB640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750A80-293F-4AC8-A1FC-0C7C245A4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5BC9A1-23E2-442C-96DA-381B8E7D4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0ED069-7712-4950-B824-A17CFC58A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7BAD1F-839A-4EC6-8A82-2F73569D7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25FB4E-C3D1-4007-B4D4-90D479739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9B3F8-9F67-4A30-BABC-7978B9BA23D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16C98-4DD7-4EB3-B30A-E05B89B6F0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95843-7F44-4E24-8467-C68B22E32E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8692C-C2DB-47E1-A7C7-894D92B9A2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E5B7A-D863-454B-936A-530FA90805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E0552-B422-4152-A6B4-719B69C15B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A9FF5-322B-499B-9FF8-2B7024EA99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26947-8F70-43E4-9CD7-665BF87599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7C18-A9CE-43A0-A7FA-89D0C745C8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18EF0-ED2E-4F17-AA51-811018DF13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E8F39-0B69-41F5-9816-87E3F8352B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2CB31-B581-45A6-AA54-470ABFC6A0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A1E98-EFBE-4530-A4E5-3B8B111704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AF7D7-FD33-4192-872B-307BA19B6B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08253-7BB1-4DA2-BAD2-F0301167EC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2C05D-DB61-4F23-B73B-5ED450DAC5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3DFFA-5ED6-4A6E-B1DF-76310794BA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E246A-92C2-42D0-9252-D9F5E5F584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A4AF3-709F-430E-BD41-A362BB26FB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898C-D2C5-40F0-B5BA-3BF3D51A53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36F5-E894-41F4-A909-04B740A5FF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F639A-FF04-437C-A089-A19094D1C3D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4126A-3607-4D6D-A827-3CA69F98E8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DF01C-F25D-4A02-8284-714163389A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425AE-9709-4E09-BA56-5E75ABA338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A6C77-4F23-4ADC-B88B-AD599A9288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ABABF-83EF-4033-8DCA-1E8347BEB8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72167-BA6E-49FA-9F1F-CB7483CA90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B14D8-13FC-4FE8-B5B5-72E881B693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72825-0371-4D19-B43B-D87F67E829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20C34-F006-4938-8481-B21E457F7D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30277-818B-4ED1-9519-AC8C812AB6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1E06A-34C2-45D7-8D75-AB8FED18F55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83280-E6F1-49F0-8AB9-CE299AC3691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D2DF8-82C4-4308-BE72-97F113C8CB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B14FE-5DEF-49F3-93BE-1780011E21C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324EB-6D09-4032-ABDA-E881579775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8FA96-F960-4BAE-B976-C8362A3AB9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DD942-9BCF-4AF9-B91D-9746F43346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707B9-1802-4AF1-8BE7-9AD07FB87E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3D7D6-F529-4087-8D6C-6C9E5C8B62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D05E4-519C-4D52-88C4-56EBD4C477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120600" y="2878200"/>
            <a:ext cx="890280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图片 1" descr=""/>
          <p:cNvPicPr/>
          <p:nvPr/>
        </p:nvPicPr>
        <p:blipFill>
          <a:blip r:embed="rId1"/>
          <a:stretch/>
        </p:blipFill>
        <p:spPr>
          <a:xfrm>
            <a:off x="571680" y="957240"/>
            <a:ext cx="8124480" cy="56674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2"/>
          <a:stretch/>
        </p:blipFill>
        <p:spPr>
          <a:xfrm>
            <a:off x="1258920" y="3357720"/>
            <a:ext cx="5473800" cy="44748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3"/>
          <a:stretch/>
        </p:blipFill>
        <p:spPr>
          <a:xfrm>
            <a:off x="1332000" y="4005360"/>
            <a:ext cx="5473440" cy="4474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4"/>
          <a:stretch/>
        </p:blipFill>
        <p:spPr>
          <a:xfrm>
            <a:off x="1332000" y="4724280"/>
            <a:ext cx="5473440" cy="44784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5"/>
          <a:stretch/>
        </p:blipFill>
        <p:spPr>
          <a:xfrm>
            <a:off x="1332000" y="5445000"/>
            <a:ext cx="5473440" cy="44784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6"/>
          <a:stretch/>
        </p:blipFill>
        <p:spPr>
          <a:xfrm>
            <a:off x="1258920" y="6093000"/>
            <a:ext cx="54738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276120" y="1428840"/>
            <a:ext cx="8591760" cy="400032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1258920" y="4292640"/>
            <a:ext cx="3457440" cy="44748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1258920" y="4869000"/>
            <a:ext cx="3457440" cy="44748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5586480" y="4307040"/>
            <a:ext cx="3457440" cy="44748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5"/>
          <a:stretch/>
        </p:blipFill>
        <p:spPr>
          <a:xfrm>
            <a:off x="5586480" y="4883040"/>
            <a:ext cx="34574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1" name="图片 1" descr=""/>
          <p:cNvPicPr/>
          <p:nvPr/>
        </p:nvPicPr>
        <p:blipFill>
          <a:blip r:embed="rId1"/>
          <a:stretch/>
        </p:blipFill>
        <p:spPr>
          <a:xfrm>
            <a:off x="485640" y="2257560"/>
            <a:ext cx="8172720" cy="234288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2"/>
          <a:stretch/>
        </p:blipFill>
        <p:spPr>
          <a:xfrm>
            <a:off x="611280" y="3068640"/>
            <a:ext cx="3456000" cy="44784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3"/>
          <a:stretch/>
        </p:blipFill>
        <p:spPr>
          <a:xfrm>
            <a:off x="684360" y="3645000"/>
            <a:ext cx="3456000" cy="44748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4"/>
          <a:stretch/>
        </p:blipFill>
        <p:spPr>
          <a:xfrm>
            <a:off x="5146560" y="3068640"/>
            <a:ext cx="3456000" cy="44784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5"/>
          <a:stretch/>
        </p:blipFill>
        <p:spPr>
          <a:xfrm>
            <a:off x="5219640" y="3645000"/>
            <a:ext cx="3456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6" name="图片 1" descr=""/>
          <p:cNvPicPr/>
          <p:nvPr/>
        </p:nvPicPr>
        <p:blipFill>
          <a:blip r:embed="rId1"/>
          <a:stretch/>
        </p:blipFill>
        <p:spPr>
          <a:xfrm>
            <a:off x="190440" y="992160"/>
            <a:ext cx="8763120" cy="529596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2"/>
          <a:stretch/>
        </p:blipFill>
        <p:spPr>
          <a:xfrm>
            <a:off x="826920" y="3213000"/>
            <a:ext cx="5832720" cy="44784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3"/>
          <a:stretch/>
        </p:blipFill>
        <p:spPr>
          <a:xfrm>
            <a:off x="900000" y="3789360"/>
            <a:ext cx="5832720" cy="44784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4"/>
          <a:stretch/>
        </p:blipFill>
        <p:spPr>
          <a:xfrm>
            <a:off x="900000" y="4437000"/>
            <a:ext cx="5832720" cy="44784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5"/>
          <a:stretch/>
        </p:blipFill>
        <p:spPr>
          <a:xfrm>
            <a:off x="900000" y="5013360"/>
            <a:ext cx="5832720" cy="44748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6"/>
          <a:stretch/>
        </p:blipFill>
        <p:spPr>
          <a:xfrm>
            <a:off x="684360" y="5661000"/>
            <a:ext cx="5832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1" descr=""/>
          <p:cNvPicPr/>
          <p:nvPr/>
        </p:nvPicPr>
        <p:blipFill>
          <a:blip r:embed="rId1"/>
          <a:stretch/>
        </p:blipFill>
        <p:spPr>
          <a:xfrm>
            <a:off x="262080" y="766800"/>
            <a:ext cx="8619840" cy="532440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2"/>
          <a:stretch/>
        </p:blipFill>
        <p:spPr>
          <a:xfrm>
            <a:off x="971640" y="2867040"/>
            <a:ext cx="5976720" cy="44784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3"/>
          <a:stretch/>
        </p:blipFill>
        <p:spPr>
          <a:xfrm>
            <a:off x="971640" y="3500280"/>
            <a:ext cx="5976720" cy="44784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4"/>
          <a:stretch/>
        </p:blipFill>
        <p:spPr>
          <a:xfrm>
            <a:off x="971640" y="4076640"/>
            <a:ext cx="5976720" cy="44784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5"/>
          <a:stretch/>
        </p:blipFill>
        <p:spPr>
          <a:xfrm>
            <a:off x="971640" y="4724280"/>
            <a:ext cx="5976720" cy="44784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6"/>
          <a:stretch/>
        </p:blipFill>
        <p:spPr>
          <a:xfrm>
            <a:off x="684360" y="5373720"/>
            <a:ext cx="5976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图片 1" descr=""/>
          <p:cNvPicPr/>
          <p:nvPr/>
        </p:nvPicPr>
        <p:blipFill>
          <a:blip r:embed="rId1"/>
          <a:stretch/>
        </p:blipFill>
        <p:spPr>
          <a:xfrm>
            <a:off x="185760" y="847800"/>
            <a:ext cx="8772480" cy="516240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2"/>
          <a:stretch/>
        </p:blipFill>
        <p:spPr>
          <a:xfrm>
            <a:off x="971640" y="3025800"/>
            <a:ext cx="5905440" cy="4474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3"/>
          <a:stretch/>
        </p:blipFill>
        <p:spPr>
          <a:xfrm>
            <a:off x="1042920" y="3645000"/>
            <a:ext cx="5905440" cy="4474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4"/>
          <a:stretch/>
        </p:blipFill>
        <p:spPr>
          <a:xfrm>
            <a:off x="1187280" y="4292640"/>
            <a:ext cx="5905800" cy="4474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5"/>
          <a:stretch/>
        </p:blipFill>
        <p:spPr>
          <a:xfrm>
            <a:off x="1187280" y="4941720"/>
            <a:ext cx="5905800" cy="4478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6"/>
          <a:stretch/>
        </p:blipFill>
        <p:spPr>
          <a:xfrm>
            <a:off x="611280" y="5516640"/>
            <a:ext cx="59054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图片 1" descr=""/>
          <p:cNvPicPr/>
          <p:nvPr/>
        </p:nvPicPr>
        <p:blipFill>
          <a:blip r:embed="rId1"/>
          <a:stretch/>
        </p:blipFill>
        <p:spPr>
          <a:xfrm>
            <a:off x="204840" y="1600200"/>
            <a:ext cx="87343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图片 1" descr=""/>
          <p:cNvPicPr/>
          <p:nvPr/>
        </p:nvPicPr>
        <p:blipFill>
          <a:blip r:embed="rId1"/>
          <a:stretch/>
        </p:blipFill>
        <p:spPr>
          <a:xfrm>
            <a:off x="547560" y="952560"/>
            <a:ext cx="8048880" cy="495288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2"/>
          <a:stretch/>
        </p:blipFill>
        <p:spPr>
          <a:xfrm>
            <a:off x="611280" y="1065240"/>
            <a:ext cx="7993080" cy="113976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3"/>
          <a:stretch/>
        </p:blipFill>
        <p:spPr>
          <a:xfrm>
            <a:off x="1258920" y="2421000"/>
            <a:ext cx="4825800" cy="4474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4"/>
          <a:stretch/>
        </p:blipFill>
        <p:spPr>
          <a:xfrm>
            <a:off x="1258920" y="3068640"/>
            <a:ext cx="4825800" cy="44784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5"/>
          <a:stretch/>
        </p:blipFill>
        <p:spPr>
          <a:xfrm>
            <a:off x="1116000" y="3789360"/>
            <a:ext cx="4826160" cy="4478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6"/>
          <a:stretch/>
        </p:blipFill>
        <p:spPr>
          <a:xfrm>
            <a:off x="324000" y="4479840"/>
            <a:ext cx="8280360" cy="12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图片 1" descr=""/>
          <p:cNvPicPr/>
          <p:nvPr/>
        </p:nvPicPr>
        <p:blipFill>
          <a:blip r:embed="rId1"/>
          <a:stretch/>
        </p:blipFill>
        <p:spPr>
          <a:xfrm>
            <a:off x="195120" y="824040"/>
            <a:ext cx="8753760" cy="581004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2"/>
          <a:stretch/>
        </p:blipFill>
        <p:spPr>
          <a:xfrm>
            <a:off x="900000" y="3268800"/>
            <a:ext cx="6264360" cy="44748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3"/>
          <a:stretch/>
        </p:blipFill>
        <p:spPr>
          <a:xfrm>
            <a:off x="755640" y="3933720"/>
            <a:ext cx="6264360" cy="44784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4"/>
          <a:stretch/>
        </p:blipFill>
        <p:spPr>
          <a:xfrm>
            <a:off x="755640" y="4581360"/>
            <a:ext cx="6264360" cy="44784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5"/>
          <a:stretch/>
        </p:blipFill>
        <p:spPr>
          <a:xfrm>
            <a:off x="755640" y="5300640"/>
            <a:ext cx="6264360" cy="44784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6"/>
          <a:stretch/>
        </p:blipFill>
        <p:spPr>
          <a:xfrm>
            <a:off x="684360" y="5978520"/>
            <a:ext cx="6264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10:17:12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