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9F8-8875-40C9-B7D5-143F5B5E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67B-2E1C-4212-963C-00285BCD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25BC6-7FCE-439C-846C-9014CBB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5090-4AB2-4CA1-A56F-5F00066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29CA-4459-4991-8C6E-0ED76F0C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AB57D-5AD5-42BF-8776-FD9A051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38304-9CA1-4994-B86F-CD2E97A1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62102-9B6F-4B8D-9BBF-DEAD370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BE0B1-10BD-4B68-BCE2-CFBF4C1F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9A953-E59F-4748-90A3-6BC23F12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7A9AA-1C62-4146-B3BC-1A46BD3C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76BC3-2B7A-4CE6-86BD-3C0E07CC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9D8-3A85-4A32-B527-8ED24E80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B12D4-A958-455C-BE16-1E91F61B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76985-1B4E-49D4-9A60-91CE73FA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EA9D3-DB19-4A1F-BE33-889EF72C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D9B59-26BB-4BD1-BDFC-A1CDB20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B90A3-A288-4D67-A4AF-EBC2958F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B56F5-3AC2-4016-B818-E7C4646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4755-C3B9-4A8D-A33B-02D2279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B7A7B-3F32-458E-98F4-3AE16F6B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65713-6265-4A2F-BAFD-9945AE8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C03AB-2B36-46FA-96C7-9DC3CEEE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BCD-B6AD-430E-A4F1-9CFF2ADF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04049-1B45-47BA-827B-2DB8BA70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B491-9535-4A90-BF31-020D0B95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CBF19-3E78-487B-ADDE-DDB2799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4D961-CF1E-489C-9240-74C9D1CC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3CE68-761E-4B60-AC42-A1BCCC19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555CD-BB63-4034-BE9F-D4BD8C4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13822-9C09-4BC9-833A-68F0B63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0263F-2002-4865-AA15-691726E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5493F-A91F-444D-A4E5-6B9365CB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D1B21-B171-4E1E-86A8-B4E1B52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0675-B60C-43C1-8A58-029F555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670C8-28CE-4A31-BF91-6CC36042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A1AC-F61B-4168-A10F-D7925129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A0569-800D-4F91-9137-3C94D0D0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F9222-286E-46A3-BF32-1309815C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37FC2-6440-4870-AF48-617A5E59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3A5EE-04CC-4D0D-BB4F-D4EDD3FC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CD035-47B0-4721-85DC-E787A93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23B4A-67E2-4970-90B2-1316338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E738D-E978-4F1A-8A2E-62E6F45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E59A8-CB61-4801-8746-9A0D65E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6DE-964A-4B53-9D1E-817C9BCB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F4D80-0096-44CD-97E1-225B6F5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C0479-39DE-44CD-AD3F-E0B680F9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122B3-B5CC-4F6A-8821-E99390D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4E55D-589C-4BD9-9DCD-4D461E1A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57C83-E9E9-46ED-83E3-3E767557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D6C19-F48D-457D-BD26-24ED012D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1CFC1-AA77-4F95-BDA4-BC9A0BC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5CFC7-50C6-44F4-9B5B-8A2FC8A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B68B7-BEA6-440F-837C-67931783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BC459-5E1B-40ED-AEF1-D622EA9F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159-E465-4681-B85B-7B066B6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6D0AF-770B-40EB-9E2E-EA0E82F1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4DDF5-A10F-48D6-8100-DB603332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66BA4-17A8-4A02-9C9F-8E3B6D74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722FE-4413-4906-95E0-4798394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F5CFD-BCAE-4E61-A729-B007D1D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8B444-15BC-4BC6-9B0F-455E656E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40BA9-12B2-4EA8-8AFF-453DE6B0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AD0EA-F3DB-4242-91CB-85FF2A15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2B9B1-2FEB-479B-AFE6-BA43A20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BB545-1A8B-463C-929B-6ECADF5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7247-AFE3-4B4F-B860-C7F5899B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6E5B8-EF17-4C6D-B519-036C55F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8CAD0-1052-4312-9BCC-2A296F9C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495E1-16DF-421F-9AA8-FB82247E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5A9CF-DD91-4639-B467-9F310D7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00328-0F7B-423C-A3A6-8D193AB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CA4BF-9CA4-4387-B8AB-DAE94B7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9CED3-BDB4-44D1-8E52-117502A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92F82-A0E0-4825-8BEF-49B486A3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1382E-3956-41FF-ABAD-15C50DAF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90B17-238C-480E-9584-B9BE7BE5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A0FA-EA36-46CB-921D-C638949D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B83D6-D46F-49F4-A3A4-26810274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BE838-8C9A-4590-A17A-53A5BCA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94B61-870A-4574-A019-64A8CB7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8170E-EC4C-4A91-BBD0-472249E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5F502-97B7-418D-A22B-595E55B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EAE8E-7452-4966-A5B5-3699F83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F4D33-33E2-456D-A650-C769B5E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5ABED-6F51-4FA5-A128-F68D0F72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BCEBC-51F6-4B8D-A185-2AB173B4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4C4CD-1511-4B32-B271-892DA3DE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C444-B1CE-47E8-98D6-A6FC6A73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F1451-0663-454E-B2DE-D783AEDB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51EB5-B9B0-4636-BE9F-8F81B143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CB1C3-EC65-48E2-AB41-26D489C2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61090-4D74-40FA-950A-2002A9E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496E9-6D30-4D0D-8D8E-6812C132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5D381-52BD-4468-AB5C-094F29D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33C6E-5EC8-41DA-8699-EA95F13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628A9-36DB-4B5E-AA2F-3A5BB3C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0742A-F9BB-47DC-89B7-0AA0BDC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B2CF4-31AC-40A5-8BE5-C486CA7A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1D37-EECE-4596-89BD-57220838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452FD-9B1C-4720-BF8D-526AAEDD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E6D94-B226-4A78-B8BF-A0082DD3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7FFEB-6A3E-4C46-9720-3D40CF0F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82454-BE71-4074-8DA1-CF54E4FA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19809-4012-4C84-8F49-57869DA8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16BEB-17E8-47E9-ACBE-AD126222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B98A6-160C-42FF-BCE7-FBE797C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9725A-9417-4962-A9A4-96DC33B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51B45-3C54-4FC8-A61F-AC7DC2F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17707-B7AF-48BF-A784-435FFD4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D56-6EDF-4332-89EE-BFB0CA50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6EEB-68B0-405E-A767-2415C1B3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78BF1-A117-471A-A1E1-8291755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FB24F-83B9-4424-9C8E-680F951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5F233-1D11-4EB1-97CA-B95257C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63393-339D-405C-AA5B-1053686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A5729-DE26-480D-85DC-1EA34112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16F1B-072A-474C-B9DA-0FF14415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3A7CD-3B1E-4B7C-B9A1-7347DD59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973F4-D7F5-4EED-9042-395AC98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28A19-1CCB-4C6F-952B-FC260173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B2F52-772C-46D4-BFDB-8AD529C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B8B-4F7E-4C12-911C-5F9060D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5662B-6F48-49A2-BD90-2160483E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4F014-8ECE-479A-AB6A-22B13A4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41EEE-C266-4B11-BCE1-6EEE217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C78D5-7DD9-4144-83BF-FF3002E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4EDD8-60D6-4AA5-8387-F3D2C1DC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6B59F-FB5F-4798-829A-76696845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5CF91-983B-4C3D-B5C4-610EBC61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44354-63E9-4422-B489-D8764BBE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FA083-0CF8-4D6F-A0D4-9D84A08B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DD1D7-C171-4B61-9F98-573EB77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E34-C411-4AF3-85F1-910762B9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31B5C-D04D-44E2-84B2-40622279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17CB5-7852-4341-BEE8-CDF92D3A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0B2C0-C5FF-45F7-A484-A92FA70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5EF56-9A16-42E4-9DED-7F63048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432FA-DDC3-46AF-BD46-C93B708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554C4-F442-46E9-96EC-CFBC8A7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A230E-7A2B-4647-A5E6-E6B6146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35D7A-7AB6-47B5-A63E-950F76E0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A7068-410B-4CAF-9FE9-09FB35FD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E921E-2D70-421C-BFB0-AE91FCE2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9F39-F06F-4BA5-8711-A7D46FC0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34DAF-E197-4202-8A04-E2E8059F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A81D2-21D7-4A85-A7D4-704E29BE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75D23-C6B6-40D1-8526-EFD53E9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AEF50-C745-4192-A5B0-2326B85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8996B-6B60-4674-8EC5-254D4696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0C046-F465-47AF-A466-F71B353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7E531-63EF-4D5B-B46E-A2AC04A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FE36E-F813-4BDC-80A1-7FDC5A5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F02F6-41B6-4BFF-AEF5-85CC3EB4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A674F-C447-4E0B-AEE2-7B1A2755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5BC1-616B-4728-81B7-F2E87AD9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62F73-C175-4396-8C43-8590608F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973E5-2296-438B-B4C9-F635ABCA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2A7AB-2FBD-4274-95FA-6645F2F9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9F2FC-3CEA-4287-BAFA-BA69149F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C8FF6-B254-4AE1-ACF2-9A95631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B5BC6-BED5-496E-98C0-465ECCC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43A09-466C-451F-B8CA-C69B567C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3C2EA-C519-4CC4-897D-4AAF4D4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360B5-B180-4EC3-B407-18BA233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3C658-7AE4-4235-AA2A-4B89DC2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BBE3-D3BF-428F-8E74-B2B8E3CA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3628B-5BFE-40B6-92B7-2937A8DF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2FE38-135C-4E3F-B21C-912EF1E8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C3D37-8C93-4DB5-A4E0-37BB0EB2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E8EC39-4920-4D2A-A36A-0E0FDC12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A0BC5-3F0B-407A-804F-0C5EC131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D7798-4869-4DC3-BDB4-EA11F4DA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13C85-46DA-4EF2-B96D-74F2AA8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DC9AA7-088B-4704-A920-3A7CD59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1F0B9-FD57-4471-82C6-662EF02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AEA8D6-F7EE-4460-A01A-924DD90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AEDF-44EF-4BEE-BCD6-C6C8066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55C97-7C9A-456C-8DE0-CF18653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0A07F-D7D6-4002-9698-5E7348A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EC168-1164-49C4-A03C-8689B0E6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ADB774-0989-4E65-8908-186F8009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8C9BB4-4AEE-4A2B-B50B-4C34196A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E98E20-DA3C-4B57-8402-F0E5B8B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287EF-EAC3-4A42-84E3-E193E2D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29319-4021-4BA6-8EB6-96CBB405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BBEBB9-401B-47FA-9AAD-74BD8D8F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C2E10D-D62F-485C-91B1-6B158B1A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1063-8B79-4113-B454-0812CBBA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0E3D84-658C-4788-B78B-991F2A5B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D500A-6025-4234-8635-683C34D2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739C4-CFF7-4E9A-AE3E-753E689A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5A6B8-0684-4C38-808A-BCA409F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D3DD1-5618-41A4-B6B3-1CEAF98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26FA4B-B66E-452F-B899-4D677F5B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EFAAF0-41C8-4912-A0B4-17FD873B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2AA9-405F-4B8B-87BB-D950C77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4356-065E-4B1B-9764-AB71359B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048-F0C3-4E3F-9484-458F4D8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B970-EEA7-4388-9237-557A6056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896D-BDF5-473F-9F15-F87E396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3C84-A321-4474-95BF-682C337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2234-00CB-42BF-9E03-2C30635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F105-83CE-4FE7-8FBB-8354DA5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B577-C227-4732-B477-0D1CB0BA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6533-2D9B-4410-A757-81A31AB1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07EF-0581-4872-AAAE-EB5A7C0D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0BEB-D806-44A9-B856-438BAC42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ECB38-31BE-4138-814D-1591DCD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02F-AADD-4246-8FD5-316DE37A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70B6-453E-4990-9092-FC2FD957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881C-7F91-4CC8-A7F8-A7ADDFD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69D4-B7C5-4911-A018-A0BE655A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65EF-3166-4F12-B44C-2EDA642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143F7-ED37-4534-965F-C9B2705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6D29-9E9D-4BBB-AC96-DB793EB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464D-CD7E-43D1-8F2D-201A3F30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B11F-2CED-4AFC-892E-97359CEC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15B0-93F8-48F2-8960-B2036DE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9B10-B1BA-468E-B494-BFEA06B2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2A8-81F4-4362-B727-62CCCC8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518A5-951C-4CF2-9CBB-E91CF2E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409F-2253-404F-AAB4-6098396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E560-9577-4830-9ED4-5E83A92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9F50-EC9C-4C9D-BAF9-27ECF9A1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54AD9-614D-4AE9-9A16-99D2F68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16A1-4536-488E-82CE-B8F217F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B24DF-545B-45FA-87AC-5F320E16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1F2B-3C93-436A-A13B-57DD51C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D990-7FDF-44C9-9C48-C3872DFC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F3D8D-DF42-435E-9590-6AF9B962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D06-4EC7-4F51-A41B-EC84FE4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2D71-C2C1-4F4B-9AC6-9C3EEE5D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7055-88FF-4E26-BFE4-2C8D9833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F9121-7C2D-4B7C-99E2-BEFED9C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ADE40-5C48-46F7-933E-DA27F77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011A-9F43-4EA6-AFC3-37D6397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EBEA-5F21-4995-AE1A-2B76F1D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F0A4-7144-427F-8E63-08BDF62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E5B08-7451-49A0-B397-DAFFBB9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97D72-510B-4038-8A80-046D8166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BCDE5-63FF-4928-849A-07BF9DA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365-7414-4F87-99C3-A83AE63F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45A6-2E99-456F-98EF-9E3EE60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053CE-4596-44D7-A919-8D664575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78F12-87D7-415A-9C23-96091F84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D208-611F-477A-968C-12F7A479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AC9C8-3219-468D-B41C-4C2AB63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DF55-21B7-4203-B3AF-3EAF7732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3326C-301E-4D65-9FCE-36CA907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1963-6770-41A4-A1C1-EFC4EB55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85C6-6332-4807-A80D-E1B24233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9CB6-7553-4D69-BEF3-72F548D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0F3-5069-4B4F-9D98-A888B9C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F57C-1641-44AB-B164-5B4BD05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5732-7EF9-4670-B88C-F02E476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BAEB-CEC6-46A1-BACC-B800BF37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72B08-B093-4C96-9AAF-0B81721A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7BF6-D822-4817-97B5-4E950B4B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9A895-90F2-4744-94B6-6B647553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3BD4B-7750-4A14-B06A-9CF47E90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0ECEF-CBCA-48DE-9EFA-1A8FB12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0234-C4C3-4CDB-836B-E93C2EB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7BD4-CA86-4491-A11C-5BB313C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6B3-570F-4392-9785-D740EF9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0000-ED8F-48E3-9041-1453739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A40A-32B9-4206-A0E7-4AB5D60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EC07-35C8-4221-8DC5-A1716098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E9F8-F5C8-47BA-A2D2-9891E1A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43121-A039-4011-8D8C-EB5AFBE1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18FD-1B69-4D6F-9FE2-E4134A73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6775-028E-4E10-A1C4-50AEFF1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8CF53-8060-4B7D-B42C-76297C92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F4E77-C27F-43FB-B06E-D20A5FF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F4D3-EBEE-42EA-AAFD-D7CA107A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049-4CAD-4774-A46E-81DB00226A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B84-5588-4787-A83D-C486FF852D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E93B-79F2-47EF-8ACE-750C5E864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7CA-F4A7-455A-B0CE-E9F8C149A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A182-FA1E-47CF-A762-439A228E82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511B-F0B8-423E-9A0E-7215AA19D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0AE5-C08A-42B1-942D-0F40AC89F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A74F-3E8C-43B9-A774-FC2BA0C9E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E0A5-2F4A-407F-B0D6-A58C7A184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662-4972-4F7A-9080-385D7BD55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B7B-A36A-4294-9A15-3265609A4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2CB-6A47-4A61-963F-13F352F8D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57EB-D4B2-40BC-BA0D-69D166FFE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F6D-79F5-4804-9C77-566241C2CB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44A-9632-472A-A73B-636308FE2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6046-EEF2-4EA0-A34A-BE83EE7FB2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B4F9-F8E9-4CDA-9595-8A5C364DD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F09-A815-440A-B831-84123BD21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EFB-8740-487C-B289-D99AE41F8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EEE3-9454-41A2-A978-1AD83EEA2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0B9-D3EC-424D-9063-2B28638B76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8EB-1E71-4421-A9D0-479DBCDD36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D0F5-CE7E-45A7-A49F-1982D851F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BDB-4536-4819-A58E-640778CE5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A491-17D0-4AEB-A19D-914D17F704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2058-4FAA-4912-9B64-59EC70F75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378-C1C5-4E84-B251-2B335AD7D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CCB-DFB1-43B0-9E7F-C91E33031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09A-D0E4-4901-83EB-8355796A6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03EE-0337-467C-AE40-36EA53B1D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6917-85AC-4570-9FF3-4BEBBCCE8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C92-C2A6-4444-B3F1-F47CD9A48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973-2C07-481C-9EFD-859B32719E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568-04AE-47AF-9242-52FC8A2193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D3DE-0E74-4935-9178-C8C095273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9A4-5200-4D50-B5FF-E3D3B283A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CEB-A733-49DC-9097-2B7CA3B67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0F14-214D-42C5-891C-49A13230D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998A-28FD-44C2-B216-F89BFED43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25B0-F339-4F78-8CCB-EA2A33172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7D73-1F1D-4748-BD32-500D4F66E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BB29-A56D-4483-B3A5-D86356BE5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7240" y="2776680"/>
            <a:ext cx="90295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2560" y="1406520"/>
            <a:ext cx="9040680" cy="18334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1200240" y="3483000"/>
            <a:ext cx="6743520" cy="22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2973240" y="184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132000" y="2421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5508720" y="1844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8632800" y="1844640"/>
            <a:ext cx="4399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8288280" y="2363760"/>
            <a:ext cx="8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3276720" y="4076640"/>
            <a:ext cx="82692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3089160" y="4724280"/>
            <a:ext cx="8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6199200" y="4048200"/>
            <a:ext cx="8269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5608800" y="4681440"/>
            <a:ext cx="82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905040"/>
            <a:ext cx="8743680" cy="5695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804000" y="551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325600" y="609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866880" y="2324160"/>
            <a:ext cx="7410240" cy="22096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780000" y="29671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556000" y="3846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901800"/>
            <a:ext cx="8763120" cy="5343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720720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7236000" y="436572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833400" y="668160"/>
            <a:ext cx="7477200" cy="6048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692360" y="620856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00160" y="1285920"/>
            <a:ext cx="8743680" cy="4286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908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979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692360" y="501336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28560" y="934920"/>
            <a:ext cx="7886880" cy="5448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76364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763640" y="4522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763640" y="51721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23920" y="733320"/>
            <a:ext cx="8696160" cy="58006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2291" descr=""/>
          <p:cNvPicPr/>
          <p:nvPr/>
        </p:nvPicPr>
        <p:blipFill>
          <a:blip r:embed="rId2"/>
          <a:stretch/>
        </p:blipFill>
        <p:spPr>
          <a:xfrm>
            <a:off x="1258920" y="3230640"/>
            <a:ext cx="7095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95120" y="1380960"/>
            <a:ext cx="8753760" cy="4096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0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