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A7E-1096-4595-9A67-52B5D18D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CF9-0F60-4D28-A759-C7248BA9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9857F-C072-425E-9E86-E5A7E72F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53257-2AEE-4D46-BD02-3683AAE9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7C5CC-5022-4FD5-B2B1-708D5225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835E7-953D-4D4B-A2D7-D4937A39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9CC9C-BBDA-452B-842B-14A3CCA6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4F5D7-995C-4DC5-9DDB-09409D61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1916C-58E0-4DB2-84C3-BE24C877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620C0-F518-4112-869E-A41F8DE8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06CD8-5C6B-4A4C-A009-889FF27D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BB87A-24DC-4E14-AA7D-B3B25A28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237-761E-42BA-89DA-153BCB32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E24A2-C3AD-4373-8815-1FDC0064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9EA18-587C-4B48-983A-716D3BB6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428C6-1098-42DE-A3D2-B82BEFAD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DCE65-D0A5-4227-AC08-1B9C2F49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92F2A-1000-42BC-9E4D-3F143F82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7498A-4675-4C0A-8EAE-A1A02141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B9CD2-2EDA-4CA7-95C5-52C1B31B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AA79CD-F138-41BD-9413-099F1BEF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38CEC-4C68-4D9D-B3BB-2147F94A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075A3-1069-4D9D-8F11-5834A8F3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D8F-727A-4815-A2B9-C920D5FBF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CEDF3-1D4B-434F-AC7D-D6EB8832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5C136-5E42-44B1-9BC2-AF3FC509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5B8F2-10AA-46BE-BCAD-A1A4CDBB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D94BE-3990-452A-98E8-43389918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FE1CB-103A-4971-A47F-F673DB8B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4D1F0-6096-44B6-BEDB-37BF8F9A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6FC2D-896D-4A71-971A-BC1AEC26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33ED4-95F4-479A-A830-E4BF259E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98EAA-F9A9-48E4-BAFE-478F4DF5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02766-5AD8-4046-ADB9-74E6892B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22C0-1D49-4AC7-939B-DED017EFA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9398E-345D-45EA-B4AA-EE9D3C28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07C90-8D45-49B1-A694-23AD1100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5A1DA-4398-4259-960C-E1E3D587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74AA6-723F-4A3D-A046-581AE092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4EA86-6AA1-45FD-B064-CDFFF281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1D6DE-A36D-4976-8209-E5CC7554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63C9C-AB23-4A6B-A6D0-24D79690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06D7E-EA82-452E-B88A-88799D1D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5164B9-93CE-488E-9CEF-9CA3D445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19B41-7FA8-4AE9-8B2F-AA7FE021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908C-79B8-49FD-A33C-42EA0B37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2E63F-5CD7-453F-8373-FD81A602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15A77-D9DA-41DF-9076-5D74535D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4F7DE-C1CD-4E0D-A46A-C7601ACD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1348D-2077-4875-81F5-187137B0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697B3-006D-4D1C-A73B-A3788A43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2FABC-E1F4-4002-B582-12FE1647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C5910-AAA4-4394-8D63-88B41A50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0D9BFB-23DB-4943-9FAA-98486EFF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16E34-47E1-4949-8B56-0A69C6E5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3DD8E-E5E2-411F-9A94-68E6F980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5DB9-B2F8-44E8-BC26-623A8F16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FADE4-67D8-4BD6-AC56-81100F69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04CF4-67D8-496A-910C-321A3601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3D4033-34B8-4C4E-ACFE-7376227B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2CAF6-457B-4935-8F5C-B6E65E81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B6BED-8E8F-4133-A7D7-BBE2CC6F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9000E-992C-4E75-BEC2-238B956D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BC166C-C3DA-4A8A-A2F1-66AE3962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CA5E30-9036-4371-BEA0-86CF101C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74DAB8-F200-41B2-9E8E-C1087C01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263459-7934-40DA-A121-1B0FE441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70DDB-0405-411F-967E-1A31AE9D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98BA5-2D84-44CE-B283-CD9DF17C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27C77-B4AA-423D-9CBA-D438C7F6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BBF0F-CB0F-47D2-B0BC-414E38E7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1EBE7C-E704-4AEB-A9AB-E8737083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85058-8075-4F6D-BA1C-FAD828E7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12A41-5C05-41DE-B967-AAEB4CDB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B2063-6613-4482-9F58-3948C508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870FE-1A38-475B-BD4D-5D0491633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D133F-8AA9-47C6-9A2D-13F7C422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4D423-34A9-4AAB-A3A5-7640C3FB5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25DE-D435-47C9-8E2D-B63931DE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60E216-7CDE-4AFA-A765-304E0510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BFD73E-A716-488B-97F3-A72F449E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0F04B-F1AA-4360-BF91-AD04DCDD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EC808A-93F0-4A76-8E56-18DD3B97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782136-9FA9-43BE-9D50-2238F942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626338-8CC0-4495-B7A7-8E75FBB8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55DFD-113A-4D91-B5C0-8EE7D803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8E9A4-6F06-4FFD-B62F-5F0C22B5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5AB9CB-F57E-4E56-B2C1-C296C01D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4B9453-96DE-498D-9888-CB2739DE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6B87-6AFB-4C69-B221-214B9636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1D35FC-AA17-4201-8BA8-1C1C1523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28EF8-3D2D-481D-BDAD-8953AFB0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2A55F-AD96-40EB-BFD5-5F77A1C9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73609-99C0-4484-9D6D-F825E0F6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0D2FA6-D9D0-49F5-A238-6BD2B0A3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73F5A-6043-4ECC-B8C4-7517637D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B93332-7A44-45F7-9080-A8491CFB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99B08E-F85B-4F84-A536-91F007C3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DB351-B6E4-4010-884E-C8E159C3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BFD32-630A-4AD8-B62B-1CBAD088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CCB9-62C4-4215-B3FF-9124AD45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772A47-F37A-4251-9E42-1591340B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EB553-0AF1-49C1-890D-0AF59BB4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D1A8CD-D27C-4E30-ADFC-DB661D7A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8BAE46-BBFA-4454-BAB5-88C39E997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894209-FFD4-4441-B071-FF7D0F82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232C8F-3E6B-4CEA-B10C-E3C3ABAC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047F50-1814-4D19-A409-AE606D31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19CFD7-5100-44F3-96C0-607AB4BD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5A8A30-A2E1-486D-9981-698AE01C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B0B571-C6A2-43CC-B555-CB4290EF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21F-05C8-4360-9E21-FD391EE1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FBDC-27D4-44AD-8484-715C47CE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FF3AA3-930B-403E-A961-896B0AFB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4DDA27-F611-4867-9553-E0F053DC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EE369D-79C4-4A5D-879F-D8F35E8A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EAB6CE-6F29-4EB2-867C-4B75AD09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B62EA1-48CE-4923-B74D-D4C67B53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279C75-36ED-4B33-BA8A-EAD7736E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56108A-3035-44A5-814A-B2F589F9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0DBDB3-9D34-4D55-A973-0AE29FD3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F4A1F-1967-47BA-B364-6A3FC739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3398EE-1AFD-48F3-BD26-FF859C7E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8695-0640-4DEA-8158-BE012923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B10533-8766-4BDF-B062-5CAB946B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3DC0BF-9ED0-4C4D-9583-96F0F011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2CF1F9-F9F9-4FC4-93D8-B2609239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F55C3F-D5F6-4872-A0A3-DC6E8AD3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669855-8D7A-4DB2-8FF4-83F07605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C5A6DC-1C78-426E-BF44-6D01DE5A9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368440-BCF5-4080-BFAF-D593B46D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8223B9-ED66-46EF-A41B-673F0B68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B6AD86-072F-499F-B14E-6C9F9599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7C560D-1998-4F85-853B-96F27242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4086-ABBF-4684-A123-6A540EDD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88854A-3C86-4E53-9F6E-3DAA1E1D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26822C-F486-4139-8F9F-A7EC75C1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EF58A4-BA3A-4446-82A6-24D7FDDB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8A5773-509B-44D3-882F-BCB0960D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56ABC5-5F33-44C0-80B7-6C8020ED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BAC3ED-DCD1-4766-9E2D-564A0AE4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E59955-0562-4098-BE9C-6856F3D1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AD4E4B-80B6-4A11-B6DC-1A514FD7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6DE1A8-2329-43DB-B486-E6D24BDB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F4FCFA-F775-4AED-B4BB-75ABD4AD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FCE5-DC3F-499C-8FD6-951D4380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8713CD-77A0-4461-9ABC-8C7DBB66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991B6D-D769-4686-979B-790F2A68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F141EB-FE80-4D40-96D2-F2A8949D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4CCD10-49D0-4A9D-9794-2F1248A8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B00C29-1BA7-4BBF-A0DF-8E0F45BC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6F8B95-6CF7-4444-8F51-36DB8C7A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B0CD2D-5EA5-4D73-A33C-E0A8C205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964962-F007-455D-B02D-4104E1E0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B6343F-632F-45FB-994E-DE57488C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C3CDDF-1E78-4ECA-8FB6-A1758C1F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9CAB-CC23-4F01-9763-5C06B8CC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A14CCC-420C-40C3-A517-C2BA5ABB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237F8E-C44E-4FB8-BD05-82DD79B7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1ED55A-B0D2-488D-A323-1C184880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68525A-40C4-4D63-AE4B-8647BFA1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55CC28-854E-4F08-8F3D-C35F0B1E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4012EC-F153-4E09-A05E-70C291B0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E3A90E-53AC-47C8-B60C-9E058CBD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9AC9D9-467F-4C50-AD14-5C64E7C0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C2827D-9DA8-4584-8B17-DD5CA4A7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5D5747-E2BE-4774-B401-C0587FB2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F705-B919-4BE5-A5CA-79C2ABE5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AB00D9-BD57-4B6D-87C1-B3569809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183D08-035D-47F0-A4FF-4AE2BF721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0C73A4-F9C5-4B7F-BD47-B61321A2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DF5F-48A8-4048-AEBD-CB803A31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ABFB0-F453-4E5A-AD0C-DD72EA0C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3DA94-922C-4599-8839-E722DEA7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8A839-B2F8-4FC7-88C1-8B830398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822E-DA5A-4013-A671-D05B9065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DEF4C-A4D8-479C-BC79-C082B034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6A276-6030-4F96-9CD0-B6F342A8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A96FE-C8C0-4AC9-BF67-455C0802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3A7A-61BF-4B29-977C-34141E28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333C-AA68-4DA6-8C26-5A107B23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DC2A-7A98-4C42-A728-ADC00EFAF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77745-AB02-4271-B354-7ABB8AC0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8E5F1-427D-48C5-9A6B-7015253B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7A0D8-532D-46A8-B750-692C8C3B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C4F3F-F1F6-4980-B2E6-17ED803D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B70-AE4E-416D-9E99-E69DDFBA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F2E12-571A-4E73-B93D-29557BE8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284BC-E266-4E98-B9CB-584F99FA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67935-A0AB-4E6E-AA20-F0B5B748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AF0A7-1095-4366-9A73-30A68913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579FD-DEE3-4166-81B3-D751DD1C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ADE82-E7B7-442B-B939-6018CCFD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06257-1209-4DAE-96F6-2B6BFC6E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A2427-8A4B-4D82-8B4B-337C8CED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C188B-33AC-4DAE-8D92-2021D9FC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6E362-2235-46E0-A0F2-55C307C3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380-1A78-4EEF-9C78-22C8358B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0FA67-A619-4D1F-A0C2-1945D291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F0E48-872C-49E6-888A-82A7AF42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60D5E-7274-465C-AC63-9D4291C8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DC937-F6DE-4C9B-956F-2E83B732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F9DC7-4D8E-47C3-BB5E-63C5950B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24FF1-B0E0-4509-96BA-58B65D29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3FDD0-80D6-4EAE-9B4B-E8870E15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D6EE2-F032-4C69-8BC3-D78F4570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A9BE3-5EA9-4EC7-A9B6-A473BB8D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D1399-FBA8-4941-B9E0-FCEAAC60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48B3-B7DB-4451-BEE1-8B3F8C2B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C551E-E029-414C-9A0B-A5147824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A3B58-965D-4FBC-ACD0-6568779C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C5398-7A2B-4F25-89C2-45F86475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0846B-15B7-4753-86DA-CDA57266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755E6-4B13-44EE-AEB2-25472B30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F68E4-218B-4E0F-AB7E-1093192E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A5149-9187-4E63-B101-F58D1467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685E4-B06D-428D-A6BA-1472D473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C3BD4-FC4A-42A5-B45D-B18B99BA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29092-5CFC-4BC8-8E93-B7BD8150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9EA-4D9D-43CF-B545-9667F9D3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48134-8B6E-4774-AA2B-5D7F3824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8A034-4822-4288-AACE-E7AEFD88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B5B68-C8DC-4A2A-B607-D9BB6D69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4A358-BC2C-40FB-A1E0-1826147E8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5D525-2860-4E65-94E7-0E20A090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C5BF3-B490-44C4-8DA5-6F35E9BE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48253-F448-4794-AD66-0BE1FA82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92FBF-0DA0-45F1-9D17-EBB1FD35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8BE0F-479E-46F4-8F19-0BCBF092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20119-1549-4651-8C8A-E8AB3E3B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489-AB24-4438-A779-F7CE61BD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EF184-5A2A-4873-9575-48CAF079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A596D-DBAA-4A23-AE13-40FB538D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4B1B7-27AA-4C1D-9BDB-2E3FF88D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6DB00-C927-4938-9ED0-63DE8D3D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0930D-0B9D-4B81-8EA9-CEB932A3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BA61B-802D-43D7-B447-A4013D8E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360C6-62CC-452F-B02A-C342742B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9E70E-A0CA-462B-AF3A-093FC208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F1E35-4184-4D6B-B2BB-023039B0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46FBD-F056-460F-BBB3-472DC3CA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172-FD1C-421B-97AB-81A6022F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9840D-0D74-44D4-BE1A-4F938C94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35AAC-EE01-466A-8004-77AF226F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E8B65-EECC-4AEA-ABC1-DDE506D7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2C77B-A16D-4936-94B7-1631C1BD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E1B37-9410-4A4A-AC66-0D68ECCC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80C18-1C7C-4C47-8BB2-672A1AEC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35BB7-D715-4734-82A2-52EA1B62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D9359-F000-43FE-ABAA-E86D9314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10D42-3DF1-49C4-8A2A-CEE63962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E9E35-92CE-4989-A3E5-A90A002F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4887-4E46-49BD-A6B7-107A197026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3B4D-ED90-4A73-AA53-C1AB1D8642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8863-BCEC-46DB-922B-EE462B06DD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A6D2-B259-4075-AA65-0275624CE1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264DA-5643-412C-B1F4-8AB0C69006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FE11-9C5E-41A2-A5FF-79622E3A36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B928-B234-4A54-BE3D-EC73A4712F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C240-57C5-4A54-AF6D-0D58CD48FD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5939-3E75-433E-81FC-5E60354282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5EFE-3701-445E-98A3-AF99330818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F3B9-84C7-4319-ADD2-2319E35105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6689-27DB-4650-BCEA-8C69869CB7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9260-49B9-4233-918D-25211CFD17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B49F-D37F-4539-9A1E-86159C230D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7CCD-797E-4140-9EB0-C92C82BCD2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CD27-1DD8-46C8-9A19-C6277C4880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35A0-5961-4068-817B-759DA3ABEA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630E-972E-4B58-9A86-F1D9E6E906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0D83-B5E9-422C-A86D-C28E3215BE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44D1-6F71-4E61-A9E1-6CFCE8D612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11DC-414A-4EBB-A188-EFC4867DB3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CC63-BE0C-47D8-A995-30842CD603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E10B-4051-48BD-B1E7-A45DFBFABC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09E9-FA8D-489E-8740-3B71E36F31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5E6A-E36D-401A-8C16-DBF87F454D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2BD4-185A-4B7A-B184-5D20DB0ED5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ABA2-0454-44C1-BB1C-F798C86BAC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BF84-F51C-4CD7-B423-16D47B27D7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EF8C-B394-46BF-B70B-3FAABE0A94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F0FD-54FD-4A11-A74B-46000AF92D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8B5C-43A9-4C52-80A3-4FA4B5C728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ED84-ED33-458B-9615-24566E7B91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747E-093E-4279-AF9F-28BD02CF9B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840E-5025-4CCA-A669-EAD63E5894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2841-5A02-4A96-8DB3-433FF20BF8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707B-AF7D-4681-894C-CD26033DB0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7ABC-C487-462C-B4D0-612B4B3BCD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BD1A-ECB1-48DD-B06D-C5A8B49B90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EC88-C83C-49AD-AAB7-BA13B5E32E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9099-773B-423D-B9B6-9F568D5BC0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81320" y="3005280"/>
            <a:ext cx="458136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685800"/>
            <a:ext cx="8544240" cy="58388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916360" y="184464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219640" y="162864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1908000" y="2852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835280" y="4797360"/>
            <a:ext cx="718920" cy="863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435640" y="5013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2411280" y="602136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4356000" y="602136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619200" y="2009880"/>
            <a:ext cx="7905600" cy="28382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5219640" y="2852640"/>
            <a:ext cx="108108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6012000" y="4307040"/>
            <a:ext cx="108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271440" y="95400"/>
            <a:ext cx="8188200" cy="65736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556000" y="44085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2556000" y="547380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2916360" y="6165720"/>
            <a:ext cx="1008000" cy="5050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6688080" y="4408560"/>
            <a:ext cx="503280" cy="79200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6688080" y="547380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7048440" y="6165720"/>
            <a:ext cx="100800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7352" descr=""/>
          <p:cNvPicPr/>
          <p:nvPr/>
        </p:nvPicPr>
        <p:blipFill>
          <a:blip r:embed="rId1"/>
          <a:stretch/>
        </p:blipFill>
        <p:spPr>
          <a:xfrm>
            <a:off x="309600" y="1886040"/>
            <a:ext cx="8524800" cy="30859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826920" y="3629160"/>
            <a:ext cx="4249800" cy="447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662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309600" y="797040"/>
            <a:ext cx="8524800" cy="58006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900000" y="3933720"/>
            <a:ext cx="489600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4895640" cy="44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971640" y="5388120"/>
            <a:ext cx="489564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826920" y="6151680"/>
            <a:ext cx="6050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271440" y="243000"/>
            <a:ext cx="8601120" cy="6372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122544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6300720" y="3097080"/>
            <a:ext cx="122544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900000" y="5445000"/>
            <a:ext cx="554364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826920" y="6165720"/>
            <a:ext cx="7490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328680" y="1209600"/>
            <a:ext cx="8486640" cy="443880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900000" y="364500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576108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826920" y="5157720"/>
            <a:ext cx="57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8448840" cy="200988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52232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762960" cy="19335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4211640" y="168588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4183200" y="2637000"/>
            <a:ext cx="43164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6948360" y="1700280"/>
            <a:ext cx="43200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6"/>
          <a:stretch/>
        </p:blipFill>
        <p:spPr>
          <a:xfrm>
            <a:off x="6948360" y="2608200"/>
            <a:ext cx="28764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7"/>
          <a:stretch/>
        </p:blipFill>
        <p:spPr>
          <a:xfrm>
            <a:off x="2268360" y="414972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8"/>
          <a:stretch/>
        </p:blipFill>
        <p:spPr>
          <a:xfrm>
            <a:off x="2254320" y="49989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9"/>
          <a:stretch/>
        </p:blipFill>
        <p:spPr>
          <a:xfrm>
            <a:off x="5219640" y="4149720"/>
            <a:ext cx="60480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10"/>
          <a:stretch/>
        </p:blipFill>
        <p:spPr>
          <a:xfrm>
            <a:off x="5219640" y="5013360"/>
            <a:ext cx="6048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11"/>
          <a:stretch/>
        </p:blipFill>
        <p:spPr>
          <a:xfrm>
            <a:off x="8317080" y="4149720"/>
            <a:ext cx="60480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12"/>
          <a:stretch/>
        </p:blipFill>
        <p:spPr>
          <a:xfrm>
            <a:off x="8345520" y="4897440"/>
            <a:ext cx="6048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24:0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