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6FAC-B2AA-4ECB-B4FD-26FD3DB1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2AD1-EC94-494E-BF7F-408C7C2C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9109E-1E7E-4E24-B1B6-53B5A3B6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7CFEF-E278-4659-A863-9B471E3A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7AAB3-DB07-48FB-98A3-0A39D6F4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CA4BC-CD1A-4A8E-9071-9D38CFA3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1D5BC-2242-4B54-A1BD-EA53316F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9B2E6-90CC-4DCF-9E83-82A8525B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71696-A532-4536-AE91-E6A26FBD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F33AA-6BC1-494C-ABDF-9345E77F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1D27E-7211-40FB-8BB7-C275662C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216B7-C438-4B7D-8166-8EEDC8B4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7F1-7CC4-412F-A526-A8D78878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5C1CA-55E9-4496-AE2A-4DBC90F0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9DCE9-4C76-4C2E-B8C6-A8142D61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8D340-1276-4DC9-BFFC-A0DBDDF8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C0086-1226-4D35-BC9E-C6F45542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FE92C-8B93-47B1-9D3C-3DB7D332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48D5F-5421-425F-84FD-5CE56262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609F8-1BA7-4709-AE10-91C58D54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7D8C3-5560-4820-B036-6CE58F8C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6E182-18B5-481A-9625-8FCB160D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1D1AA-16B8-4F9F-A165-F920E266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9360-2190-4334-99EA-2FB972F2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ABC69-4BEE-4E27-ACCC-82D63BDE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C9006-E1D1-47A9-B965-50CFAD38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B7032-06BA-46B7-B6E7-DB204EA5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C4FFE-6291-4172-BFA4-10E5EC2B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86810-0974-4D52-94E5-864F4DFC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A01B5-31C5-46D2-B9AB-98B6C1BC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A6045-5A46-4A20-BF90-70249779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9A8A8-0161-4A23-A790-2B2A5857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E9C58-7936-4FC4-8BEC-E8B0733B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02722-2FB7-4840-978A-4C43CE2F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76CA-C2B5-4277-92B9-33C32798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E183A-A713-49B6-917F-3AA9B1F8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CCBB0-2040-4148-A8FE-081541F9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12201-2292-4334-B9D9-B1DFA9FF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F5FEF-F487-4B04-BAE9-68F02AA4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CE433-4965-4292-8B5A-84100BF5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FEA11-1C20-46BE-90D3-7869DE0D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BB759-7294-47DB-A1EF-1AFD9581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20F12-E2B5-49E5-B019-A8D41F07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71CAB-1EA4-4F14-8D76-CAF5F879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FA3AB-C177-4512-9373-3485E483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03B5-8149-4808-B11D-6E95FE35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C5BCF-2A0B-4346-90BC-DDEAF30D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6FAE7-EF18-4DF8-A8F0-C2FE8761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91C73-8BA4-4CC9-8F13-E13F3E3D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A4C84-427F-475A-AE71-B05454AA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EBCEB-C491-492C-AD5E-D174FA23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C08C8-FC00-45FF-924A-EC967B84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7BD900-0867-4550-8907-3657E052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FB5F24-AFA9-4EC8-87B2-827D52FD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D3CD2-801E-4462-A038-68C65200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F7188-415F-4E36-86C7-740D094C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C848-9D18-424C-8C64-11D7CB8B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961444-D682-476F-BE9B-54A03DE1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6350A-93B4-415D-9DE5-3FBE5042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1E401C-B244-468B-A4DA-84757EDE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2EC4A6-85EC-4F3F-9140-CA5E8E96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8CF521-368B-4F62-BF33-BB1BE402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A24038-E91E-4B1D-B547-783419CF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27950-C933-451D-88EF-4D268B2D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18D7FC-A516-468A-860B-C28CE8E1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8ED254-18A3-4AD5-8947-5EE4C817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44B3DC-12E8-4895-AA62-7B496CD9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C7D4-0668-4889-AE52-A9C2E24C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41BEDA-67A0-4886-8149-083E34BB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2C9FCE-ED45-407F-A57C-CAD9B687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A79793-5D61-4D02-AAFB-ABDEAC27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71ECB8-1765-49DA-B63D-40D0163E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5A5F81-E20D-432D-BB94-4822B128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772AE7-8D2E-45DD-9C95-0F524609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DDD854-7E66-420D-BA09-8DC680D1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0161CE-877A-4672-85AF-6E9204A4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A04393-F4C1-4E44-AE15-12637DB3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9DB431-D572-4C7B-B874-EF93B23D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1425-C7A0-4A5A-B3F9-64E0874F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649FBC-79F1-4101-AD05-5A8B6FBF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364E6B-ED27-4DBE-B2D1-16451334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818FAB-3896-436A-A36E-ABD693EA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88071E-E5E1-4089-BADA-68538EA7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2DDAB0-C252-48BB-989B-74C1CF37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FE3C05-5285-4CC5-B261-79D28E87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7F13A7-CA7F-4B2C-A1FC-26BB2036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866875-4515-41C8-96C0-1D71B843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AA9118-2978-4A5C-B393-ED137480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82D5DD-B9EE-479F-8861-68268D07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A5CE-88F1-44F7-877A-9DC053D9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63EC2F-5CCB-48F7-8E51-ED4BD4C7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AE6AC6-CE8C-4138-BF87-AF302FC4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31C104-CF68-431B-AD5A-D000D3E0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A224D3-138C-40AE-8F33-3C0C465F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AB13ED-65EF-4E23-BCA6-6CCD4988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B47105-5844-42B5-9AD4-BCF8643E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5114D6-DD91-4ABA-A17A-618C7CCD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2D9963-6370-4B17-83A3-71D8D445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149D7E-3D6D-4CC0-9EFC-2D1DE60E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BA2F43-A12F-41D1-A227-601CCDBE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F9ED-0B1B-44AB-AA3D-5F39D61E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67F997-4BDB-4220-B8E4-E0469F08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623F6F-59F8-4D2B-ACC5-1334DD39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DE2C6A-748B-4624-8E20-2746A7C7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B8FE55-BBF3-47F8-8F20-7CB81923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7DF043-A182-4E18-B8B7-7E62CE81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C2DF1F-4881-4BD8-B133-7F18247E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AE234E-B26E-4ED4-8894-E65D034F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15291F-86C4-4228-85CB-571DE196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C1EAD3-8ED3-49B1-A55D-F884F9D1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A56C92-2193-4A44-BF9E-97A096FF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516-EEA7-445B-9B1F-0B618B74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6D16-C8C9-42C4-AB66-BE5C957A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434DCA-12E1-425A-8F51-1392AEE1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ACDC3A-97ED-4592-AA05-309973AC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2A31A5-7E84-4CD9-B041-7117F894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1EA1ED-4BF6-43F6-9E21-CB635221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11038C-E1E5-45F3-9151-41BE1501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6CF6FC-E983-44AE-9A72-06A75627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C7CB07-4788-4DE8-AF90-303D6001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D052EF-1B9C-447E-92BA-3B350929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4411F3-FEF6-4C15-8F23-E1C0CF7C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486CB0-0FDF-4787-9EFA-DE38601B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C2B8-D539-4E19-8032-D709CDAB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F9C50F-6D96-45F7-A4BA-F8CB9029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1E116C-50F9-4BE4-B7F9-9266A295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8E5E69-995B-4181-9DD3-5358164D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E50CEE-D7F0-4AEC-884B-7C49ECBC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9EA3F4-7C67-462B-AB31-05B14468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184374-EB81-499D-BCF4-28FEB50F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AAA22D-C2DF-42A0-B853-B5FCCC9E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043A48-0377-47CC-BC0C-851706AD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1DC3F7-F128-46F9-81CD-3A112505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32ADC2-734B-4DBC-8D6A-66BB52D0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A145-004E-402D-A967-ABC564EE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217D06-8C1D-491F-B416-412D8711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BCD186-B3F8-45E6-A98F-19F38CD3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5516F9-7016-4951-A213-33EF20F4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BBFBA9-0373-4CEA-9F4C-6FAEF283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D74284-6A68-429F-8AA6-3B3F203C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AEB32F-ACB1-43F4-9A0F-95A0ECA4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380180-8D36-4679-ADE8-2344ECB9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319AE9-ED07-49A3-878F-A3671174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89DD59-DC5A-4C3A-880E-7C5F114B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58921D-A844-4554-BBE6-0DE41E0C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2DE0-9EEB-42BF-9695-4CAF066B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707CAF-99C1-498E-A472-CA806F8B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30EBBE-A6E8-4BBD-B12C-5D19DFE2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CF88AE-C574-4E14-9091-7B5D5CA1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3E6F32-B0BE-44CE-920B-E5E5D9C2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DFB1FA-FAA8-40EA-8780-8A4502B0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3A0599-D00A-45DB-BAC6-E29CF095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972F5D-7979-4F3A-A847-130A83B7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21522D-2FF6-443F-AD38-9B8B3241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0F8451-25F7-435A-9A9B-70EAB1A4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81498D-3759-4F6B-8C7C-D850A28F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05C5-B2FC-4A4C-AE00-01FE21FA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38419C-87F1-43F8-BD43-75DBCEE9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57C3CF-0451-41BC-B56F-642A40FF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EC955B-DD64-4642-A012-A987B83B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B55E71-F0B1-467E-98D0-A2B79357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B9B736-8775-4FE9-9F76-C493E7E9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222D0A-B215-4097-80F9-6EEB1930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1FBA02-7513-4BDD-AEA4-03732B9F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1E368C-577D-4894-94B8-DAFE236E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6760E3-E866-4FA8-8D33-9AF57B44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B96CE6-9A1F-481A-AA5B-60584017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F3036-1875-4150-9B5B-AA9E9966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64C84D-3C69-4A7E-98D6-D519D648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E3AE8A-23BA-4423-884F-A4CEB61D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9C572B-A02D-45AE-92B7-D282FF06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2D605-7369-478B-9B93-EF8D3D81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BAF64-6404-4EA1-8F1F-DDD800CA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BA80B-CE23-40F3-B5CF-72CE6821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7EDC7-3168-4C9D-A361-5889179D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E0C-58D2-407F-9A8E-273B87B1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E15BD-7EE6-46EF-8340-BDDD4A28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E1C97-3E4C-4BA3-829D-D404E483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937B4-C4F9-4463-A988-FE2C1C8C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C690D-536C-4BAA-99C4-60FBBEAC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6C5D0-E025-4DCA-A991-7F492B2D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92F56-0B79-479D-BFB4-32F2F00B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69521-9C9D-4455-AD2B-66EAFD35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8E1E0-EAAB-4627-BB87-01DE5AD1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11105-0803-44EF-A515-B2438E70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3FD9F-A734-4468-8CFB-4ECEF0DB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639A-01ED-45EB-9EC4-F4DBBADA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3B09A-0AA0-4E66-A60B-AF927455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C53E6-B25D-4092-82CD-0205E377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10AFE-9552-4E89-9CD7-B77CC12B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7B09D-6878-4E7F-A089-35290082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7BB6F-1847-49D5-9752-28A9B04F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7D3E2-BF23-44AC-AAD7-30CFD6B9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FA492-33FF-4034-95BB-1C470238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A69A4-01D5-43C1-9527-3AF4D4F3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E5136-74DF-4E87-A746-89BFBB74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B8B30-0272-424E-9D75-D96EA354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7A53-8891-41EE-A34A-77372FD4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F44DE-A9B2-4092-BB24-48580CE1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C1B92-F7CE-479A-BBA2-3AC926F1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B1AE7-0BD5-4B94-B0D5-CF13FC62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8EBED-A976-4767-A511-FBBB303C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CF87F-56EA-412A-B9A3-4B4FE571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466AB-D84D-4FCB-8355-D0EE96A4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9356D-80AF-4E5F-9085-536760F6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58B68-E573-4479-8F56-6421B3A3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DCE98-6FA2-4B1B-A261-CA5DCFEE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14D5F-DECF-4D81-82D7-62416406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8E8A-668E-4721-88ED-09EAC9FA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A33E9-B58C-4FD5-90AA-F20378A8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89D31-2450-43C1-B92D-0FF1C9A8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962B8-96DD-4F11-8F63-853F6DCE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E9F8E-B207-4FA1-853F-BAAB5900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1DE9D-2E68-46DD-895E-D40494FE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39120-A2AE-45EA-84AF-14A29148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F30DE-67D7-48A1-A6BA-1DE6A185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FECA2-9E4E-4963-963A-9152C9BC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19749-4BF2-4300-8AEC-FE01DF9C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8BBCE-FD3F-455D-B1A2-294DC9FD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2CC-5347-4814-BC6A-B9A19EC6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CE102-29C6-422D-B311-278A026B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2A201-D902-48E8-973D-9818340B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AFD33-40E8-4607-9056-239943B3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82DBF-3439-4629-9C51-9458DA3A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640B7-9D74-4F9F-8FF0-2D60C343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F5E75-D66C-48FA-9476-2EACD6F1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67AF3-39AE-4159-875F-D44252DA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333BE-AB72-4C3C-929F-304AA1D6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54FDE-07D0-49E0-8EF7-2CBA79E6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B55B6-84FF-45E1-B4D6-7007B084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16AD-6050-4FE2-A505-D30B0E6F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27961-F1A2-4076-A23E-E508DC05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ABAC6-CFD0-4060-9BA4-2A5F24A3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3FF18-C04F-44BB-881C-4CB05D3F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701EB-390D-44A1-9018-E2964653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A2D1F-0042-4A26-BAD3-1799420C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AF1CD-8780-4D03-8868-59F902A2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E7E39-A471-4710-A973-29E477C6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1F658-3091-4DA0-B8FD-1AE30A36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C8094-8951-4914-B666-C794C3FC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5FC62-AFC4-4466-BB72-D3FD6727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1422-D9EB-4CD8-9C2D-2B74F67F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536B8-EBB9-4B49-82AE-CB3F0F56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144A4-2E55-4AD6-A458-F9BED33B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6D194-A19A-4A68-AE30-A891809E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B5533-862B-45E4-ACB3-4579DB59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63474-6F98-4923-90FA-64A4BAC7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C04E5-A8D2-49B5-8D0F-6AD25D33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6A54C-76DB-485C-8866-E18BFB51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2514C-A162-4727-AD22-F5E5DF00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878E0-5CD4-468D-A77D-2FCC737D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2EAB0-8E5C-4DAC-AC36-6F7B2A7B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A000-91CD-4562-B1BB-35E4CE366F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0BC2-B7CE-4C6A-BD41-6EAAA178F7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0074-AF75-4C96-8074-712DB05BEF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6736-17E3-45C6-9D54-D76F80D7B4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30DC-4D05-40D0-8585-8D0F3C82A3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A185-F75F-4402-AE85-2178BCB95F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3060-72F8-41F1-94E5-9574411690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8F6B-CE10-4A79-9E9F-ABA9DBAA5F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EF82-BE80-4594-9059-02FE934885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C47E-6C8F-4162-98F4-B5C4848791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6FE1-631F-4731-876E-D52BEFEA8A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C193-E3F9-43DE-A847-48075E35AD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08C2-E610-46DA-98E0-7F497EA08D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F15F-131A-45F9-BC9D-65B4DD6F39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A749-2510-439D-8C86-7D2D9DE48D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753A-2AC0-42D4-B904-0F8DC6A485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2067-AEDC-48D9-87DE-D0E8091F5A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6C9C-DDE3-46E6-9DAD-F9D4B8C264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2C54-D85F-4E43-BB9F-CB5702ED89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B5C8-84CD-4635-81E6-D269D4AB15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855B-A78E-412A-BD06-075465D6D7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A301-44B3-4679-A767-C5FFE1559E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DAEB-CFD9-40CF-A485-9C8408599C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BC59-88E6-4DF5-88B5-58D3F8D749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8EE4-1B8A-4C01-8014-1418F17BF9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6CC8-1F54-468E-85B6-D099CA1ADD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F261-9C50-4D7D-AAE5-B70DFB8D5A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BFB8-CD69-44FE-B308-3F4F246909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7A36-6F87-4B2B-9E7B-A9972B2BD6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9AEC-DE4E-4BD9-8ED6-1A3B089787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5268-B5BA-4B9A-936F-E9E2FD0F33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0BE1-37DD-4E36-AED1-508D7A89FE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3650-24C3-4489-A809-9498ECEB8F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FA48-E241-42A9-95CD-F2CC2C91D8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11E7-78AF-444D-A5E6-EAB4C307CB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A02A-AF2F-471E-9D7E-EC6F8E036C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BBF6-96B7-482E-83E3-7AD0884BAC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237A-3930-4448-A724-F790E59463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53F7-A7B2-432B-BA0C-F022B46005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39F0-E4C4-4A69-A1F1-57C843DBED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176480" y="3052800"/>
            <a:ext cx="679104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图片 52231" descr=""/>
          <p:cNvPicPr/>
          <p:nvPr/>
        </p:nvPicPr>
        <p:blipFill>
          <a:blip r:embed="rId1"/>
          <a:stretch/>
        </p:blipFill>
        <p:spPr>
          <a:xfrm>
            <a:off x="209520" y="824040"/>
            <a:ext cx="8724960" cy="52099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2"/>
          <a:stretch/>
        </p:blipFill>
        <p:spPr>
          <a:xfrm>
            <a:off x="826920" y="4422600"/>
            <a:ext cx="4969080" cy="4795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3"/>
          <a:stretch/>
        </p:blipFill>
        <p:spPr>
          <a:xfrm>
            <a:off x="755640" y="4956120"/>
            <a:ext cx="4968720" cy="4795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4"/>
          <a:stretch/>
        </p:blipFill>
        <p:spPr>
          <a:xfrm>
            <a:off x="611280" y="5530680"/>
            <a:ext cx="49687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9880" y="795240"/>
            <a:ext cx="8544240" cy="5267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067280" y="2736720"/>
            <a:ext cx="1944720" cy="479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500720" y="3227400"/>
            <a:ext cx="1944360" cy="4795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967200" y="394668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132000" y="5300640"/>
            <a:ext cx="1440000" cy="4795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364000" y="5343480"/>
            <a:ext cx="576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561960" y="1557360"/>
            <a:ext cx="8020080" cy="37432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7020000" y="2492280"/>
            <a:ext cx="792000" cy="4795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6659640" y="3286080"/>
            <a:ext cx="433440" cy="3603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7308720" y="3213000"/>
            <a:ext cx="792360" cy="4795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5580000" y="3933720"/>
            <a:ext cx="792360" cy="479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7020000" y="3933720"/>
            <a:ext cx="792000" cy="479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3637080" y="4653000"/>
            <a:ext cx="792000" cy="4795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8"/>
          <a:stretch/>
        </p:blipFill>
        <p:spPr>
          <a:xfrm>
            <a:off x="4629240" y="4732200"/>
            <a:ext cx="461880" cy="3430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9"/>
          <a:stretch/>
        </p:blipFill>
        <p:spPr>
          <a:xfrm>
            <a:off x="5508720" y="4667400"/>
            <a:ext cx="792000" cy="4791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0"/>
          <a:stretch/>
        </p:blipFill>
        <p:spPr>
          <a:xfrm>
            <a:off x="6529320" y="4724280"/>
            <a:ext cx="461880" cy="3430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1"/>
          <a:stretch/>
        </p:blipFill>
        <p:spPr>
          <a:xfrm>
            <a:off x="7236000" y="4653000"/>
            <a:ext cx="792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76801" descr=""/>
          <p:cNvPicPr/>
          <p:nvPr/>
        </p:nvPicPr>
        <p:blipFill>
          <a:blip r:embed="rId1"/>
          <a:stretch/>
        </p:blipFill>
        <p:spPr>
          <a:xfrm>
            <a:off x="399960" y="824040"/>
            <a:ext cx="8344080" cy="5209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1042920" y="1989000"/>
            <a:ext cx="3384720" cy="4795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1000080" y="2492280"/>
            <a:ext cx="3384720" cy="4795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971640" y="2997360"/>
            <a:ext cx="3384360" cy="4791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5075280" y="2003400"/>
            <a:ext cx="3384360" cy="4795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6"/>
          <a:stretch/>
        </p:blipFill>
        <p:spPr>
          <a:xfrm>
            <a:off x="5032440" y="2506680"/>
            <a:ext cx="3384360" cy="4795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7"/>
          <a:stretch/>
        </p:blipFill>
        <p:spPr>
          <a:xfrm>
            <a:off x="5003640" y="3011400"/>
            <a:ext cx="3384720" cy="4795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8"/>
          <a:stretch/>
        </p:blipFill>
        <p:spPr>
          <a:xfrm>
            <a:off x="898560" y="4581360"/>
            <a:ext cx="3384360" cy="479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9"/>
          <a:stretch/>
        </p:blipFill>
        <p:spPr>
          <a:xfrm>
            <a:off x="855720" y="5084640"/>
            <a:ext cx="3384360" cy="4795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0"/>
          <a:stretch/>
        </p:blipFill>
        <p:spPr>
          <a:xfrm>
            <a:off x="826920" y="5589720"/>
            <a:ext cx="3384720" cy="4791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1"/>
          <a:stretch/>
        </p:blipFill>
        <p:spPr>
          <a:xfrm>
            <a:off x="5003640" y="4581360"/>
            <a:ext cx="3384720" cy="4795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2"/>
          <a:stretch/>
        </p:blipFill>
        <p:spPr>
          <a:xfrm>
            <a:off x="4960800" y="5084640"/>
            <a:ext cx="3384720" cy="479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3"/>
          <a:stretch/>
        </p:blipFill>
        <p:spPr>
          <a:xfrm>
            <a:off x="4932360" y="5589720"/>
            <a:ext cx="338472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8373" descr=""/>
          <p:cNvPicPr/>
          <p:nvPr/>
        </p:nvPicPr>
        <p:blipFill>
          <a:blip r:embed="rId1"/>
          <a:stretch/>
        </p:blipFill>
        <p:spPr>
          <a:xfrm>
            <a:off x="776160" y="2295360"/>
            <a:ext cx="7591680" cy="22672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3240360" cy="4795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755640" y="337176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698400" y="3860640"/>
            <a:ext cx="3240360" cy="479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4987800" y="2809800"/>
            <a:ext cx="3240360" cy="4795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6"/>
          <a:stretch/>
        </p:blipFill>
        <p:spPr>
          <a:xfrm>
            <a:off x="4916520" y="332892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7"/>
          <a:stretch/>
        </p:blipFill>
        <p:spPr>
          <a:xfrm>
            <a:off x="4859280" y="3817800"/>
            <a:ext cx="3240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7352" descr=""/>
          <p:cNvPicPr/>
          <p:nvPr/>
        </p:nvPicPr>
        <p:blipFill>
          <a:blip r:embed="rId1"/>
          <a:stretch/>
        </p:blipFill>
        <p:spPr>
          <a:xfrm>
            <a:off x="485640" y="28440"/>
            <a:ext cx="8172720" cy="68011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1116000" y="4307040"/>
            <a:ext cx="4464000" cy="4791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1042920" y="4826160"/>
            <a:ext cx="4464000" cy="4791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1116000" y="5300640"/>
            <a:ext cx="4464000" cy="4795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1042920" y="5819760"/>
            <a:ext cx="4464000" cy="479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1116000" y="6350040"/>
            <a:ext cx="5904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56324" descr=""/>
          <p:cNvPicPr/>
          <p:nvPr/>
        </p:nvPicPr>
        <p:blipFill>
          <a:blip r:embed="rId1"/>
          <a:stretch/>
        </p:blipFill>
        <p:spPr>
          <a:xfrm>
            <a:off x="295200" y="1509840"/>
            <a:ext cx="8553600" cy="38383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"/>
          <a:stretch/>
        </p:blipFill>
        <p:spPr>
          <a:xfrm>
            <a:off x="900000" y="2247840"/>
            <a:ext cx="3743280" cy="4795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3"/>
          <a:stretch/>
        </p:blipFill>
        <p:spPr>
          <a:xfrm>
            <a:off x="900000" y="2795760"/>
            <a:ext cx="3743280" cy="479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4"/>
          <a:stretch/>
        </p:blipFill>
        <p:spPr>
          <a:xfrm>
            <a:off x="826920" y="3327480"/>
            <a:ext cx="3743640" cy="4795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5"/>
          <a:stretch/>
        </p:blipFill>
        <p:spPr>
          <a:xfrm>
            <a:off x="826920" y="3875040"/>
            <a:ext cx="3743640" cy="4795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6"/>
          <a:stretch/>
        </p:blipFill>
        <p:spPr>
          <a:xfrm>
            <a:off x="971640" y="4465800"/>
            <a:ext cx="374328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55300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8154720" cy="65610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"/>
          <a:stretch/>
        </p:blipFill>
        <p:spPr>
          <a:xfrm>
            <a:off x="6804000" y="3025800"/>
            <a:ext cx="1224000" cy="4795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"/>
          <a:stretch/>
        </p:blipFill>
        <p:spPr>
          <a:xfrm>
            <a:off x="6818400" y="4394160"/>
            <a:ext cx="1224000" cy="479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4"/>
          <a:stretch/>
        </p:blipFill>
        <p:spPr>
          <a:xfrm>
            <a:off x="5378400" y="5805360"/>
            <a:ext cx="1224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54276" descr=""/>
          <p:cNvPicPr/>
          <p:nvPr/>
        </p:nvPicPr>
        <p:blipFill>
          <a:blip r:embed="rId1"/>
          <a:stretch/>
        </p:blipFill>
        <p:spPr>
          <a:xfrm>
            <a:off x="318960" y="262080"/>
            <a:ext cx="8506080" cy="63338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2"/>
          <a:stretch/>
        </p:blipFill>
        <p:spPr>
          <a:xfrm>
            <a:off x="826920" y="3919680"/>
            <a:ext cx="4608720" cy="4791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3"/>
          <a:stretch/>
        </p:blipFill>
        <p:spPr>
          <a:xfrm>
            <a:off x="900000" y="4451400"/>
            <a:ext cx="4608720" cy="4795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4"/>
          <a:stretch/>
        </p:blipFill>
        <p:spPr>
          <a:xfrm>
            <a:off x="754200" y="4998960"/>
            <a:ext cx="4608360" cy="4795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5"/>
          <a:stretch/>
        </p:blipFill>
        <p:spPr>
          <a:xfrm>
            <a:off x="826920" y="5530680"/>
            <a:ext cx="4608720" cy="4795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6"/>
          <a:stretch/>
        </p:blipFill>
        <p:spPr>
          <a:xfrm>
            <a:off x="826920" y="6107040"/>
            <a:ext cx="46087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12:5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