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D43-D498-4405-8E2A-21E0062E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6BF-E3E4-407E-9E93-E8C6B8D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BF42D-31E0-42B5-9A23-37CCCAD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71D28-7E4E-4AAA-8DCD-177EB08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9ABB-51D4-4DDB-A963-9DDC268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880B-6CC6-48A3-B380-E2801D6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A5915-7CE3-42D7-BDF2-ECC3105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71031-6AAA-47FC-9CC2-648259D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ADFA6-6C01-4B67-AAF6-BA9CCCC3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1D10-8F74-48D6-A23F-46704A34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23A13-D883-4F5B-BC8A-99ECB01C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ACBED-DB1A-4BF3-ABA5-6C68C10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2C8-40CE-4E18-A432-F64F413E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53BA-31C1-481D-8DAD-049F0BB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388DE-017A-4480-A2B0-3D6C507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6EE88-F9C5-4062-934C-52DD60E7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DD48D-DC2F-4B14-99F8-344622A1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4F571-2635-401D-9DDF-14B4536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34571-1EFD-4B36-8FB4-E302DA3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F1F80-7808-457F-8C63-2B64BEC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90102-D25F-4FF1-A550-46F0F61B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D32D-4989-4DEF-B19A-AACDDCD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0F195-60F5-4BE4-9E14-AB049C8A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87F-F25D-47FB-9549-164331B3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7B511-A4CF-442F-ADA7-B6D7AE23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4D42-AC40-4E5D-8895-B9EF1120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0D41-B76C-471A-89D1-495C63CA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5F10E-D6C9-4EB6-B2AE-548918A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69E90-49AC-4779-BE03-BC723FA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0390C-5A53-40B9-9905-1D35D528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A9059-F8FC-4085-B557-9BDFB7E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6F8F-033C-4C55-AA00-422454E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0365-D63F-4576-929F-C155F07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CF08D-F604-4370-8C17-7AE3A69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BCD-DC92-4E6D-B5C1-6002BBF4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45325-83B5-49DC-B043-C0A666CC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FCEC-5AE6-4BD4-92E3-B00D2D27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DC2E5-8982-463D-A66D-E3654426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4979A-107C-45F8-AC3C-F6C7D634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897A4-8595-49A9-A930-DC00FB1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1BF03-D221-4EA8-B64F-A3FCE048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E4693-D575-46BB-A0AF-490692A7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1804D-5628-4D1A-B0C7-13429CD6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97CF2-DB02-4CAE-A3AF-4F415BF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8D7B6-3C25-4F82-BB1C-5C4DB8A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CB5-A93D-473A-916D-1826F00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BCEF0-C8CB-444C-875A-03C49F8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5931-DB8C-43BA-9CAD-5590FED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54725-87CF-4D31-A91B-FB8BD5C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B4316-369A-4D33-8E7B-5516D08B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CD06F-D065-47EE-BEF9-48776FD8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AA8E5-848B-4D6B-81BF-03DFE7FB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D0D97-2792-43DC-AB2A-F840450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8CECA-6B9E-4705-8CC5-03BB9C03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FBDCC-EBAD-42B8-8453-A84A4CD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74A2A-A2D9-42D7-B064-B0565F0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2B1-F52B-4CD9-8A2A-2692F59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0CE5F-3F3C-4538-9894-65129EC5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DCCF3-2E89-4688-8292-07CBD95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3CAD6-76F4-4F5C-96EB-7D370B5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12FAF-7284-4C0E-8753-82F700A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4E35C-4BAC-414F-9F4C-2CD3FAB6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BEC7-8A39-4EE6-9DB1-54A1BB24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A7B3A-97F4-4893-9CAA-D3506826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D1DDE-03F8-4EB7-9393-7439C1DF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6703A-58F5-47C2-9F84-75EC0C1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B262A-BE2C-4EB3-95FE-1388D3F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56C-416A-4A41-B108-9382095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EE764-A27B-47DE-A44A-E21368E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FF732-4EC6-456F-A8BA-2B49FA8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753E2-55D1-428D-AC8D-727E0F0B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9B3E0-CA83-4BC1-8D5B-0C07E80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12363-5CEA-4A01-952C-CFA5D49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439D9-2DD0-4B5A-AB68-2F897A03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27462-69D9-4FB6-B410-CF16A07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B1B46-4B68-451F-B8DC-23902E9A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9FD4D-882A-4B34-B62F-5173A0A8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CE48C-32A1-428B-9AAC-E6C11592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B13-5717-4C89-B268-309C58C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A6F3A-6E7F-4242-B658-786B691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4BB05-3FC2-483D-8771-84AA941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BE138-4F06-4DA0-A714-341A49F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40CC9-D954-48CC-94D3-F19612E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7F9F3-20CF-496D-BB4F-D6411414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9D85D-80B7-43D0-BEB4-2FA7C77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3F201-3B59-45F0-A84F-6FD5F5F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5AFD1-75C3-47D7-8C2E-1D784B4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64079-536F-4EFC-B6C5-22F8139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01637-56C7-4F5A-B597-29C79C49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2F44-F440-427A-82B1-E5AD948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B98FE-3855-4423-820C-2F82ADC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33047-E9D6-40A7-96FE-2B0A7D94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9B10F-33B2-4C48-B1DF-F8E8411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D56A4-C020-4E2A-A6B6-1CF7B34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25AAE-8627-4EAA-9E76-B0024BA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C54FB-C383-49C3-8DBE-85A3E0B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22697-ABDA-4C50-A066-1362C345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657CB-37AA-4C03-B862-F3DDADB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B1D8E-87A9-4A45-B154-7C6D14C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6C25B-AB0D-4C90-8B9C-7A25535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13BB-2A35-4242-91F3-055BCE2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26932-0DA4-45E6-B270-611CF64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20E75-0645-49F1-BED2-0E3C1789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8A833-9AC6-43F9-A3EF-D6003BCC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D0AAE-284A-4F7A-BAF7-33CBBC2E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F8E35-D69D-45B2-91A2-89BC803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6B7A3-3576-44C9-98BA-E5741DD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78FA0-2ED0-40F7-83E1-BB65031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5C51C-C115-4EA3-84A9-E1E25B15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E39AF-F66B-4D99-9709-0FA3CEF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294D4-E328-48F8-87DC-F24025D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545-87B3-4C57-940F-10E2743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E1DC-F6CD-4455-891C-F5374816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5F183-1DBB-4547-8DAF-7C40682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6858D-CF0E-4484-8807-DD65256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D82A9-692C-4F69-B3F1-B3DCA3CA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4A4A4-E93F-4CFE-98C7-3E1E7CD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036F0-6654-480E-85E6-ADF8B9AB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FA207-ABB9-4024-B411-37B422A6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D86B9-09C0-4305-8E90-AF72AE7F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1C5A3-2BDF-4856-B22C-5FB7C29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F877B-4A78-43AF-AAEE-DD6141A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E4AF1-74F3-4119-92EF-78A4958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447-D54A-4904-90A2-6EDF3AC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B8553-0357-4421-93CC-0DCCC4C3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CD3EB-2C8A-48DC-B545-2DC524A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5BB4C-B91E-430D-B489-6E4304C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BD0A5-831E-42C9-9FD8-475D376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DA802-FF5D-4350-95FD-DCEEECBE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59609-CFA3-45B4-AA7B-2BB166B3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7C974-9CBB-4816-9999-B9AADC24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17394-972B-4B0A-8FBF-447C68D9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EBDD9-3504-45DE-844C-FD8FC4E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0D322-2428-44BB-8807-FCD19DF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DCAE-D792-4004-B1BC-1CEFC870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811D5-13E2-4CD4-8065-8BD074D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CD2D3-5107-4BD2-9335-8AC5EA5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18994-8322-4D39-BEAB-A2F0C8E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D503B-AB53-457E-AC20-34736819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EC338-8C0A-4380-BBEF-14A5984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60C91-B9B4-4979-890E-E8B3828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4B4C2-1C11-43AC-8B3A-722EC90F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2BD3D-B28D-42C8-888A-8FE4988C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672DC-4423-44F4-8F76-144BA993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981BF-EBDC-4CFA-9725-1412B704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121F-93E3-445F-A5F4-BE5EB645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6D3AE-6A09-4BE8-A369-4B0CF374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87564-115C-4151-910D-0E66171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37479-4407-4233-B7A3-496804DF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28F5A-815A-446C-9A19-5761DABF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83B35-5C93-492A-8508-71444A4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4E04F-2982-402E-90EE-C6E75AC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54C27-DD5A-4C8A-8B79-D176624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EF065-721C-473D-AB53-B46A9AEC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A048E-DA1C-43B9-B367-474969D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A0262-0E2A-48D2-A5B1-3828A702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AB14-9408-4E2B-AAEB-6BEDC3DF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E8F56-ED81-40F2-A2E4-78D575B8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9EB28-1BF7-4D73-BD3A-C343976E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07FA7-DFF7-4286-A858-787C8E6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F065F-28A7-4DE7-B95B-89897C5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B9654-6D53-42B1-A817-B21F34D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80FBC-ADD3-4374-B92C-BA35015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FD7BB-18E3-4F30-99D6-8A48B65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7634B-6021-47AD-AA7B-1F9C148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363BCE-FE7A-48EF-8ECC-49ABD97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E1648-A2A7-42F0-A865-CFE5A76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70F6-264C-4A5F-B601-DF6379D4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2F161-38D3-4B81-91F1-6941DA49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1185D-4F5D-4B43-BB41-D8D41847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5B88B-D867-412C-9F0C-78E268FB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67CB-28C4-4C76-A4FC-CDD360C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89DF-AA4A-4945-B8CB-4DF72F9B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9F5C-4EB8-4909-B1D3-F45DF0FC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78D2-535D-463C-8889-DC91F42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EC7-011F-4FED-B01C-C766FB5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8548-BCD1-45CB-B04B-CFD3537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6125-772B-4F0D-A143-9867693F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9DFF-5887-4DBA-8021-0A0CAC0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49B0-E3BE-401F-826E-29119CC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F317-C86B-472E-B38C-5F4FA6B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2B0E-8D87-458B-8AB4-095B58F1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8A3A-C701-4E21-A57A-ADC78F8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B7A6-4AC2-4265-AA22-BBE1613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09AE4-DC37-481D-BC95-51FDB470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4FC9-712A-4574-8B49-80A782A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8A7-6B34-4413-8632-3E9C5F7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ACD0-443A-45D5-B823-B29C940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B71A-5BB7-4BFF-A3CB-1F2BCA20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EBE6-2CC2-400B-9ECF-26E55CC3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3BD0-06DB-4AED-8324-EDE6FA7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7469-4467-4831-9C9A-12399B5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C43B-3C4E-49D4-BD07-29008EB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A8E9-9A95-40D3-BF67-A7DD79B6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052E-1269-43A8-A792-10BF01A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ABD0-4E07-4AC3-976E-7BAF0592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E2BA2-02AF-4765-BC23-FFBEF443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42C-5E56-4EFA-A263-07759BC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0F10-5919-41FC-B194-2CCC7618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4B00-5B41-4860-9723-A1718C7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1563-7481-4DAB-8A4A-CB9C5C5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0527-9959-4064-B7B7-A353925A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6B5F-F25E-4874-AF82-727EB39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52F3-EE5C-45AD-A137-CE894A2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5C00-F357-4E15-8328-7F5ACB0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9B5B-755B-4EC1-97F1-AB92EB7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8C09-B965-4A82-B235-4A6871FF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1A01-A850-4C84-8769-3B30836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965-D54B-4933-B0A8-BA12C3D6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5AC9-31CB-476C-BC83-2367EDF0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D3D29-7656-4B02-B822-F892099B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00976-3C07-4D6E-9DC5-BE09B46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C4B7C-154F-4B2B-992F-AE34B3D3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743D-A018-473D-8ADA-2DA44DC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43629-A6E3-43D4-A2D0-9F9447A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84F4-4973-46CD-8DE5-BC68316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E9AF-8A54-41D4-A0FA-C064EFE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F4B5-53B7-4E70-BD00-D30897B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F4FF-4F1F-4742-ABEF-CE51C2A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4B2-6F2E-4BE6-85E7-B92998A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A6F5-6C7E-4563-ACD8-0CBA6C3D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876B-EC8E-4022-8A44-D8540D61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89DE-175A-4BDC-9E30-6358B8F3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D826-DC12-4A2E-8C8B-6889BDD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11AB-ADC4-4D2C-943D-146280C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C6F9E-668D-43AD-AD1D-333137DE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02DF-BF34-4678-8640-A034E52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F9EFA-6DC2-4D00-B887-88301B7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04925-2950-4754-B3C8-268F11E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A141-08D2-48B3-AC89-616F0739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A16-752E-4439-BD42-A58F3E1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2805-8A29-4F41-B9CA-089905F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3B02-8D0B-451A-9F9B-45DD401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983A-19FB-463B-8642-A9E917B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5F58-819A-4F60-876A-6A097423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996FE-215E-4072-9752-BEF2D566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6CCA-3184-4A23-B910-B04555D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B65C9-413E-4EDD-9EFF-EC73C66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AEF2-5D57-4AC6-B8ED-EAFD768C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19AA9-8349-46D3-83DE-8603C085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A5AB-0F1A-4440-851F-BC9F82A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906-1034-4DD4-A242-AE795FA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C0823-FE8B-4FF0-9B34-5AD375E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C66D-6CA1-41FE-A2A3-E56EC49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5E9DA-D8F5-4DC6-ACD4-DE05DF7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32F1-799F-4519-A5E7-62D21DC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DE25-F1CB-46B3-8E5A-C03ABF6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E5EBD-E956-4046-9041-721AA10A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96E7B-951B-4B77-8FE8-422D1421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2CAE6-4926-4A6B-9C15-CC25880E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878DF-0DF0-4E8C-A5E2-91C668E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3040B-1233-47A2-89CA-03B2DD6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F11-D47B-46D4-9BCF-BBD7FB85F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405-6EF5-4F15-8703-00CB5131D1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985-6E36-4820-AC67-67802B229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2CBE-24D9-48E9-A82B-6AE7B53AA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FBD-ECAD-4095-A7CB-0A02E4B52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FD7-A952-4B6E-B8A7-7D5F032BE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481-A9DB-42B0-92D3-879B16337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D30-8D43-4D1C-97F6-71F2B823D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CD0-49E4-45B0-81C6-7527A87BF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313-C891-4CE1-BEFF-FDF0EC7C4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2BC-24EE-489F-A004-031AC7BA39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69D-2D66-4656-9B7F-17B29485BD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C42-B62E-469C-871A-0ADA15162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014-1E47-4BD6-815D-6F5206FE0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920-C7AC-44BB-B2EF-A47BBFABF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7A4-B54D-4F36-A2A6-61EDD1AD3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F28-ADAB-4E35-9EB6-120FD7AF2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6F35-0C23-4378-AF85-B11DB2BBB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C3C-EBA5-4E8E-A175-85EA55AF5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BB1-EBE0-46B1-9E4B-8571FE9F5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44A-5FA5-4AE0-B037-6E4DE8C2C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BEA-05A8-4035-92A8-9AB565BB9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C240-6BA4-4F9D-8CDE-B1D09E016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216-58F8-4C3B-BB06-E8F8649A4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D33-0EA7-4F18-BBE7-F28539C80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385-BAA0-4E72-9978-318A02379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EE33-8143-4C42-952C-5F62A02DF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B7DE-2FFF-4895-A435-48C57181A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522-FF4D-4985-A769-CD3774E50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D50-DAFC-4270-910C-B7398AB15F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40F3-602D-4CE2-B8C5-2A67F0B01E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3B1B-A15D-46ED-B456-AC8BFB653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BFB-D610-44F5-8C65-9563BA790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CC7-18CF-4F8B-8256-1EAE0607D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56EF-39B6-4B64-A9F2-363587BC5C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84A-29BC-4503-8837-09D0DC4D9E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C65A-9CE6-4B6A-AFCD-4910EAA03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236-D9CA-4426-9612-BF8AD8229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EE8-5C12-45F2-B741-46096CF0F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CE1-853B-466F-9DEC-647943E53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2933640"/>
            <a:ext cx="45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1019160" y="1438200"/>
            <a:ext cx="7105680" cy="3981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826920" y="260820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55640" y="3184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55640" y="37893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684360" y="436572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611280" y="4941720"/>
            <a:ext cx="7993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8609" descr=""/>
          <p:cNvPicPr/>
          <p:nvPr/>
        </p:nvPicPr>
        <p:blipFill>
          <a:blip r:embed="rId1"/>
          <a:stretch/>
        </p:blipFill>
        <p:spPr>
          <a:xfrm>
            <a:off x="657360" y="2262240"/>
            <a:ext cx="7829280" cy="2333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806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7585" descr=""/>
          <p:cNvPicPr/>
          <p:nvPr/>
        </p:nvPicPr>
        <p:blipFill>
          <a:blip r:embed="rId1"/>
          <a:stretch/>
        </p:blipFill>
        <p:spPr>
          <a:xfrm>
            <a:off x="966960" y="1268280"/>
            <a:ext cx="7210080" cy="21621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7586" descr=""/>
          <p:cNvPicPr/>
          <p:nvPr/>
        </p:nvPicPr>
        <p:blipFill>
          <a:blip r:embed="rId2"/>
          <a:stretch/>
        </p:blipFill>
        <p:spPr>
          <a:xfrm>
            <a:off x="9360" y="3619440"/>
            <a:ext cx="9125280" cy="2257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572000" y="18018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596360" y="184464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572000" y="2421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236000" y="249228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1908000" y="42210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989600" y="422100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8416800" y="4221000"/>
            <a:ext cx="71280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1936800" y="4797360"/>
            <a:ext cx="83484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5119560" y="47973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913520" y="4840200"/>
            <a:ext cx="93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7680" y="803160"/>
            <a:ext cx="8648640" cy="5505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580000" y="301140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796000" y="368784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5084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59280" y="5084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979640" y="5734080"/>
            <a:ext cx="115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71680" y="1380960"/>
            <a:ext cx="8001000" cy="4096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276720" y="142704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156360" y="142704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1692360" y="2133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050920" y="4149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940360" y="4149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5508720" y="482616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90520" y="1347840"/>
            <a:ext cx="8562960" cy="4162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9636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667640" y="3573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667640" y="48830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576360" y="1752480"/>
            <a:ext cx="7991280" cy="3353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380360" y="24354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380360" y="45226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85840" y="1709640"/>
            <a:ext cx="8572320" cy="3438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611280" y="38750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11280" y="459576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62080" y="1352520"/>
            <a:ext cx="8619840" cy="4152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55640" y="325584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84360" y="380376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826920" y="4465800"/>
            <a:ext cx="81378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55640" y="501336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309600" y="1271520"/>
            <a:ext cx="8524800" cy="4314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1160" y="719280"/>
            <a:ext cx="85816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7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