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029-2E12-419B-B844-A6735499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35F-86D0-4397-8EF4-EEBD7F95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15A39-9D4C-4120-A5AA-4C9C06F7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9207F-2171-4091-86F2-A3939208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2828A-E580-49DC-AA9D-D41F8344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21443-89AC-47E4-A29E-6ECA60A6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0BBD4-A772-4416-8C77-60A4BCD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25366-A160-4B4A-BFDE-3C201289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1BE09-B554-498E-B1DC-B7CC4D11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ECD41-253D-45D2-AA38-B5132F6E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3C544-FA29-4F1D-A113-6B72AE56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4E6E5-2CE1-4B9D-8104-94CC085A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E61-191C-4DCE-8C4B-CC3DD4D0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A5329-27DE-42DA-A887-6A79D76B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A06C8-E6B4-461B-B79A-39147257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09507-986A-490C-A77F-C0A73BAA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09F30-B685-4C05-92B8-62720699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C6612-4E7D-4FA3-B509-84D50A21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31DE7-47ED-4A93-A41E-24BDA58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D80BB-7648-4329-9A29-85C9ED8C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A54F7-AED1-46E6-91F8-E6938D0C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11211-ACA1-453A-8EA8-ED50B84C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A513E-0E28-4BE1-A129-B548404F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C49-D016-454B-BC43-BAD09F13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AE0F8-3950-4FB3-ACBE-141E322B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1353C-B465-4F83-B221-A468E5BD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FC3FC-04EC-475A-A06F-79D4F785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D7626-B76A-426F-8610-6B87C218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3442D-A708-4C77-AD45-904ECB6F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877F7-519C-4E11-A124-833EFEFB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1C8EE-ACBD-4DA4-A9F4-BF83DC29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E163E-4964-488D-AC0E-83574067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9D208-958C-4BF5-ACAF-23C79254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4175E-AEB3-49A6-A349-3AF60AB1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3B92-9D92-403D-98A1-37978582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BF7F2-03E5-4A93-806A-1AE1D3EA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33D35-7153-4656-9A22-A495DF68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0B8C8-A43A-40A1-BFD2-60893AE9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7BF90-9827-4792-A68F-A8C8BA45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B7585-2C4F-44A3-8E13-FD8FFC9E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7B93A-AF95-4147-9F22-7B70ABAA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34821-E2D0-459D-8787-58562D89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E7B86-6F05-437F-96F3-2EF65249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6C896-10F3-47AE-8FC2-F102CA92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9C5EC-4612-49ED-8502-50F45592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EBAE-6046-4B5F-A1FC-A477AD17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D2C33-4201-4F9C-8942-8EAFC6E2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9D13F-9748-480A-A1B8-9F5556B1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99B91-E468-44BE-BCF6-ED34408C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F2D00-1E29-4ED4-9C3B-A34FC403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6320A-B7FF-4031-81FA-16581D2E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F7AEE-CB65-4F9E-B8F6-8C2B89A1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4786E-0533-4593-9778-4A0AAFEC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47AEC-AAF1-4DD2-9E7E-EEBD0FBC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BF501-3A89-4946-AE29-AB30204D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402CB-4C05-4D64-BA46-3DFCED34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BB32-7F81-4BFC-8A62-81039C43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2B1BE-B904-4817-9E02-7F54BD84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FBCA6-516C-47F9-9B98-46C57D4E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74628-F5C0-451F-9BCE-EFB48A19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042EA-9B9E-4F15-BA4D-F6A7A294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B51CB-ED7F-4050-8494-D98B7423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A69A5-99A3-430F-86DA-EA255DDB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F35D1-E5F0-4082-A68E-B8838770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69432-F587-4D17-8E8F-9817744D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078BF9-4A83-4816-AE8B-838DD8B6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9979E-444D-4423-87C0-E5279FF1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4EE6-CA93-4FF0-BADF-4F969AF0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EA676-8381-46BD-B117-61BAA0A5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69792-50E1-4AAE-AFD9-E78FD7E0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DFD03-C969-487C-8AF4-24CA0693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385EE-90B8-4627-A218-33ABB12A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1471D-9BD1-4693-9CC4-96523505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55BC5-FB11-45AA-A989-51090DD4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DB190-E3D7-4B2A-806A-3F255844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4C770-20B9-4BE8-B87A-670E1DB9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2EDD4-655C-45F9-8C63-F8554B1E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8E8207-6AAE-4C21-A3A8-BB12D583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1AD8-D0FD-48BD-BB02-AC1A40F0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CBEA6-07D9-4D3E-ADC3-C8D7FB45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EFD37-6EE2-45A5-BCFB-F5D32E1D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F562C-67E8-4830-93DF-5488A92C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E3F65-B679-47BD-AACB-EB523339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109F1F-9555-4F1C-93F9-C1403B78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E299D-F6B9-446A-BAB1-07398932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62109-71E5-40F8-8465-D1C100EE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1FB929-E917-4766-A29B-6F588DB4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B6705-D4C3-4BBB-AA18-1922AAA8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BE30CE-23A3-4B2B-8E51-286A0E69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4E1B-5983-4288-A59A-185FEDDE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5EFFF4-4597-476E-99EA-BE6DC36E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16CCE-F9DD-46DC-BCC4-8FBA9F39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781BAA-FE5F-4207-B4A4-A0CBBE6C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6B7D4-CE0A-4BF4-81FD-16C6AB66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9255E-2063-46F9-99F6-41CD1B44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9AE73-6D3D-47DE-8571-1EDC92C1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FFFF7E-6488-4176-8E75-44923DBC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2EF12-20F2-4C3E-9377-3D92D94B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307E2-0C31-4026-A908-668365E3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9FD0E-10EA-4C59-B2D0-013790AC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9B81-02E0-4682-B7CA-A60A7C6D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A77B1-37D1-4C45-BBDE-0672D8F4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5C6E5-5E22-4F73-A26D-E4E61E71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93738-5D54-4A3C-9792-6E5EE17E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AB9F04-F873-4D38-8587-A1050FA2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12AB7-A2D6-4CC4-96E6-053F0F9C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505B31-120E-430B-BA6A-658E2608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E9390D-58A7-4B13-A784-79BB8841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CEC8B-7E8A-4A9D-AC9D-613B436C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E8E65A-C6C9-4741-8772-DC88DEE4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BBF3D3-8C45-47F1-9B6E-773CFC35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2EE-6381-460E-80E3-67CBAC06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76D7-764A-4356-9870-CF689DF2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BA6DF5-A9FD-4F15-B34D-CA4DE5E6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FD9C1F-C79E-4961-9D49-68A531D6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F1C93-0048-4CFB-89C2-5B772ECF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CB1D28-BEA1-49FD-A166-6BEB4185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5BFA9F-858C-4B33-B52F-701D0480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D641E8-191B-4140-868B-5D83486C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17EFD-2D8E-41A0-9147-8773F493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AE50F0-7F2B-426B-A8BE-95AC9878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BC79CC-BCAB-4750-B514-F16FA811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98226-48A8-4536-8654-893545B1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916B-5FF7-46CC-BEE1-76D6F055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40C77-E0A4-4973-B6A3-5CBFD774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40AD5B-6148-4EA4-97D4-3F37E045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6BF972-9171-464E-8F63-7184EBB5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17F0E8-ACBB-4474-B9D9-1E273CDC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1747F3-88F8-41DD-B092-3D6B5349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46F7A1-4F6B-44EC-9153-3D700762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3188B9-1AD8-4901-A499-A4978E0F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046CDE-8AA3-486D-94D1-F4F37618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BBA2C-2A1E-4E8F-85EE-4D40871E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0B7EA1-6050-4369-966C-B9FF4E09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77E4-28A3-4721-80F3-35F02B3D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0C9811-7877-427A-BA59-AB83E098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141547-E20C-413F-A8F0-7C6C8BFC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C1022B-32FE-4910-9CC7-BFE5E05D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C7DDF9-537D-4F8A-B83E-1D372265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32B3C-DDAB-4AF2-B3F8-EE0E3A3C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8BC3B-043B-4F02-B068-7861204F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87E08-A856-418A-ADD9-E93A2F79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F29F5F-4B6C-4690-91E4-D6375C83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111619-BF8B-4722-82A7-454EBFFF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2EC3A1-A2CF-498C-850F-00153527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1E93-09C3-475C-96FD-1C44C183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F1067-4E50-4BEE-A661-58BC0D0B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C353D4-EB9A-4FCF-9D57-7A6C49DF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A4B58E-E1E4-4243-BC28-C9048F13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F8A8E5-CAE2-4944-9160-CF9D0766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ABBA59-5311-425E-908C-2E584A98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63F0E-D27C-4A9F-8566-A046DE3D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4FB92-5B19-4417-A58C-78CE7BEC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64D184-2B75-435E-B3F2-AB58CF5B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8C85B1-163E-4E0B-8234-8F4495B1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779AAC-8CF3-4B41-9B10-6400ADCC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188F-C6B1-4887-9180-44958F58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FA14CD-2623-4E99-AA4F-5D1FD403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DF492-A1BC-44E9-A27B-485B8862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982002-D644-4893-BDFE-49856118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BC03B-6E58-46DC-A422-7B681DED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ACFCDF-B4E4-4DDF-9D6A-04CC612C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E735A8-7ABE-4A1C-A7F0-62494584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343E25-27EC-450E-AC6A-091A25BA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558C68-B86A-4CE1-B978-BAEC0514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B88740-DA13-4FAA-B402-CD03B7AC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2118BC-8FCB-4C75-B74E-E58D3EB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D8C37-BA1A-4995-AEF6-B1AD1701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CC034E-2CFC-47E2-9268-1131692B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C06126-E594-40F5-BD16-EB2C5CA6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6A1868-B2E5-4263-8789-297A426F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35B18-69C7-4975-8F5D-11888FA0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D613-8F30-4761-B26C-251B2586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7F327-2B5D-4623-A415-9800284E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47901-C8D8-41F9-BBBC-38976E1F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1F5-D779-4802-9210-733B98EA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CC425-7FCE-48AD-B3E4-ED8B3758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D11B-B0F2-4115-ADCE-C0D94079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F2D27-69DE-467F-ADAE-685DB2A4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E29E2-83EC-4EE4-9050-F31A1C40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6576-018A-4825-826E-10EA5B64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5A16-2C78-4C35-B79D-4F9776FD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8E470-4559-4416-831F-C093DB1B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02C53-2638-41BE-856C-6E49CA39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336C-3F79-4E2A-BC1A-3C21247B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D22E-D9C4-489A-A96D-1BB8099C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17B-459C-4826-8CAA-6241CB6E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5EACC-F090-4F7E-8C96-F43EEF20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C2C15-6C94-447B-A951-C84936B0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439D7-03D0-4565-9FDA-9B1340C0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74FE2-BD4F-423F-BA95-13301736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26BF8-8DBD-490F-B468-C7D72F2E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697B-A627-42EA-A929-E1BE2326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49294-EEA4-4906-99B8-1672807B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B716E-99A9-4569-8685-B66F69FA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4AD76-D155-4B74-BBA9-A2F545D5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53678-0F0E-46EE-966D-2824DA25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41C-6496-4495-9BEF-F34DB63E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159E5-8E9D-4E09-9ECF-46B9B7FD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5F2FF-472F-4137-9F32-AB4ACC3B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99D52-232C-42CF-9D12-C911F062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AA7D5-24E4-478C-9543-B62C3A8A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61981-6485-4AF3-B5B0-912F546F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50B7B-6EBB-4DE4-843D-DC805CA8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BDBC4-C291-4DE9-9173-87DA9776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2C155-AA70-429A-A40C-7107A954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B2835-BB1F-4BA2-9040-BE820650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F3CAB-F65A-4F9D-8968-4F219642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DF2-70BB-4BA4-9E6F-DC121AF8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9E219-8F37-4AFC-9370-82B6B9E9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9B397-37D5-4C12-A0C7-265ABAC6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C709B-1693-4D2E-98F3-07633EE6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FA80F-B3AA-4C1F-A825-CDFC3438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4E131-B20A-49EA-A304-18972D03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E0DD0-0591-4EF6-8545-B98EB162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5AA74-6A1A-4262-8C59-32D5136A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31CE0-1D37-4155-85D2-E718D10F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FC8E3-2846-4783-90AD-60124B33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3970D-2A36-4465-AB3F-D22CF6D5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494-8EEF-45F0-8003-E6BB3F43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7630C-F51E-483C-8CD7-DCA65672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ECB84-6D33-4748-B3DD-6BC950FF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77549-A039-4FB3-AD0F-6458EF3B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A2268-3915-42FD-A080-17AAA2BA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AFC4C-82A7-4781-96AF-F9E7CBC1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4CFE7-8432-4088-97E8-0110BBE9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EC3AD-B11A-491A-B077-1510DE0E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C5B79-A066-49C0-A900-52D8BFFB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2D73C-44E2-4DCC-8A11-55E8957D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9E8DD-2E87-4D31-8697-BCD68BDC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C3C-F380-48E4-85A2-25F6B82A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2344A-F98C-495A-9DDF-20AD068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66F57-675E-4505-B6BA-525644D2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58EDF-5637-49A6-8BBC-FFBEBA5C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7C6B4-FC89-4F8B-8DE8-7B833E96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CD5F5-0A3F-4C9E-A993-7EE1012E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447C7-5EAF-47C6-A8D5-1B3028DD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A8074-F660-48D2-B336-A24AA882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9C329-4E05-4C5E-95EE-8F169FF8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DC237-102D-4B5F-8198-0DFC2D78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5A584-04D4-480C-BAE1-4AF50F3F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898-1A1E-43E8-958E-84A84522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09C8E-43BA-4E65-BC58-A8B674AD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16CF0-F6FE-45AB-8406-E00E6942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3758A-3BEB-44B0-AF2A-DA4D4826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281B0-B173-4B6B-926D-7D9DADAD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B40B1-7880-4930-87E2-74C6E2C9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A830C-7C52-457A-98EC-6027A696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EDD02-8F3A-4496-8EE4-5DD8F817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F7350-47EB-44E7-AFE8-6F8F5DE5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07CE4-7025-43C0-A931-9BB11A85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3DC2E-3644-4C20-B9EE-0C774201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900F-5E51-4967-ACC3-40041CF2F8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E439-6A69-4F86-8230-012F2C251D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8D96-E51D-4B93-A4E9-03700FCB73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50BC-4363-44E5-85DF-3F743FCCDE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A973-914E-4E23-B0E7-0F348AB869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40C2-D063-4864-8C0B-EF77203539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A7A1-84D3-458E-B5CC-86DEE01D18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8050-291D-4808-A653-376DAD19BD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8A0D-A761-4B23-A3AD-CE71F3AD5C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0C01-A01D-4C8D-8937-AEEA9C8E95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7986-3D45-4791-9ED8-D55122E80B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5D67-1201-49E0-B90B-20708B8B64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586A-04A3-400D-A30A-34F7E11D8B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BFE5-643B-4695-8EF7-25ABEEBC64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2F73-CB08-4123-A31F-B4452A56BC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DF99-BCD7-4A9D-BB9B-D39260D51E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24AB-E43B-442C-B5AC-276C41A852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DE04-E86B-4947-892C-59F0F70831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C719-43A9-4AD9-AD3C-339527B13F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F5A8-557A-48D7-95A3-455F4CE964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FF99-B5A2-4319-AE84-A57CEBAC2E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B54D-C186-470C-A120-E3194BB0B1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CBC1-3639-4A03-A1D3-C5776F21A3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40F8-18BA-4A69-891F-485AF8E2F5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43EC-40EF-4C9D-ABCB-660D33EA6F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592F-DEF1-4C18-BA56-90FB954854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2BA2-83A5-4850-9B52-8767FBCA8F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F359-280A-4FF8-A541-D76FEB02E0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509E-6B87-4D25-B942-89F6D9AAD8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C683-2665-4C40-9AD6-70F52D51A4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3941-4CAB-40E5-94D0-F71CF0E7C1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F052-D2B5-424A-9F4D-CC08E9BA4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24F0-6B09-4DC5-B057-E668BF9AF5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3649-6A51-44D3-95E8-DF57BC7D25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6DF7-F5CB-4906-91E1-9B5E2E6FDC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6404-41BF-4E77-B4D5-FA7F664AA4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6078-5C6F-41E8-9857-C1F3DCB97E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1122-D8BA-4BE9-834A-0693FB82D0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7FBC-55B4-40C5-A0D8-595F864E76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AAA9-F79A-4463-9847-8CFC755EFD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14440" y="3071880"/>
            <a:ext cx="4515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2080" y="95400"/>
            <a:ext cx="8413560" cy="66294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24360" cy="1295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851280" y="244944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851280" y="321300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900000" y="4005360"/>
            <a:ext cx="7920000" cy="1295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900000" y="553068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900000" y="6294600"/>
            <a:ext cx="396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328680" y="352440"/>
            <a:ext cx="8486640" cy="61531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826920" y="292428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826920" y="371628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900000" y="443700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971640" y="5272200"/>
            <a:ext cx="525600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900000" y="6049800"/>
            <a:ext cx="525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314280" y="652320"/>
            <a:ext cx="8515440" cy="55533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2757600" y="335772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4141800" y="3371760"/>
            <a:ext cx="143820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2843280" y="443700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2800440" y="5516640"/>
            <a:ext cx="119520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4327560" y="443700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4284720" y="5516640"/>
            <a:ext cx="119520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5695920" y="3371760"/>
            <a:ext cx="143820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5881680" y="443700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5838840" y="5516640"/>
            <a:ext cx="119520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1"/>
          <a:stretch/>
        </p:blipFill>
        <p:spPr>
          <a:xfrm>
            <a:off x="7251840" y="3371760"/>
            <a:ext cx="143820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2"/>
          <a:stretch/>
        </p:blipFill>
        <p:spPr>
          <a:xfrm>
            <a:off x="7437600" y="443700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3"/>
          <a:stretch/>
        </p:blipFill>
        <p:spPr>
          <a:xfrm>
            <a:off x="7394400" y="5516640"/>
            <a:ext cx="11955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7352" descr=""/>
          <p:cNvPicPr/>
          <p:nvPr/>
        </p:nvPicPr>
        <p:blipFill>
          <a:blip r:embed="rId1"/>
          <a:stretch/>
        </p:blipFill>
        <p:spPr>
          <a:xfrm>
            <a:off x="652320" y="2433600"/>
            <a:ext cx="7839360" cy="19908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5029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6324" descr=""/>
          <p:cNvPicPr/>
          <p:nvPr/>
        </p:nvPicPr>
        <p:blipFill>
          <a:blip r:embed="rId1"/>
          <a:stretch/>
        </p:blipFill>
        <p:spPr>
          <a:xfrm>
            <a:off x="357120" y="74520"/>
            <a:ext cx="8318520" cy="6626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476360" y="2492280"/>
            <a:ext cx="4175280" cy="12970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1476360" y="400536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1476360" y="479736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1403280" y="5487840"/>
            <a:ext cx="73454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628560" y="1195560"/>
            <a:ext cx="7886880" cy="44668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258920" y="285264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1187280" y="361620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1187280" y="432108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1289160" y="5129280"/>
            <a:ext cx="4249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4276" descr=""/>
          <p:cNvPicPr/>
          <p:nvPr/>
        </p:nvPicPr>
        <p:blipFill>
          <a:blip r:embed="rId1"/>
          <a:stretch/>
        </p:blipFill>
        <p:spPr>
          <a:xfrm>
            <a:off x="338040" y="914400"/>
            <a:ext cx="8467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2231" descr=""/>
          <p:cNvPicPr/>
          <p:nvPr/>
        </p:nvPicPr>
        <p:blipFill>
          <a:blip r:embed="rId1"/>
          <a:stretch/>
        </p:blipFill>
        <p:spPr>
          <a:xfrm>
            <a:off x="585720" y="1285920"/>
            <a:ext cx="7972560" cy="42861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539640" y="1411200"/>
            <a:ext cx="734544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734544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539640" y="2968560"/>
            <a:ext cx="734544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468360" y="3716280"/>
            <a:ext cx="597528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496800" y="4437000"/>
            <a:ext cx="597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6:1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