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1AB-0961-4F9D-9520-B9794FBB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045-AC2E-47A9-AEA3-B0AF97F0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BE626-EDAC-4388-AABA-D9D6E040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8D1BE-6ED2-47BB-8D8E-EE06FED0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CBEDC-8536-476F-A0DA-F2F7900F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374CD-29E8-4432-986C-B8CDF72A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B83C0-B9B1-4136-BF8B-628F3209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BE78A-73FE-42EC-9CBF-4DC2122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1DF28-0092-4A05-8C89-8E1A5A93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55FFD-E68E-450D-AC72-A57ADE3D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85701-ACF0-4296-9A40-52D4C79B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269CD-3DB4-4133-B622-F88DF139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5CD-24F9-473B-B5C3-7B013149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EBA81-059E-4CCC-8D45-0AA7C079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DBA71-EE92-4AF0-B21A-B9F20CAD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AC7D6-0EBE-4162-BFBD-651EBF22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E5D39-D51B-4300-8E8B-7768997A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01308-AE61-4526-8EB3-C1C4296D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8C2FB-C30A-42F8-AB66-0EB4414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0427D-F405-4AF9-BBDF-6090DE86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93805-911D-4A30-8014-8EFA9479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8332C-8DAF-44D4-87CF-59D268F9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14D6C-6063-4C7B-9E9D-A3A685FA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1EC-F2B2-4CE4-AE7F-63B7B846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8CFF7-767B-4A43-A225-2EC26BD0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A8FB4-5BBB-4995-A56F-4EE332A1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0FB49-B7D9-44B8-9442-36A15DBA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8FAAC-F0E8-4713-8F32-DD48363A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18FF4-D2FC-42D0-BF58-1C7A6B03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E82B5-C7D7-453B-96CA-764FC0D5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49042-6F2A-4AD3-AC82-2F5E10F1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20559-FB20-4626-BF45-5144A319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9F1CD-4B6C-4C0A-91E4-8A8712F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CF83E-91B4-4C01-8D3E-7F0FB84C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F5C5-F428-412D-A3FB-FC304D08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48BB7-9E6B-4D26-87E4-176E8194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8FA5A-A508-4C94-AF46-B44082A7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7A1F3-7249-4074-9E92-B2F18117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050CA-C227-49A0-81E6-FEB586BB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D1365-4029-477A-829B-EAD7ABE8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807CD-0D3A-49A7-B2ED-09AA4C6C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0A829-5654-4371-8DD8-94BE122B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39250-72E9-4C5A-AD70-CE75F914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540CA-C922-4F1E-8C79-CAF6833F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7C8B7-9CF0-4315-8567-ACB6325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FC04-CB30-4CE5-89BF-3D3A057E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5F059-6209-472E-850A-E085E872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1434C-C4B3-45DE-92BB-CA67FB7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50902-2031-4416-A612-D7F69D07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70C71-08D6-4397-9148-97F0E511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AEFB0-E28F-4608-A018-9AEC9A5B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C03D5-F34E-47E3-91C4-0BD816B0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60DED-FBD1-4849-923F-735E6FDE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2E971-9AF0-4E84-AAA2-DF6D9482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77A9E-418B-495C-B1FD-E80753B1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3B6CD-20D4-43DB-99A5-3375EA06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B1CF-130A-4D80-B80E-5AC640B8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EA14C-FEF9-4B94-B5AB-ED6CEE19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0B42E-8589-4A5F-8B42-8B445EA0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99F3D-1D52-4BCC-AD35-502F8A50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308A1-6FBA-4DD6-9FB6-4AE9D676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08293-EC4E-4405-9FFA-35C85109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833F2-158E-418E-8370-DDD9F4EF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75F5F-C5C7-48AB-B398-AB531A42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055D7-BF2A-44BF-8A8F-898B5968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64725-829E-444C-905C-43E6A605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6715D-9583-434E-B60D-305488BB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7EBC-5E73-411B-AF10-EC4E7F7D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79E49-A3B5-4945-8433-66E16234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AC28E-128A-439B-917B-8471F248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7BB43-D0D5-4DB0-A13A-4E6DE4AB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B6FF8-79E7-4EA5-AD96-36A409E9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7780F-2F95-445C-B08D-5C62D4B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79D32-483C-4E3F-9D4B-8C5BDE41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D6461-E767-48CD-9277-92A3D156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459D4-5145-4B66-89B9-DD59B494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FEA76-4EE5-46C1-9C16-7E68DCFE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669E2-2158-4EE7-925A-6742CCEC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544A-56BC-4DB8-A1A0-DB7258B8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B8046-D3DE-4710-9295-D287D3A2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5CFBD-95EB-4849-B806-4D3F8611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AA4B0-C5C9-4A78-805C-AC6587CC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F1D58-B8E7-4C94-96D8-19BEA752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9616C-6182-4A31-BA11-EE9B1A18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FFEAB-A861-42D0-AF5C-34016D2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B9C11-727A-4337-B418-38DD9EF9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7B8A9-A0BE-4098-B738-463E70BA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CB479-2FA7-4F89-BF17-0AFD7F08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064C4-568D-431B-ABE8-EF648A99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7F11-145E-41DB-BB65-4FAAC7AD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ADC53-C83A-4E69-8F5A-619C1215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1D9C7-F3EB-4C2B-BD9F-78A52168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8470C-79D3-4164-B33D-C23C1CBB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0E1BF-559E-449A-9660-084B8F42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87430B-CC27-4386-9CDD-4ABF556E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1551C-F2AC-42B9-9BD2-F5E9482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AA4E8-9F03-41DC-9A54-79C841C4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134E9-EA34-44B3-A970-CFE4B1F9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B82AEB-1A35-416B-A500-FCD6B23D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5778CE-670C-469B-89D5-B55AE363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7DAE-475F-4FEE-B45B-1D201CB4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E8E5C5-EAC9-4811-B561-4962C06F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794DD2-5E02-4013-BCBC-2D4A6308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0D90D0-6764-4C62-A1B5-49E46742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C9A3F-484C-4F72-9642-D8421810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EEDE3-996B-42ED-B5F6-79AC6302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9BE4B-3F5D-4D9B-9A1D-B5DF224A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680374-A6DA-42C2-8CAD-82887264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17E8D-FC2B-40AF-ABDD-609AF6D9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96CE3-AE38-4DCD-BA1B-930FC974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97693-58C2-4FEE-8FE5-8B43F7D3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467-855A-4F78-B838-CE64BF10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675F-C774-4E14-B1D3-3D6614CF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0E6F44-F7C3-4E64-AAC5-C1A24F84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FA5AC-B2DB-4CC7-99BE-25B0DE71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F024E8-68BE-42FD-8411-2F0CEF9A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5F684-6333-41EA-BA44-23241F3D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D954E-DB50-4D92-8F18-954419D1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2C291-E1B9-4C87-B271-818DBB9C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CC361-588F-40D3-962B-403DB236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CF2D3-E032-41DF-AC8D-7C501FEB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661F8E-3D11-4926-BD1C-41EC8653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CED02-22BB-4F01-859C-123E0065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CE12-D45E-4EC4-8705-4880577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BC984-DFD5-40C8-9F71-A42CCEAA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62672-4A8F-4BBF-949E-2A3DEEE6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F7F0C-0B97-45AA-9608-EA332DC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E4D06-A0E2-4D71-96E5-47634D9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C24A9A-E022-4F7A-83E7-D18BDB39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3B8D8-A2DC-49E4-B975-31B9824E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679F2-D8A5-40FE-82F7-F574A9DA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01F3C1-14CF-4C31-A122-DCA22471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C8566-8D64-4671-A356-97751125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4A55BA-3D06-4A8D-92EF-521E74A4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516C-47AB-4EFF-8909-0EB9ADBA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C49973-E856-449E-828C-F2C8D5DE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ADD34-DFD1-4AB1-8E18-42520791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CCDE50-64F7-436E-B667-6CCB481A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61208-4AC0-4FC4-BA19-42134657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7F3CF-1E0D-43D8-A7D1-EAA4F26A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51927-1C3E-4E34-AB16-5D3FAE8A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EBA351-1E2C-4E64-A1CB-B7B254BC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DD1060-D567-4C2D-80C8-FCA0F64D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4EBE9-2C9E-47D0-A2C1-03B079C8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386BEC-5B12-408B-9862-A47402BA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B193-04B7-48EE-A550-F86E89DF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D4311-B45A-43D4-A669-A1F066DF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5E3B8E-B04D-4E71-AD12-D88A77F6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E1E1A-8F06-4B01-AD3C-81D63B35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B7900-2C09-4975-B4EB-29D8DACA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BE6BF9-3F4F-4EAD-A281-68CC9998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A83E1A-F3DC-46FF-8DD2-4ED5198E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BF3B2-838D-4EB1-81E0-1718EE87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59730-A66A-43E3-A1A3-3CBB5DE0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CDF1D-DF10-48FB-AD8C-C7BA566D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AEDD0-E904-4807-B3B2-2B00D8D2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CFAA-374F-43D9-B72A-5579A140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EFB02-D4E9-4B7B-96FD-3A89600E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4C3E7-F686-4E66-BD84-A082D0E9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923F99-85CF-4B37-B427-C91D9EA3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FF382B-821D-456F-ABFC-3EE719D2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462E4A-7292-4D6A-9CDD-CC983EA8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1889D-5C8F-4CDB-9B58-300330F7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7FD361-D8B1-433B-A07F-7D52F7A9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39F8C6-3E42-49EF-8E3C-1B6484EE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439DFC-CC32-47B2-996D-AC58159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8C2C2-EF7C-4322-A5E7-AA33264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9A59-827A-4550-BEEC-3667231B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C7649-DAC0-45D5-B1BE-58625028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B5D00-0C7C-4117-AA79-60453B98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BD3A3-6D72-40CB-BE0B-2E6987F0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7A3CD5-E7F1-4D73-B08F-20269FF7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8345C1-0187-43F2-B9EC-0A37AB99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4E4F90-609B-4D76-A607-2FAC6E1E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4BB3A7-DA1D-42D1-B5EE-3BB8FA16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9BB71A-5E93-49C1-A69C-6C84CD6C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996F82-55D5-4CFC-9A79-76CE83E6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43A9C9-257D-4F51-9AEE-3DBEB7DA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5F73-14B2-4901-8413-FFB6E024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72BFE3-3A3E-424B-B928-938DF3D7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7EFC30-09CE-4A47-9958-F7DD345A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58FE94-CDD4-43AB-9879-3C52B337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390D6-E0FF-4B06-B8FC-1292921D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92725F-26FE-4958-90E4-D83124C9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495D0C-B7FD-4366-B93F-E3E644CE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6E5873-DA9E-4B2D-B666-E2C5C69A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0EE444-7ADE-4B1D-BD3B-69C37ED9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0E31D0-CA18-4E04-9714-DDD5C210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8CF0EF-DE26-4D5D-AD56-A2476208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952C-C52D-4FF9-98FF-1E2AA44E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F7D80C-3E76-49C8-84F4-F3B9F611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FEDAFE-6DD6-4E00-8006-BE52D836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A93706-8067-4487-AD29-B5DC3FE4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8D9BCD-C5A3-4A41-BC67-84355A10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73ADCE-062E-49B2-B34B-F9E45C96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8D72F7-4180-4066-A5EC-DEEFCB68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8C97FA-D358-4092-A4FE-CDB259D5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E41F-AAA7-413F-B481-B0D6ACB9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F5972-6CC8-4E10-8AC7-2772CC1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FC0-7BBB-4AF4-B4E1-50B9465F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30B5-3C03-4045-A15C-C345787E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E7E3-3870-4CBF-A3F6-D3C82808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9622-872B-4F07-A88D-F1549BC3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6F1B2-B581-4AB7-AF13-0F8313E8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5799-3433-48A2-A1B7-D8080260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9FBE-AF66-4D5E-9C8C-8BB43F97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DA43-26AD-4190-B092-FCE0FE7D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12744-E037-4AB0-A525-B7909C15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13B11-7E24-4657-A38C-4742C161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1ADC9-25F1-4D1B-A64B-4227C060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66A-7E02-4A9E-BB0F-DCC18DE4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B68C-66AA-4573-B0F8-C599B39B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611A-DC59-4A62-A509-E7924AF1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825C8-FE2E-42F0-BF35-64BC6687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E6C0-180C-4FCE-8EB5-8B73B205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2092-9D5A-4A13-9137-7BCD6A25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5394-ACB1-42FC-8E89-808A5983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DE74-4A4D-442D-A004-7834B980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6AA8B-F1DC-4CA5-90E1-75E270CB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DBDD-A849-4249-B386-04EE0DDA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2EF56-F028-47C7-A11E-09A3AFBF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6D8-0C83-4E86-8458-A37678AF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9D8C-997E-41D4-AE6E-9D4D07F1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11255-3669-4430-9A16-E21B8E9F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CCC7-6436-49DF-8A5D-EFA48859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49496-A3F3-4352-B83D-D7CBC523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A98A0-D5DB-4292-B3A3-0380E87E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168FC-7D21-4C83-85A4-9FED9E1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7E563-C190-4994-B754-F9506162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962A-C8D3-41E1-97B5-1E1AD008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D411A-2B3D-49DA-9335-792ED892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F5D4D-6C8E-485C-9C03-2B94E14A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969-45A3-413F-9A17-BA67A5C6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5FB58-BED8-4EB3-944F-B1861A3F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36E2D-60E5-4B26-8BFB-2D1AD493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D7E79-2885-4A1E-B528-46CC1B7B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6D7F-6FB3-4869-B941-776D2668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66A9D-8FEE-4994-BFAD-1BF0A6B8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83F09-9719-4AC8-AAB2-0AB83267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EFF5F-82BF-46D5-9E8D-9939EE6E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1C161-8C1D-440E-8686-FC13CF5A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6552B-D06D-4F65-926E-B75D8373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29B08-BFA8-4AB7-9588-63780DB5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3BA-F960-47BF-9E93-6D7DC54D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9710F-2F2A-435E-8AD2-A8D944C9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C5274-B108-46B1-90AE-21FE77C4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573C6-93DC-4DBD-900C-BB6EDBF4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E2427-3EC4-4D2A-9261-64CD0DA1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A8871-1F42-45B8-9D35-3E197931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DFC38-188E-43EF-ADE3-C4010028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79F2E-A9B5-438A-82DA-6C638F4A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AF427-BBE9-4BC2-804B-FED1937B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1DDDB-150D-4C22-A019-5511284A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89C4A-5EFE-41C8-B487-D9E05F71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5A2-9A19-48FC-BBF8-FD4CC387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69D78-FE25-45AA-B276-1793785F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F695C-B603-4957-BBCD-4653ECCA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2A92-3D60-4E05-A6EA-9DCB78BC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0A3CB-4449-4F0F-893A-D2CA0F93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0B4D3-B4F4-4006-A71B-5A46D753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2C38D-6F7D-4D16-8009-FF7A8F81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4F0A5-9F53-481B-B5AF-949B082F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61BB3-D5C6-4376-89B6-43805BD3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425D1-7512-46C5-9A5B-7956ED3B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E8A55-678C-4066-B625-6C6CA9E4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B8B-F356-42AC-AF3C-22BB5A42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1AEE-D58E-4F37-A7F8-BBFD4E1F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A4711-6EBB-43BF-9402-F3991DAD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398C-A9D9-47C9-9826-1307EA07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87439-52B6-4C4C-B5B2-97E7EC5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E88B1-C04D-4029-903D-6F2486D7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431FE-95D4-492C-86D1-8B630A2A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E8551-6387-4092-8B07-C44D12BA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24862-2556-4171-A427-501B2A76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E9435-0A8B-41D4-AC61-B7B413CD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6C84B-F5D9-4F35-90A3-249039DF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46E8-6FEB-4424-B89A-217B1D9F3A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FADB-12E9-4F69-8E12-AEB63CC242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3338-6BC1-459C-B102-CF8160343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36B1-7A18-48D1-B0D9-37FCFCEA08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97C7-5E4B-49FC-9411-B241394DFA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AEA0-6D1A-43BE-AD18-BBE47A5756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7EBE-8ACA-4069-B56A-8247DA67E5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A786-C6B4-4162-B10C-6486AC1FD6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1C22-EB22-41AA-8787-24044AD675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36B0-9666-41C8-B24D-77DB4BDBEF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2851-CDF6-471E-A247-AAB851232F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CF72-4EDE-46C0-85AF-50C01898F2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9B5B-0147-4F73-B1E2-449FCE9BD0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D14F-41E8-4AE5-9B2A-9E80ABFA7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1018-CC09-4C3A-9884-E9F96B8354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E86B-45F9-4429-985C-D28571EA4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F122-13E6-437C-8FE9-335588948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F572-C272-4FF6-9D70-002986E996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23BA-0686-443F-835F-7FD95202FA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7737-B6FA-440D-A954-3A028E16B4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B0C0-CC73-4D8C-A1D2-BC353A9F63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C8D4-2778-4A0E-BD4D-E9C7060BF0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707C-4B8D-4377-B4D1-B17342D82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45C-2385-44ED-A608-310C93B03D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BE8C-5BF2-4097-A315-45BB11E3D4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DAD0-F3AD-40DE-B1B8-B3E5D0C7B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BA30-CCC0-4E2B-8B96-08169B3358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E0FC-B3F8-47F6-B364-E352146A0E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D739-0565-4BBE-BAA6-C478D6AA6E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4E0B-EB5E-4499-BBED-EC7AEB473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2213-4F30-41BA-8D30-0EB30AC10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4DED-2AF7-4F5C-9F86-90B56EB708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D567-3BA0-47D9-8503-C3D22B097B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2C9D-8375-4E8E-925A-5475214D77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4778-00C2-4607-A6D8-C8E891607C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15F3-7A96-4E1B-8CAC-B7497578C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A669-1969-4886-8F6A-1A09F2424C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082F-0808-414A-AC0A-D08251E29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7F2C-E7F4-4395-AFF7-32FFB9269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0F12-D088-45BD-B5B0-5C1A9AB056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B810-9C36-430C-8F55-D7A5BF83A2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0AB6-B823-474D-B466-97888C5191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00040" y="3029040"/>
            <a:ext cx="81439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9520" y="271440"/>
            <a:ext cx="8724960" cy="63151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826920" y="327024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826920" y="5300640"/>
            <a:ext cx="7993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252360" y="919080"/>
            <a:ext cx="8639280" cy="5019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900000" y="4581360"/>
            <a:ext cx="7993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181080" y="704880"/>
            <a:ext cx="8781840" cy="60483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332000" y="4724280"/>
            <a:ext cx="52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332000" y="5416560"/>
            <a:ext cx="748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523800" y="1990800"/>
            <a:ext cx="8096400" cy="28764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187280" y="4164120"/>
            <a:ext cx="626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23920" y="852480"/>
            <a:ext cx="8696160" cy="51530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826920" y="348624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684360" y="5041800"/>
            <a:ext cx="56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171360" y="876240"/>
            <a:ext cx="8801280" cy="56865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427680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476360" y="508464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332000" y="5921280"/>
            <a:ext cx="720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852480" y="1380960"/>
            <a:ext cx="7439040" cy="4096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187280" y="2333520"/>
            <a:ext cx="511344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187280" y="314172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511344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1187280" y="4724280"/>
            <a:ext cx="511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71360" y="895320"/>
            <a:ext cx="8801280" cy="50673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826920" y="5214960"/>
            <a:ext cx="7490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6:3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