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12D7-AE72-448E-846E-9901365C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176A-D5E7-4665-B12C-328BF514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FD34A6-7A4A-4F85-A5FC-48709C2F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A0708-07AF-45B2-AC23-39B6C91F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C079D-ACEF-4FB4-AE08-AFFF3049A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E3FB2-499B-492D-BD7C-3DA0F5FB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A0CFCC-BE9A-476B-952A-408E4566C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5C49AC-1F15-4FC0-AB63-D8A9A9D6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EEC83-7122-421A-BA3F-F67AF530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8F17A0-BBA1-47F0-BC27-9976D25A0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55FBDC-C5DC-4935-91B7-8AB47384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6F6E6-C190-411A-9F8E-03A27E06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87BD-FDA1-45FB-AD19-AEF173FB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60EC19-50D5-4695-89DE-B6E33696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9DEDE4-B95C-400D-A54A-1962B14D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B7A8A-FA29-4C9F-9E67-4A837504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ADBD6-2EA0-445A-980B-2F3A0AF5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0A266-BAB9-47DE-A111-F04EDE97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0D515-B36E-471F-8E58-B15A3ED3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D156D-7FEF-4B33-ACB3-1B898023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238F9-4035-492B-934C-9EAABAE48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E71F9-CDA9-40D3-89CB-77213A9D4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EED97-439E-4D6F-B796-316503EAF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4918-7A5B-4D17-B9BF-A56DA5F4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81E4B-057A-40D4-93A7-DA48825A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08367-4E21-40F1-A826-9E325F55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33A24-9CF9-49B6-9E44-1E49A0C62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8130C-D460-43B1-87F1-7D66BCF1F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E15DB1-4BDD-4EB4-A94A-74C00FB6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DA0B0E-D037-4916-86DF-C8DB65B2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49AFD-1B04-44A6-9A44-07A2C847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32188C-1485-46E5-8891-05A22AE5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0A3772-6208-46C5-BC36-6258EF2B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C248C-4960-463E-99EB-DC3164ED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2445B-E04B-438D-BF7B-B7CA181D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894D0-00BD-4108-BA7D-EAB41071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B8FE3-F6A0-47AF-AC8A-A0B55016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85593-BD95-47CA-AF73-758DEC89B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3AB82-AE45-464B-BE3F-EA51471EF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68DEF5-2AFE-4DAB-BBE6-B9771156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01263-C732-497F-98AF-24030406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E1F856-115C-40D3-8875-5408362D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B4E339-73EB-4EE2-8B60-22098D2D4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4D2B66-54FA-4A14-BB59-27D2D305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EDBB13-EB6B-4B11-B195-8277822D0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C4CC-F5F2-42F2-ACC9-54D11CA2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3E712B-94A2-4DE6-8317-B3E67F6D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7E8BBB-69FA-49D6-B056-20A16D2C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2E70F8-0DAE-4F1A-B955-5C63B62C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03CED-3F31-4950-937D-987DDA280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A3D913-0345-46D4-B028-F59BC5FB9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D10FC-2541-4957-9AB6-B30592D0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2B64DA-6B98-4DC4-B92F-2013C6686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970BFC-E4D1-45BE-AA0D-F21DEFF4C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4D26E-1FCB-4351-9463-E131DB92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A8CA7B-C04E-471C-92DF-08C1AE54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7B717-1018-43AA-94A7-5E867678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D406AF-EA2C-46C5-9A5C-B6C32C354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C618E3-4F26-45D2-A9F0-10915985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FED3C-2568-4774-859F-665DCC25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F5EB7-F1C5-4BE3-9E28-83AB8B85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A246F5-2044-4222-92AC-5520DA5C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016F35-855C-4DCC-B9B0-38087F3C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2A407-7493-4CA2-977C-4D583A373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0DE396-A90D-41AE-AAC5-02EF3D5F5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2F3C1B-1150-45E5-B3D8-B679B74D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66A417-F8D7-4CFD-A3C8-1FF5359E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0A7E-B29E-45E5-8E0B-FF562D759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11EA9F-318B-40F4-9D42-AC88DFB10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386C6E-9810-44AB-805B-0E21E314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C94F92-ED0A-4447-B6C1-77454426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4CAD36-EF53-4961-B7E5-B5CA9FA3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07934-6489-4189-A0E6-99E6FA9C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92A8E5-F8BA-42E0-BBD1-1765AA6E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FE48E-F9B6-4339-96FB-8D212532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058410-9F7C-4968-A958-D18032BE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7FCF1-ABF8-4C22-8B2E-9B93E83B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8A95B0-AF83-4C12-B1AD-3143830A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412C-86A1-4B39-AC57-F506A588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95E8E3-5E31-4F86-AAAF-E2D809C2D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504B1B-D5FB-4CC7-927F-4B88CAE1D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2555D6-D773-4706-A336-66E36441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1FE521-2225-4943-B8D1-FE330E41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217199-35F9-4DFD-AF11-56F0A7A1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AC7539-6BD9-4FA6-916E-B7C09DF7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E0DA6F-AA64-4423-974B-BCDE64BD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6E1986-A94C-4D13-AAEF-9ADF99BC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971780-6E41-42E5-9AA4-27D5C61C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8121A7-60F1-4288-AC22-BF8A37CE2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916F-B19A-46A5-AC87-62C461444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DDAA10-C4B7-41F3-96B3-CD97273A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4C9698-0110-4EFD-A420-F2603F2B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798159-9C5B-49C3-8F37-82048B1C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0A99AB-B7F9-4D61-BE81-CA43CD64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78D332-5772-4C44-A02F-75170314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CF7F6-9DAE-4132-83C8-1CB627CD9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11C21A-7C87-4028-A28A-EA53A841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D3E927-978B-4122-9E78-A52F93C0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5511EF-EFC1-49F8-99E9-0C4B04E7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0DF67A0-81F9-4630-AF60-B2413ACE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4A413-59A5-43B9-9798-10D5A88F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C191E0-2B13-4E7F-9BAC-51EB3417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F51507-2D50-465D-B3BC-80BAA9C0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058F55-65CA-454C-95B5-CD04662F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64A91F-210F-42C5-ADB3-909790E9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2149C7-C75B-4F3B-AAF6-5F0B5986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9E56AD-7717-46BC-A7E9-045EEA336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44C1B2-B331-4368-960A-81900EA0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2FAE3A-CAEE-437D-90BE-7A9EB387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BAC4FD-C55B-4D64-8B58-71B27005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E226F3-A0AC-483D-A227-1BAF9AB4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C4D-83B9-40A5-AAE5-F3855D61C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6696-E460-4EC5-928A-2C930883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A51AD9-D124-4AB8-BB26-A7425DBA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B53FB6-3C44-4BE0-987A-AA85E412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893177-150E-4545-B321-4748FFDA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E53BCB-853F-47D9-A047-AB457F4DE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B2EF1E-5CFB-4F13-867B-9D5A0499A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3808FA7-294F-402A-B7DB-84C25AE1F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F8A6F1-EEDB-41D4-9D4B-BCA222D3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8080CF-D4BE-4DB2-90FA-56BADCC1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53F41E-06A1-4149-B251-50E78FF2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7237E2C-5788-43E0-99D7-D6645878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54C2-3FC0-4DED-ABA0-2E834544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0A42A6-58FF-42B7-9233-C267FF64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8E5394-F8FC-4CFD-B8A2-49B18C7D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65100-552B-45E3-8873-59B2E8725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EBEB2F-3858-467C-8DEB-2F82A3543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6B519D-E3A6-419E-98B0-C80734B7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C6A639-8C32-4CE8-BA3B-4DA7BAD0C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9882D3-C288-4D31-9B01-C1FE63473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7E87D6-98A8-470F-B71F-95ADDC4DE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B772A6-8E2A-4333-A475-7C265D54A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256CBA-0ABF-4C12-84B0-56557532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7018-DB93-4F1F-93C5-C0531FB6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048F40-C64F-42CD-AF99-0A9C053FF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E5B106-F084-4FDC-B6F9-A74BC7460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E3DBB5-1782-4C37-BF6B-12714F91A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6B73D7-4FAC-418B-81BF-BE794DF1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16024C-12E8-4D7E-BBBD-EB3C21F1B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96A83-4925-4B96-AC02-230ED567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3622D8-716F-40F6-A43E-8DEA2DC3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EC039C-9ED6-4553-9C2A-AAD52A48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331378-EB4D-4B59-A6A0-BF8A4D2C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85C12C-D881-48F7-A9D9-7488F8D8F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0AF4-0C27-4EF4-817D-661DFAD47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AD1256C-41A9-491D-8999-64AB4CB0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B05DE0-4EBB-44DB-9B41-CFA5F98B7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26428F-0CE5-4645-A3F0-F6300C2C8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3E8A70-EF73-4F47-94D8-1589FCDD7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DB4D46-A65D-42B9-B144-0B19EF84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B394024-4D79-4ABB-85C5-253DE3D9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A0FE4F-EC14-4772-A9A3-1830D8790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612179-FAB1-4246-B539-7FE1A4AD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19A148E-3E8A-48C3-A991-A1854B6B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6EC2EC-A843-4D7C-A3A3-60A406D1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54647-9738-41F5-BB76-49B51E7E4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DA6112-511E-42D3-8839-F118A9AD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2E61DE-05FE-4CC1-AEF3-D4CFC8477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B2B176-8293-47AD-842B-6E0F02885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A02FE7-514E-4A5F-96EE-068E36492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BFB4D3-F0AE-4F32-BEDF-F4C6B129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C1B204-3F68-463A-86FA-365100A71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342587-4507-45C4-A82A-EBB04126A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32054B-7658-4CF6-936F-60444AA3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812FD4-A4C1-44F2-9D05-DCDF044F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AE46B5-5E0B-47C2-81F3-BB063F1B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8C1F4-38FE-49A8-8CA5-3EBCA398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CD978C-150D-45EE-A196-6267E3F34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6AC7A8-04A5-4616-8702-F8BDA0FCC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11E133-6A27-4714-96EB-1FE67C5E6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B13A13-2405-4317-99F4-7840AE79D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CF9C1B-A255-4B23-AD83-68B05885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B1BE2C-EE63-49EC-B803-842E2FBC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4F3944-55B6-4C4F-AA69-5FF45D7B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86FE37-FACE-43DA-8D16-7EB497EDB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2A41D4-787C-431F-A7FA-B30E7A47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419EF9-1F3B-4FFD-AE55-C012FE7D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BC0FE-8E0A-48F3-B8A3-02CE2F88C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805B94-D5CE-470F-AA22-82ACC3A7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B6D3A7-33AD-4095-BCE1-AB6675B4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4B0E7C-9DEB-4E75-A1E0-5AF51397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00D0CC-DEEC-43EB-9116-0C9D0A48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B92B51-713B-4332-B772-AFEE464A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0165FC-6486-4346-A17B-A9DA923E2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429903-8777-45C9-8A7D-68DE5B7C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E7EFE7-FB68-41F4-B8F1-6AF2D9934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E1E33E-750E-42D2-BD57-7B92A857E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263573C-C9A3-41A4-A065-CF30FDFE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E89A2-C886-4684-B617-6E51DA93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442E2D6-72DE-494B-B380-C447F619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7E3D35-1087-4AEF-853E-946F239B1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92CB324-3B15-457C-B8F4-4D9642AD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44533B-96CA-4AC7-A6EB-120CFE80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9DB2A8-3F5D-4173-BC2B-EC34821D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17E0DC-CE0E-4351-BDD6-3A774B06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A9446BF-C514-40F9-8455-478E8D47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FE910-5524-499E-94AB-BDDF80A13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3BD94-879F-4915-A468-9CC9CDD2E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E58A-42A5-401E-9A54-9EAB82E0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7DC1D-2BA0-471F-AA94-86F5EE057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448A2-ABAA-45E9-8301-EC36AAE4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AC273-FBC9-4490-A89D-A8A92AAC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F4D86-90A7-4566-8EEA-5A5DD762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14067-5F84-4CA3-AA5D-A87895F8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64DD2-349B-451B-B4FC-CB6591CA8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3FF70-7D71-4B67-81AD-B2BEA98F7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552DF-7457-40AF-A062-47D5D6CB7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0E232-7834-45CE-B90E-290D508B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98D09-16E6-4A29-96D8-FD2CB140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968-B7ED-499F-80BB-00B50B58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12D9A-F087-4C47-BC59-721B3457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24D19-9182-48CA-BCBA-E5A42342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4F8A3-5891-4086-B0C1-A814C6957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AB4EA-8793-4FF5-9D86-2BDE9A12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1C482-5BEB-4A82-94F3-2A1897A9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E8F49-88A5-448C-A2EB-2DFABF8C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96D67-C662-4A8F-870B-7297DC28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D77D0-C099-4EDE-8406-CAB0226E3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D08D3-9717-4136-9F0E-34B48C7B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F0E40-6354-4E88-A878-D8F4ADCB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833E-2C2A-46DD-94BF-BBFDC0AD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D4FF7-FD0B-4DE4-87DA-38BB12D84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C544C-E8C6-409D-AB0F-0FBD8FE3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FB30E-8086-46FD-BF01-0D909D0A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C5B27-D165-4BAC-866A-86A274F0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71AE2-262B-42B9-A211-C6FC7880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6C556-96BD-42A3-8460-09BA575A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D3927-D385-4C2B-8DF8-C514F66C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13863C-285E-449E-AF40-6AEE026C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9383F-74C2-41C0-9F88-2063AA53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F5FF7-AB81-486C-80B2-BEF02FB5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C6E4-7065-4089-A642-CC3762961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C0D31-04ED-4018-BB0C-5834343A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1C854-EE19-499A-B4E2-6FBD1571F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61A989-BF27-4F35-8E17-6D97AEEC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E9C4C1-A36F-4D56-976D-6E741F22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DD754-CE02-43E9-97DE-3F2DF339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8B3FC5-3CFC-467D-9F6D-89A790938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8F742E-0E18-426A-8FEB-795C7EF54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15291A-4CD7-4433-B8F5-141C2468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EF0C3-F617-4484-A0B4-2DA569E8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7AC1C2-109E-43C8-AFF8-6498F8E2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673A-28E6-448C-86F0-72DF328C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2FA42-8018-4EF6-9F81-B56895FD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BEAC6-389D-464F-A57A-DB37D9984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07A08-6F0B-40CB-8E27-9D9491119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626CA-419C-4EAF-9609-18D2948FB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0F29E-5F88-4C46-B370-E930E6EB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36F43-26BC-42B2-8947-1D4344B9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792CB-2A1F-4E8B-910C-F96EA29A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7F8558-9312-4558-8029-7ABC9C4B6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9B24A-44DB-4A48-A632-2A05A99D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C66AE5-C6AF-4BD3-9FC4-FE403213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0E1A-76EC-4ED8-A37B-977BD051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6FC4D-78E4-4370-B0B3-C670D33C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BA04A-E41A-48EB-BF04-FE0DBAA71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C0C94-76FD-4CD7-8697-FC3E2D66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B2B3B-FE79-477A-9E8E-DF2E7D7E0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5FE534-6294-48F6-BC37-B22B7CFE4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A498F-24A6-4303-AEF3-99B8EE952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31B60-06DA-43F7-9594-4EED0EB0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758DA-8099-4A71-BEA0-265ACFDA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FA0F6-3DD4-4629-8165-4E22AE18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CFC0EE-8900-456D-8090-5502D8CC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AA2E-C408-4774-BE82-B6AE4546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963AF9-2B4F-4672-ACBE-8F1BB7B6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86D6C-1E94-4737-94A0-5BFB80770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876D0-101E-4A8D-9F36-805911560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15868-ABF3-4EBC-B9A5-7719F5EF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2C894B-A183-4706-A3B7-9F801DF4A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3F143-2FAC-4BD3-9C25-B0F54AB26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C1558-DD47-48D0-B950-C02FE11D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56B85-3C76-40A8-894A-CD7C035B5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21EBD-AEA1-4767-A850-69B3367D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AEC076-2289-4EB8-BA7B-0ED62E0B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6EDD6-6D79-4C0B-BA97-783B7FC12D4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88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E5C7-CC8A-46E0-9EC9-0C619DF8FF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53482-9DA4-4CCD-BCEF-4DC4E1624C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432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3C52-DB16-49B2-8505-BE2EAC1B82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13E7-2C76-4B54-99E1-FEF9D3B755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2D92-2805-4C13-AD86-03D27EE916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6D4C-4D4D-4666-A100-D46122C209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1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99B2-5EB0-463F-9F73-2A2C77BAC6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24468-8F90-4A57-9003-C2D3852109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10F5-3168-4730-8FD9-2A3EE083E5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89D7-5FEE-4D80-AEFD-4B0FEB9214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06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CAF01-89E9-460B-AE05-9CE95A1BC1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97B91-F661-41A8-8047-FFE95F4598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650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156C-4FAC-41B4-A601-229EFE2C0C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A596-3834-439A-A5A4-B6871EE498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3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94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02CA-CE53-4BD1-BE66-2438228F69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0D13E-835E-4ECD-BF84-912A6A5611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3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9669-FDC4-435B-A7E4-448FACA66E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7CB73-7EA0-4122-AAB2-871C17B35C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84C8-17A7-4690-A827-4A5D06C111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83CF-5199-416F-A004-0C28195C8D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0458-0A93-4961-9F4D-DBBEB22C44D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53C5-6E97-425D-A8C1-EB043D1BE4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B8D6-3DD6-4C37-8870-8F4FB9DC7B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2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FA52-E6E6-4CF5-8674-E8B5956B6C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6299-5F36-42BA-85E6-885A09DEAD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18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4472-02AD-4F2E-A2EF-64FC5DE91D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8861-482E-4082-B248-A376061DE4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50FCF-16F2-4704-ABB1-8C99CD6409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0853-5D4D-4675-AA90-5F307FAF5E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311B-F44E-49F8-A430-F9331938C8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4757-9D85-4FA7-A702-FE7AD11EAC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37C0-538F-4243-A650-3ADA87F9B89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C86B-EF8C-4698-8199-C45D1F424D6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212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EE0E-5DA7-47A0-BD65-BF8F5C7551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33D0-8298-4C4F-84E4-0A0C151C47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5C777-8163-42DA-B974-794CB1A5F0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ED3DB-C1A6-4FE0-8AEA-D5209AE427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300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80E1-6F7B-4506-A428-6D9652D9E1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9C44-163F-45B8-8CFD-5A33272A06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FE67-F773-4797-B278-E2AFF1012B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0732-5ED3-4F58-9E7A-023435E8E6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图片 1" descr=""/>
          <p:cNvPicPr/>
          <p:nvPr/>
        </p:nvPicPr>
        <p:blipFill>
          <a:blip r:embed="rId1"/>
          <a:stretch/>
        </p:blipFill>
        <p:spPr>
          <a:xfrm>
            <a:off x="480960" y="2909880"/>
            <a:ext cx="818208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6" name="图片 1" descr=""/>
          <p:cNvPicPr/>
          <p:nvPr/>
        </p:nvPicPr>
        <p:blipFill>
          <a:blip r:embed="rId1"/>
          <a:stretch/>
        </p:blipFill>
        <p:spPr>
          <a:xfrm>
            <a:off x="147600" y="1481040"/>
            <a:ext cx="8848800" cy="389592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1" descr=""/>
          <p:cNvPicPr/>
          <p:nvPr/>
        </p:nvPicPr>
        <p:blipFill>
          <a:blip r:embed="rId2"/>
          <a:stretch/>
        </p:blipFill>
        <p:spPr>
          <a:xfrm>
            <a:off x="3995640" y="357336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1008" name="Picture 1" descr=""/>
          <p:cNvPicPr/>
          <p:nvPr/>
        </p:nvPicPr>
        <p:blipFill>
          <a:blip r:embed="rId3"/>
          <a:stretch/>
        </p:blipFill>
        <p:spPr>
          <a:xfrm>
            <a:off x="5219640" y="4508640"/>
            <a:ext cx="863640" cy="447480"/>
          </a:xfrm>
          <a:prstGeom prst="rect">
            <a:avLst/>
          </a:prstGeom>
          <a:ln w="0">
            <a:noFill/>
          </a:ln>
        </p:spPr>
      </p:pic>
      <p:pic>
        <p:nvPicPr>
          <p:cNvPr id="1009" name="Picture 1" descr=""/>
          <p:cNvPicPr/>
          <p:nvPr/>
        </p:nvPicPr>
        <p:blipFill>
          <a:blip r:embed="rId4"/>
          <a:stretch/>
        </p:blipFill>
        <p:spPr>
          <a:xfrm>
            <a:off x="6227640" y="2637000"/>
            <a:ext cx="1008360" cy="447480"/>
          </a:xfrm>
          <a:prstGeom prst="rect">
            <a:avLst/>
          </a:prstGeom>
          <a:ln w="0">
            <a:noFill/>
          </a:ln>
        </p:spPr>
      </p:pic>
      <p:pic>
        <p:nvPicPr>
          <p:cNvPr id="1010" name="Picture 1" descr=""/>
          <p:cNvPicPr/>
          <p:nvPr/>
        </p:nvPicPr>
        <p:blipFill>
          <a:blip r:embed="rId5"/>
          <a:stretch/>
        </p:blipFill>
        <p:spPr>
          <a:xfrm>
            <a:off x="7653240" y="44658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图片 1" descr=""/>
          <p:cNvPicPr/>
          <p:nvPr/>
        </p:nvPicPr>
        <p:blipFill>
          <a:blip r:embed="rId1"/>
          <a:stretch/>
        </p:blipFill>
        <p:spPr>
          <a:xfrm>
            <a:off x="343080" y="909720"/>
            <a:ext cx="8458200" cy="5619600"/>
          </a:xfrm>
          <a:prstGeom prst="rect">
            <a:avLst/>
          </a:prstGeom>
          <a:ln w="0">
            <a:noFill/>
          </a:ln>
        </p:spPr>
      </p:pic>
      <p:pic>
        <p:nvPicPr>
          <p:cNvPr id="1012" name="Picture 1" descr=""/>
          <p:cNvPicPr/>
          <p:nvPr/>
        </p:nvPicPr>
        <p:blipFill>
          <a:blip r:embed="rId2"/>
          <a:stretch/>
        </p:blipFill>
        <p:spPr>
          <a:xfrm>
            <a:off x="1042920" y="242100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1" descr=""/>
          <p:cNvPicPr/>
          <p:nvPr/>
        </p:nvPicPr>
        <p:blipFill>
          <a:blip r:embed="rId3"/>
          <a:stretch/>
        </p:blipFill>
        <p:spPr>
          <a:xfrm>
            <a:off x="3348000" y="1844640"/>
            <a:ext cx="1079640" cy="447840"/>
          </a:xfrm>
          <a:prstGeom prst="rect">
            <a:avLst/>
          </a:prstGeom>
          <a:ln w="0">
            <a:noFill/>
          </a:ln>
        </p:spPr>
      </p:pic>
      <p:pic>
        <p:nvPicPr>
          <p:cNvPr id="1014" name="Picture 1" descr=""/>
          <p:cNvPicPr/>
          <p:nvPr/>
        </p:nvPicPr>
        <p:blipFill>
          <a:blip r:embed="rId4"/>
          <a:stretch/>
        </p:blipFill>
        <p:spPr>
          <a:xfrm>
            <a:off x="4960800" y="2378160"/>
            <a:ext cx="3529080" cy="414648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1" descr=""/>
          <p:cNvPicPr/>
          <p:nvPr/>
        </p:nvPicPr>
        <p:blipFill>
          <a:blip r:embed="rId5"/>
          <a:stretch/>
        </p:blipFill>
        <p:spPr>
          <a:xfrm>
            <a:off x="7265880" y="1801800"/>
            <a:ext cx="14097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6" name="图片 1" descr=""/>
          <p:cNvPicPr/>
          <p:nvPr/>
        </p:nvPicPr>
        <p:blipFill>
          <a:blip r:embed="rId1"/>
          <a:stretch/>
        </p:blipFill>
        <p:spPr>
          <a:xfrm>
            <a:off x="581040" y="1038240"/>
            <a:ext cx="7981920" cy="4781520"/>
          </a:xfrm>
          <a:prstGeom prst="rect">
            <a:avLst/>
          </a:prstGeom>
          <a:ln w="0">
            <a:noFill/>
          </a:ln>
        </p:spPr>
      </p:pic>
      <p:pic>
        <p:nvPicPr>
          <p:cNvPr id="1017" name="Picture 1" descr=""/>
          <p:cNvPicPr/>
          <p:nvPr/>
        </p:nvPicPr>
        <p:blipFill>
          <a:blip r:embed="rId2"/>
          <a:stretch/>
        </p:blipFill>
        <p:spPr>
          <a:xfrm>
            <a:off x="2887560" y="1125360"/>
            <a:ext cx="1540080" cy="447840"/>
          </a:xfrm>
          <a:prstGeom prst="rect">
            <a:avLst/>
          </a:prstGeom>
          <a:ln w="0">
            <a:noFill/>
          </a:ln>
        </p:spPr>
      </p:pic>
      <p:pic>
        <p:nvPicPr>
          <p:cNvPr id="1018" name="Picture 1" descr=""/>
          <p:cNvPicPr/>
          <p:nvPr/>
        </p:nvPicPr>
        <p:blipFill>
          <a:blip r:embed="rId3"/>
          <a:stretch/>
        </p:blipFill>
        <p:spPr>
          <a:xfrm>
            <a:off x="611280" y="1773360"/>
            <a:ext cx="799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图片 1" descr=""/>
          <p:cNvPicPr/>
          <p:nvPr/>
        </p:nvPicPr>
        <p:blipFill>
          <a:blip r:embed="rId1"/>
          <a:stretch/>
        </p:blipFill>
        <p:spPr>
          <a:xfrm>
            <a:off x="252360" y="865080"/>
            <a:ext cx="8639280" cy="5743800"/>
          </a:xfrm>
          <a:prstGeom prst="rect">
            <a:avLst/>
          </a:prstGeom>
          <a:ln w="0">
            <a:noFill/>
          </a:ln>
        </p:spPr>
      </p:pic>
      <p:pic>
        <p:nvPicPr>
          <p:cNvPr id="1020" name="Picture 1" descr=""/>
          <p:cNvPicPr/>
          <p:nvPr/>
        </p:nvPicPr>
        <p:blipFill>
          <a:blip r:embed="rId2"/>
          <a:stretch/>
        </p:blipFill>
        <p:spPr>
          <a:xfrm>
            <a:off x="3132000" y="2133720"/>
            <a:ext cx="935280" cy="447480"/>
          </a:xfrm>
          <a:prstGeom prst="rect">
            <a:avLst/>
          </a:prstGeom>
          <a:ln w="0">
            <a:noFill/>
          </a:ln>
        </p:spPr>
      </p:pic>
      <p:pic>
        <p:nvPicPr>
          <p:cNvPr id="1021" name="Picture 1" descr=""/>
          <p:cNvPicPr/>
          <p:nvPr/>
        </p:nvPicPr>
        <p:blipFill>
          <a:blip r:embed="rId3"/>
          <a:stretch/>
        </p:blipFill>
        <p:spPr>
          <a:xfrm>
            <a:off x="2700360" y="2781360"/>
            <a:ext cx="934920" cy="4474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1" descr=""/>
          <p:cNvPicPr/>
          <p:nvPr/>
        </p:nvPicPr>
        <p:blipFill>
          <a:blip r:embed="rId4"/>
          <a:stretch/>
        </p:blipFill>
        <p:spPr>
          <a:xfrm>
            <a:off x="3132000" y="3500280"/>
            <a:ext cx="935280" cy="447840"/>
          </a:xfrm>
          <a:prstGeom prst="rect">
            <a:avLst/>
          </a:prstGeom>
          <a:ln w="0">
            <a:noFill/>
          </a:ln>
        </p:spPr>
      </p:pic>
      <p:pic>
        <p:nvPicPr>
          <p:cNvPr id="1023" name="Picture 1" descr=""/>
          <p:cNvPicPr/>
          <p:nvPr/>
        </p:nvPicPr>
        <p:blipFill>
          <a:blip r:embed="rId5"/>
          <a:stretch/>
        </p:blipFill>
        <p:spPr>
          <a:xfrm>
            <a:off x="7842240" y="2133720"/>
            <a:ext cx="676440" cy="44748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6"/>
          <a:stretch/>
        </p:blipFill>
        <p:spPr>
          <a:xfrm>
            <a:off x="7451640" y="2781360"/>
            <a:ext cx="67644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7"/>
          <a:stretch/>
        </p:blipFill>
        <p:spPr>
          <a:xfrm>
            <a:off x="7812000" y="3500280"/>
            <a:ext cx="67644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8"/>
          <a:stretch/>
        </p:blipFill>
        <p:spPr>
          <a:xfrm>
            <a:off x="6012000" y="501336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9"/>
          <a:stretch/>
        </p:blipFill>
        <p:spPr>
          <a:xfrm>
            <a:off x="6012000" y="5445000"/>
            <a:ext cx="100800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10"/>
          <a:stretch/>
        </p:blipFill>
        <p:spPr>
          <a:xfrm>
            <a:off x="6026040" y="5877000"/>
            <a:ext cx="100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1" descr=""/>
          <p:cNvPicPr/>
          <p:nvPr/>
        </p:nvPicPr>
        <p:blipFill>
          <a:blip r:embed="rId1"/>
          <a:stretch/>
        </p:blipFill>
        <p:spPr>
          <a:xfrm>
            <a:off x="615960" y="333360"/>
            <a:ext cx="8142120" cy="643896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1258920" y="4437000"/>
            <a:ext cx="504180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1116000" y="5084640"/>
            <a:ext cx="504180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1042920" y="5661000"/>
            <a:ext cx="504180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1187280" y="6310440"/>
            <a:ext cx="69138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图片 1" descr=""/>
          <p:cNvPicPr/>
          <p:nvPr/>
        </p:nvPicPr>
        <p:blipFill>
          <a:blip r:embed="rId1"/>
          <a:stretch/>
        </p:blipFill>
        <p:spPr>
          <a:xfrm>
            <a:off x="171360" y="525600"/>
            <a:ext cx="8801280" cy="624816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2"/>
          <a:stretch/>
        </p:blipFill>
        <p:spPr>
          <a:xfrm>
            <a:off x="900000" y="3429000"/>
            <a:ext cx="633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3"/>
          <a:stretch/>
        </p:blipFill>
        <p:spPr>
          <a:xfrm>
            <a:off x="900000" y="4149720"/>
            <a:ext cx="633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4"/>
          <a:stretch/>
        </p:blipFill>
        <p:spPr>
          <a:xfrm>
            <a:off x="900000" y="4797360"/>
            <a:ext cx="6336000" cy="44784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5"/>
          <a:stretch/>
        </p:blipFill>
        <p:spPr>
          <a:xfrm>
            <a:off x="971640" y="5473800"/>
            <a:ext cx="6335640" cy="4474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6"/>
          <a:stretch/>
        </p:blipFill>
        <p:spPr>
          <a:xfrm>
            <a:off x="900000" y="6135840"/>
            <a:ext cx="6336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252360" y="824040"/>
            <a:ext cx="8639280" cy="52099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900000" y="3141720"/>
            <a:ext cx="6624720" cy="4474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3"/>
          <a:stretch/>
        </p:blipFill>
        <p:spPr>
          <a:xfrm>
            <a:off x="684360" y="3789360"/>
            <a:ext cx="6624360" cy="4478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4"/>
          <a:stretch/>
        </p:blipFill>
        <p:spPr>
          <a:xfrm>
            <a:off x="755640" y="4508640"/>
            <a:ext cx="6624720" cy="4474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5"/>
          <a:stretch/>
        </p:blipFill>
        <p:spPr>
          <a:xfrm>
            <a:off x="755640" y="5157720"/>
            <a:ext cx="6624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239760" y="1227240"/>
            <a:ext cx="8462880" cy="169056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2" descr=""/>
          <p:cNvPicPr/>
          <p:nvPr/>
        </p:nvPicPr>
        <p:blipFill>
          <a:blip r:embed="rId2"/>
          <a:stretch/>
        </p:blipFill>
        <p:spPr>
          <a:xfrm>
            <a:off x="1722600" y="3651120"/>
            <a:ext cx="6562440" cy="232416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290196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333360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5"/>
          <a:stretch/>
        </p:blipFill>
        <p:spPr>
          <a:xfrm>
            <a:off x="5465880" y="155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6"/>
          <a:stretch/>
        </p:blipFill>
        <p:spPr>
          <a:xfrm>
            <a:off x="5435640" y="2060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7"/>
          <a:stretch/>
        </p:blipFill>
        <p:spPr>
          <a:xfrm>
            <a:off x="781200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8"/>
          <a:stretch/>
        </p:blipFill>
        <p:spPr>
          <a:xfrm>
            <a:off x="7956720" y="2060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9"/>
          <a:stretch/>
        </p:blipFill>
        <p:spPr>
          <a:xfrm>
            <a:off x="3635280" y="4292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0"/>
          <a:stretch/>
        </p:blipFill>
        <p:spPr>
          <a:xfrm>
            <a:off x="3708360" y="486900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1"/>
          <a:stretch/>
        </p:blipFill>
        <p:spPr>
          <a:xfrm>
            <a:off x="6804000" y="4292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12"/>
          <a:stretch/>
        </p:blipFill>
        <p:spPr>
          <a:xfrm>
            <a:off x="6443640" y="4869000"/>
            <a:ext cx="647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50:07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