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8401-FA68-4034-8F08-7CFA5BDF1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6ADE-86CC-40AC-8F03-0F5B3C3D6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EF4CBE-2C91-4C15-8682-B5E275F4E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087832-B67D-4754-80F2-6FFCD8040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EACFBA-068C-440E-AF1E-EB1885073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4F102A-16AC-43D8-AFD6-33CCF965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84336B-292D-4505-9A01-29DAD401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0603B0-CCE5-4CF5-A3CE-6D45AE01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6C1C15-338B-4637-B4FF-9B70A1E1A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8F937B-2989-446A-AB54-C08ABAEE7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35C0F4-7367-4EF0-819A-511F04221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09A04C-B79F-4EE3-8894-03D285C6F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E1E1-3DB3-4811-B76A-0D7B8DD5D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FC6F75-8F1A-495A-842F-56984C281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32EA05-49D0-49AE-9CF6-2742B9F6A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F05B63-A1A4-40C3-9C48-A28E74811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F5FE84-C8BA-45FF-BC8B-631DE07D9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4F23D4-15E1-4F24-9E08-4EA5787CB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F16212-4DBF-46A5-8110-FB9E5371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4F8F3A-9C0F-4AEE-91C9-DEFA403E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9F97A9-241E-4023-A95C-8F465BB1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B8E83D-916B-49CB-912C-32152F179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B44C90-61F1-4312-A92D-773EDEE14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F0D0-C88B-482B-A5C3-5E3AC3926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413E55-1542-4ACE-B326-6EA143343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CC3DE3-415C-4750-AF39-6C0F3B0A4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6BE3C8-4870-486D-8670-D1B33D1C5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7A01C7-B7FC-4BEB-AFC8-93719FF8F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9DC99F-CDCF-4D12-8919-8AF037961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24588A-7AB6-4D57-A0C4-49711B41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1E427A-E199-472C-ADB4-7268A82D1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14F381-D8F5-4797-8503-ADB924F9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825890-94F1-4615-966B-62F216AA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F4EBAC-D237-478C-A6B4-D746AD0E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C290B-4CE3-429B-82E1-5844293B2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F05F1F-7383-4A66-A265-BF97A724C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376905-E5D2-4821-B8E3-3B7DEB41A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ABF186-7F0D-4756-B4F1-5508E8D4E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293821-5CAC-47E1-BD36-178A77032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DA64FA-0C60-4892-8361-AEB9F79D0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5DE347-077C-44FE-B3D6-3804F880F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F09379-4312-46E9-B310-28D3871B1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3A94A7-4A56-4284-97D0-E035474DD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29B77A-8BBA-4FBA-80DF-1296D1E5F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2F31CC-6508-4BB6-A63B-DA77C203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03AB2-842B-4BD5-AD6F-5BC12D624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7473C0-09EF-49C4-9013-34B37861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4D5F78-2898-4711-BBBC-432117D5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94E868-BFC5-4C66-A34B-ECA0CFF69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400270-E717-42F3-9B3B-281C37E50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E48710-71EC-4126-BE6E-DF9A2D364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A3D99F-2B59-4086-BFE1-4F7734CFE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02606D-8EA7-4453-B848-35D3CFF0F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A1760B-3934-487D-8955-07E435DB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FE36E6-D5FA-4C21-9623-7B788A614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D062B7-9FAE-4CED-B3BA-3DB059365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22633-E21E-4A99-8725-FE154CC09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5A88F4-47D5-44A3-B3D6-8E1C0B130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D5F7A9-E233-4821-9B00-6F606223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BACB2D-876D-48DC-8471-599FC2D9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56A36C-D0D1-4CE0-BCF8-4F86B06F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B54A4C-EF73-49B1-8345-553E41D08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B8284E-24BE-4465-84E0-A6AD00BF0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CDA638-305C-4AF7-B2D9-6BA6E112B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C097E6-711E-4B78-B677-3C5799BC0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29A1F9-9452-40E6-9380-8B23198D6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BD9370-C26B-435A-94EA-AC1F5E5B2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B21FF-6586-4E8D-AF5F-06A0C524C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7E0375-530D-4D7D-99AF-7A399BE28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CF5489-62D1-4356-A674-F3313B164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432530-065F-46DD-99D1-64F918F5D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C6250E-C58C-460C-AB67-AD163D26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607721-7ECE-471F-80BA-0476B4B8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8DB83E-B31E-48C9-8993-5FE02FB7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5DA51A-8F4C-4F85-BA0B-FB1FE21E6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AA2990-EA2F-4DAB-99F0-4883EC809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D3AD06-C6E4-4DE5-8FD3-84A9AB25C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B3301E-7C8C-41F4-81A3-A46F8E1A0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CAF24-3502-48CF-94E7-2D5D95CFC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E8C861-5F22-458B-B448-491705CCA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34B36D-6061-40E3-B61B-E3759821B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314A2A-64EF-4996-AAF9-34C5BA723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BD5A47-4DFA-4B29-B3FD-D77E78D0E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56B63F-571A-4142-A974-CFB64E5AB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6F9BFC-9279-4DF5-8317-8C0E8949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6C2063-F473-4504-8DA1-53948E2A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175ED6-134C-4129-B33F-0934C954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C4AE39-64C3-46AD-992C-75F21495A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D96550-BF77-4E0E-95DA-6ACC2FE31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C856F-2144-4C3D-98CD-D5135F74B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D69332-EEB9-4DCE-AB71-2075D05F8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F379E4-31F1-48AB-B8FB-124CECC0A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F2CFA2-2FE2-4C7C-BE4A-68AE30B9E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1F64FD-78E2-4326-905B-1E00E9FDD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FA2AB7-9989-4363-BFC2-07C62EA2A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177A2B-6310-4919-9C11-CEB9BF6DC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B42582-E743-45D9-B5B5-231FF5FD9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7727FE-1271-414C-BFEF-BA266AF9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9042B0-1942-4B18-A61B-ABAFB2FD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431C79-4C65-4A1C-9F75-9E739633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4AC94-8B40-4D2C-A3A9-545E821F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E1C443-3869-42B5-A527-BB42577FA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9A9E21-7B7F-4FB2-809E-3F3BF5ED1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47C94D-3DBE-4255-9799-ADE2F1E64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838972-86F1-4BDD-8821-7967B4EA8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FE92AA-B936-4AAE-99D2-A7797CB05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D60878-6C0C-47A5-B51F-98B32899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AC7C9F-E0C7-4A04-BB91-5616ECC27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DDA529-03A5-4219-BEA6-86DBBEC54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9ED8AF-9A42-46C9-BEBC-7001F2769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A81A6E-FBAE-4F8A-9B7C-42CA36FC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CC02-ED1F-49E4-9A08-AAE4A911B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67BAF-5BAB-4B5D-BFD0-5BD3B425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99F393-22C2-4EDE-B2EE-EAAFCFA2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D9EEA5-B995-43D7-AF27-7AD59C51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8572DE-423A-4DFB-ACF8-EEE170EA6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319FF2-9AB1-488D-A77A-6DC1B915B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AB31CA-0162-4A4F-A0B0-2BF13D3C6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B76281-ACB3-400A-A6D8-1D56ABEBD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3F19E2-8035-4009-8C3E-F05784B6E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9A6042-B7C1-499C-841C-D6506A600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9091B3-E4C8-4D92-A6DA-B65E0B8A2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A65B1A-F9E8-457A-8D86-1F79D1270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C205E-273A-409B-8837-CDB246FB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43B7A1-B132-4F20-B33A-C34446080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61FDE1-8323-418B-A379-AE3F81B8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3B5B58-7C3A-4E98-8180-4F97A082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9CAD44-F60C-4C5D-8C19-91C615C1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59E17B-284E-4949-8429-39764109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0AB579-DD45-45B9-BB7D-92DB3D291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EDDF40-00AE-4F7C-B134-A4D2E8B95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E6D200-4CC5-4AF5-98CC-DA5156E4B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6CB46D-4DE3-4599-B207-620879DDC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33522C-87CD-4878-80BF-2332C3EE2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4DD1B-2035-4D56-9BA6-D8537E1A1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1C408F-63E3-4CC0-9E9B-381653D2D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21372C-B9DB-4566-846D-80726ED6A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1D5535-175D-4259-9CE6-5E1950525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CFC55A-DA82-4C6D-80E3-53ABE5D8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B8067F-CA15-4ACC-BBFA-18C071BD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3A2620-4975-4199-8610-6A66CE24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27BD22-E1E0-4356-AA7E-8BBEEF04A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2F4191-C56F-4F61-A025-3E5FAF9DA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DC04C8-76DF-4C96-8028-3D0361B07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513508-08E2-4834-AB3B-673051B02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6538F-A93D-49F9-8757-B50BFDD26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59B02A-959C-4B67-AF50-1494A05B3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4D4DE9-0CA4-45D3-9807-9D0AD49AE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BF1279-6DDD-4B99-96EB-3310CD9E1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565F1C-2108-4E23-8ADA-A4FD3B1B5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6ECB79-301A-483F-815A-8DC6D2FD3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B3EC33-F67A-49C4-8252-4778067D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B5FBF6-6604-4B43-A652-E05C30C9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CA20BE-03EA-440C-80D0-529A0C8D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0BF97E-870D-43B5-86BA-152D2E65F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508A03-F53B-41FA-8E8A-74ABE2714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BC6C4-CF25-4E26-8663-A8D119923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6BBA87-F8D2-4A8D-920A-ADF3D4B6D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17D74C-F21C-4B12-8E61-5331FDA2F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C3904A-0214-43AE-A69E-6A9158060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5EC87D-FB32-4A67-A325-53D6DAAF4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9D7BCE-B235-4424-9207-D77C94526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C164A4-5B77-4F22-9705-0E0C4FAAC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F95988-2187-4B29-B48C-F4DB3E013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EB2521-329C-4421-9992-BDA77B77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C40AF5-E5B7-4EF8-AE76-2CF62CF6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5345D2-FB21-4634-8FA0-EF556911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748B5-EBEE-4C2B-AD84-A610230FE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137028-B46B-4A21-9FE4-086A1CF8F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C0F38E-CBDF-452C-A746-1B4F649DD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E97912-AB5A-40C7-A4A4-D5077B849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5CF36-FC0A-445E-AEE3-A978B86BC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B227A-B9E8-439F-8201-DA6FA1540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8179C-CF59-4212-AEF0-04BA24F76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DDC1F-C598-4320-A7EF-8A56B69AF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78FF-25EA-4E0A-8929-BFCC4D894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EDB6A-39D5-45B3-A7F0-A2887866E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CCFD8-B796-4D91-BECE-705D3C0E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38CFD-AF37-4A3F-AD46-9AAB3548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B7B32-726C-4BB9-B73A-D03D1640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C6233-D1C7-41DE-ACD8-360E26919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1625D-0017-4C13-8CE8-A427C8F64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53F0C-5456-46C6-8C3E-C52C01EBE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78AA3-0920-4A8C-8226-6331D5151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39FA9-6820-4211-B147-005617BB0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D2B9A-FD7C-4D4B-8742-43D8C0428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A954-0A69-4E39-969A-80C7F6EE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59CED-3D71-4027-B571-C942AB34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D1580-CC16-4E59-94BA-3822314BA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31C97-AE3C-438F-BCF3-51A4D845D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5F03D-9925-423B-997E-4A4FF5A4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6CABF-7EF9-474E-B825-C76BA950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FE449-FFDD-4C9F-998A-B104D79B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EAE35-3F47-4F9C-AB84-669C13065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C4443-0EDF-428C-BC0C-DAB463E0F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28E79-0FF1-4F4B-BA28-3A07F32EC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F9D44-A6CE-4F51-BF26-C61DB1B3D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919C-240C-43A3-8D89-CE1DBD94F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DE98F-2D2D-43D4-994C-CB5D3AC0F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E53C4-D4FA-4310-8E10-1133673A7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AB08D-B758-469F-A8A3-7100F2B65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BE374-7744-4921-9DD7-E3A6345C3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F8627-9502-4067-BCE8-51D826E3B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53F16-B613-4E1B-BB47-C2E10EB9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7D144-8ADE-4888-924E-C079678B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F6B4E-6228-430E-85ED-C69656A4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5495A-BAE4-4589-A0AB-C33AB8E6F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279A7-A89C-4A7B-966B-E113BE363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0D4D-FC3D-4652-A5ED-344508708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43BA9-83EB-46EE-AD5B-8EF34EBC8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A7277-6AEB-44B6-B5DC-BA5C7A8CE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CCC11-C156-4ED7-92A0-ED8DFA1D5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AD5FB-F790-4BFA-A599-A0D62F000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427A1-8D55-44F0-805A-76E665EA1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2F70F-D334-4633-9B08-931A4E06C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55A61-59C0-4D61-A58E-C5718FCFF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79F23-1D8E-414C-95BD-3B6CEAF3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881FD-E626-40E8-8346-73F7293D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4C737-1EF0-4A80-9810-8FFBB875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A2D5-D1E0-4875-9C62-1AF60CBE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71371-3CA4-49AA-9E62-17F01F15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9B7EE3-D965-40FB-9DD4-A8EFA6D7B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F06AA-5AAF-4A80-8B75-79E678607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030855-BDFE-45A5-811C-5A77FCC74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C385CE-DCE4-4B47-979E-C3D8BA1A7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42729-B632-496D-B804-C11B5B328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204640-FD42-4E5E-8617-B09D4358C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CA859-2620-4290-9170-882BCACE3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D645A-657A-4DB1-BF71-7973EB3BE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1B57BE-C87B-4883-9292-69245170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244C-F58E-45DD-88ED-17B24616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130C55-D3AB-4488-94C0-E312AE34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BD120-0883-471F-B8E6-854CF79D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755734-6730-45E8-9C3A-67D1F916B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D3B77A-AFC7-46F2-AB7D-960A21FB1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ABEA4A-1964-4491-B44E-387D83D0E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5B0868-FB7F-44E5-952B-60348F6EB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19EF66-6F36-4B05-A9F5-BE9A4205D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7A9F01-F881-40CE-B45C-9FDFDD49D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3026A3-33BA-48B3-9958-9894D18E9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C6D6AB-84AC-439F-899B-759626178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DF25-AAAC-4B51-8AE1-9A53C0FE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EA62A7-E3F7-4A85-8289-B1A4C2CF4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A8D705-D09A-44EF-A23B-83CC1EED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A7F5D5-51E6-44D7-B34E-2837FDF6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1A8647-BD43-4CB7-B064-6B436AFC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C9F027-0F2E-4E41-8CD4-46EF45069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C69C78-935A-42D2-8D2F-42082B907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C8CB39-B531-46DF-BABC-5CD803EFC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FCBCC4-A982-4E2B-8E78-B22ED8736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2892BE-CAF9-4A2D-B68E-99A607325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6523F9-C64D-45B3-BEE6-578E22EA3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60114-07EB-470A-90A2-971EF301297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54CC2-63FA-4FDC-AD71-70206A494B1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E3866-955C-4500-892E-7A344DB59A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318A0-0F1A-4521-8EFC-BDC437E70C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1F732-C684-450E-B1BE-E44F2D6159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26F57-2ED2-471A-A5C8-394457B004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321D2-0464-47BE-8144-9DF613CADD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879ED-E416-4710-951D-EDEB02B12D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FF396-252F-40A0-B6FB-10BF302B09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37248-1094-42A6-9BD2-65A12C3B43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8FBB5-6AE6-46BB-8FCE-132A814C5C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DA9E3-7A65-4C93-BE19-BB6B228DE5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3A5A8-B5B2-4172-AD91-142E346987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5E665-9DF0-4504-94E4-916AB12178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83245-3230-49EB-B975-863838E8AC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42C07-0E1D-41B8-80B2-9B364CEBF2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5FC60-B2E7-4BB4-B74C-81077B05B6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B4540-D95D-4924-BD6C-4786522E4A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D4919-1C3E-48CC-AD44-925A843064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D20DC-2EC5-44C4-9431-C713406721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6DCBE-574C-4D5B-9F14-58FA0D73C8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2866B-56C3-4ADD-A677-85B6EF4BB7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1DF7F-CEFC-4548-AF20-C12399E285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91879-FBBE-4401-8D22-0DF34A5CAD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BD51F-04B8-4539-8504-8FE7447048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7AC24-F370-4BB3-B61D-1BA4B252AF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135BF-29E8-43A8-B58B-D6D076D607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80F5D-0D41-4AA1-A4D0-B54659517EF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80C5E-8544-4252-935E-052D6A0063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5F221-1437-4508-9F55-6EB2C7D2B4A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78123-39E9-488F-9099-40ECAE51C3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DA2C2-05C7-4FFE-BE5E-0B841DBF20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AC702-C4C6-4245-B292-EC55D973B6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618AB-E219-4C4F-865B-1250330E93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75855-B320-4B3A-BF33-6204CCFEF1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C0395-D064-4A03-969B-96D028286C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84AB2-FA60-4DC2-9176-B4AC64BDF8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AFCE6-F642-4F2B-BDA8-074E1BE4A8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CCF8B-72D1-4705-863C-F16BC4B375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41C84-573E-46F6-91D2-54195B3701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938160" y="2952720"/>
            <a:ext cx="726768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图片 69633" descr=""/>
          <p:cNvPicPr/>
          <p:nvPr/>
        </p:nvPicPr>
        <p:blipFill>
          <a:blip r:embed="rId1"/>
          <a:stretch/>
        </p:blipFill>
        <p:spPr>
          <a:xfrm>
            <a:off x="684360" y="3860640"/>
            <a:ext cx="7753320" cy="1924200"/>
          </a:xfrm>
          <a:prstGeom prst="rect">
            <a:avLst/>
          </a:prstGeom>
          <a:ln w="0">
            <a:noFill/>
          </a:ln>
        </p:spPr>
      </p:pic>
      <p:pic>
        <p:nvPicPr>
          <p:cNvPr id="962" name="图片 69634" descr=""/>
          <p:cNvPicPr/>
          <p:nvPr/>
        </p:nvPicPr>
        <p:blipFill>
          <a:blip r:embed="rId2"/>
          <a:stretch/>
        </p:blipFill>
        <p:spPr>
          <a:xfrm>
            <a:off x="1116000" y="1341360"/>
            <a:ext cx="6753240" cy="19814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3"/>
          <a:stretch/>
        </p:blipFill>
        <p:spPr>
          <a:xfrm>
            <a:off x="4284720" y="1557360"/>
            <a:ext cx="503280" cy="79200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4"/>
          <a:stretch/>
        </p:blipFill>
        <p:spPr>
          <a:xfrm>
            <a:off x="4284720" y="2349360"/>
            <a:ext cx="503280" cy="79236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5"/>
          <a:stretch/>
        </p:blipFill>
        <p:spPr>
          <a:xfrm>
            <a:off x="7093080" y="1557360"/>
            <a:ext cx="503280" cy="79200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6"/>
          <a:stretch/>
        </p:blipFill>
        <p:spPr>
          <a:xfrm>
            <a:off x="7236000" y="2421000"/>
            <a:ext cx="502920" cy="79200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7"/>
          <a:stretch/>
        </p:blipFill>
        <p:spPr>
          <a:xfrm>
            <a:off x="2195640" y="4019400"/>
            <a:ext cx="503280" cy="7923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8"/>
          <a:stretch/>
        </p:blipFill>
        <p:spPr>
          <a:xfrm>
            <a:off x="2195640" y="4884840"/>
            <a:ext cx="503280" cy="79200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9"/>
          <a:stretch/>
        </p:blipFill>
        <p:spPr>
          <a:xfrm>
            <a:off x="4975200" y="4005360"/>
            <a:ext cx="503280" cy="79200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10"/>
          <a:stretch/>
        </p:blipFill>
        <p:spPr>
          <a:xfrm>
            <a:off x="5148360" y="4898880"/>
            <a:ext cx="503280" cy="79236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11"/>
          <a:stretch/>
        </p:blipFill>
        <p:spPr>
          <a:xfrm>
            <a:off x="7970760" y="4005360"/>
            <a:ext cx="503280" cy="79200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12"/>
          <a:stretch/>
        </p:blipFill>
        <p:spPr>
          <a:xfrm>
            <a:off x="8101080" y="4869000"/>
            <a:ext cx="50328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314280" y="800280"/>
            <a:ext cx="8515440" cy="558144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3059280" y="4797360"/>
            <a:ext cx="2376360" cy="4478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7667640" y="47973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3132000" y="5329080"/>
            <a:ext cx="1008360" cy="4478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6645240" y="530064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图片 59410" descr=""/>
          <p:cNvPicPr/>
          <p:nvPr/>
        </p:nvPicPr>
        <p:blipFill>
          <a:blip r:embed="rId1"/>
          <a:stretch/>
        </p:blipFill>
        <p:spPr>
          <a:xfrm>
            <a:off x="295200" y="1290600"/>
            <a:ext cx="855360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图片 58373" descr=""/>
          <p:cNvPicPr/>
          <p:nvPr/>
        </p:nvPicPr>
        <p:blipFill>
          <a:blip r:embed="rId1"/>
          <a:stretch/>
        </p:blipFill>
        <p:spPr>
          <a:xfrm>
            <a:off x="604800" y="919080"/>
            <a:ext cx="7934400" cy="553428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2"/>
          <a:stretch/>
        </p:blipFill>
        <p:spPr>
          <a:xfrm>
            <a:off x="4716360" y="936720"/>
            <a:ext cx="2232000" cy="44748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3"/>
          <a:stretch/>
        </p:blipFill>
        <p:spPr>
          <a:xfrm>
            <a:off x="1979640" y="1484280"/>
            <a:ext cx="936720" cy="4478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4"/>
          <a:stretch/>
        </p:blipFill>
        <p:spPr>
          <a:xfrm>
            <a:off x="7093080" y="1484280"/>
            <a:ext cx="936360" cy="4478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5"/>
          <a:stretch/>
        </p:blipFill>
        <p:spPr>
          <a:xfrm>
            <a:off x="2843280" y="2060640"/>
            <a:ext cx="936720" cy="44748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6"/>
          <a:stretch/>
        </p:blipFill>
        <p:spPr>
          <a:xfrm>
            <a:off x="1547640" y="2637000"/>
            <a:ext cx="2303640" cy="44748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7"/>
          <a:stretch/>
        </p:blipFill>
        <p:spPr>
          <a:xfrm>
            <a:off x="5867280" y="2637000"/>
            <a:ext cx="936720" cy="44748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8"/>
          <a:stretch/>
        </p:blipFill>
        <p:spPr>
          <a:xfrm>
            <a:off x="7740720" y="3716280"/>
            <a:ext cx="936720" cy="4478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9"/>
          <a:stretch/>
        </p:blipFill>
        <p:spPr>
          <a:xfrm>
            <a:off x="1187280" y="4278240"/>
            <a:ext cx="1944720" cy="4478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10"/>
          <a:stretch/>
        </p:blipFill>
        <p:spPr>
          <a:xfrm>
            <a:off x="5364000" y="4292640"/>
            <a:ext cx="936720" cy="44748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11"/>
          <a:stretch/>
        </p:blipFill>
        <p:spPr>
          <a:xfrm>
            <a:off x="3564000" y="4797360"/>
            <a:ext cx="936720" cy="4478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12"/>
          <a:stretch/>
        </p:blipFill>
        <p:spPr>
          <a:xfrm>
            <a:off x="6659640" y="4826160"/>
            <a:ext cx="936720" cy="44748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13"/>
          <a:stretch/>
        </p:blipFill>
        <p:spPr>
          <a:xfrm>
            <a:off x="4572000" y="5373720"/>
            <a:ext cx="2521080" cy="44748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14"/>
          <a:stretch/>
        </p:blipFill>
        <p:spPr>
          <a:xfrm>
            <a:off x="2268360" y="5950080"/>
            <a:ext cx="936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2" name="图片 57352" descr=""/>
          <p:cNvPicPr/>
          <p:nvPr/>
        </p:nvPicPr>
        <p:blipFill>
          <a:blip r:embed="rId1"/>
          <a:stretch/>
        </p:blipFill>
        <p:spPr>
          <a:xfrm>
            <a:off x="290520" y="995400"/>
            <a:ext cx="856296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图片 56324" descr=""/>
          <p:cNvPicPr/>
          <p:nvPr/>
        </p:nvPicPr>
        <p:blipFill>
          <a:blip r:embed="rId1"/>
          <a:stretch/>
        </p:blipFill>
        <p:spPr>
          <a:xfrm>
            <a:off x="652320" y="969840"/>
            <a:ext cx="7839360" cy="57722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2"/>
          <a:stretch/>
        </p:blipFill>
        <p:spPr>
          <a:xfrm>
            <a:off x="3867120" y="2593800"/>
            <a:ext cx="2058840" cy="4478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3"/>
          <a:stretch/>
        </p:blipFill>
        <p:spPr>
          <a:xfrm>
            <a:off x="6084720" y="2608200"/>
            <a:ext cx="1151280" cy="44784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4"/>
          <a:stretch/>
        </p:blipFill>
        <p:spPr>
          <a:xfrm>
            <a:off x="3851280" y="3457440"/>
            <a:ext cx="2058840" cy="4478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5"/>
          <a:stretch/>
        </p:blipFill>
        <p:spPr>
          <a:xfrm>
            <a:off x="6068880" y="3471840"/>
            <a:ext cx="1150920" cy="4478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6"/>
          <a:stretch/>
        </p:blipFill>
        <p:spPr>
          <a:xfrm>
            <a:off x="3852720" y="4321080"/>
            <a:ext cx="2059200" cy="44784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7"/>
          <a:stretch/>
        </p:blipFill>
        <p:spPr>
          <a:xfrm>
            <a:off x="6070680" y="4335480"/>
            <a:ext cx="1150920" cy="44748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8"/>
          <a:stretch/>
        </p:blipFill>
        <p:spPr>
          <a:xfrm>
            <a:off x="3851280" y="5172120"/>
            <a:ext cx="2058840" cy="44748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9"/>
          <a:stretch/>
        </p:blipFill>
        <p:spPr>
          <a:xfrm>
            <a:off x="6068880" y="5186520"/>
            <a:ext cx="1150920" cy="44748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10"/>
          <a:stretch/>
        </p:blipFill>
        <p:spPr>
          <a:xfrm>
            <a:off x="6012000" y="6049800"/>
            <a:ext cx="1224000" cy="4478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11"/>
          <a:stretch/>
        </p:blipFill>
        <p:spPr>
          <a:xfrm>
            <a:off x="7337520" y="6049800"/>
            <a:ext cx="9795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图片 55300" descr=""/>
          <p:cNvPicPr/>
          <p:nvPr/>
        </p:nvPicPr>
        <p:blipFill>
          <a:blip r:embed="rId1"/>
          <a:stretch/>
        </p:blipFill>
        <p:spPr>
          <a:xfrm>
            <a:off x="638280" y="2219400"/>
            <a:ext cx="7867440" cy="241920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2"/>
          <a:stretch/>
        </p:blipFill>
        <p:spPr>
          <a:xfrm>
            <a:off x="1116000" y="2836800"/>
            <a:ext cx="5761080" cy="44784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3"/>
          <a:stretch/>
        </p:blipFill>
        <p:spPr>
          <a:xfrm>
            <a:off x="1116000" y="3429000"/>
            <a:ext cx="7488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图片 54276" descr=""/>
          <p:cNvPicPr/>
          <p:nvPr/>
        </p:nvPicPr>
        <p:blipFill>
          <a:blip r:embed="rId1"/>
          <a:stretch/>
        </p:blipFill>
        <p:spPr>
          <a:xfrm>
            <a:off x="304920" y="174600"/>
            <a:ext cx="8534160" cy="6591240"/>
          </a:xfrm>
          <a:prstGeom prst="rect">
            <a:avLst/>
          </a:prstGeom>
          <a:ln w="0">
            <a:noFill/>
          </a:ln>
        </p:spPr>
      </p:pic>
      <p:pic>
        <p:nvPicPr>
          <p:cNvPr id="958" name="图片 54277" descr=""/>
          <p:cNvPicPr/>
          <p:nvPr/>
        </p:nvPicPr>
        <p:blipFill>
          <a:blip r:embed="rId2"/>
          <a:stretch/>
        </p:blipFill>
        <p:spPr>
          <a:xfrm>
            <a:off x="1015920" y="2536920"/>
            <a:ext cx="793440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8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图片 52231" descr=""/>
          <p:cNvPicPr/>
          <p:nvPr/>
        </p:nvPicPr>
        <p:blipFill>
          <a:blip r:embed="rId1"/>
          <a:stretch/>
        </p:blipFill>
        <p:spPr>
          <a:xfrm>
            <a:off x="538200" y="1871640"/>
            <a:ext cx="8067600" cy="311472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2"/>
          <a:stretch/>
        </p:blipFill>
        <p:spPr>
          <a:xfrm>
            <a:off x="1187280" y="3127320"/>
            <a:ext cx="741708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2T00:44:09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