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542-7BB8-490D-85DB-05C5AE9A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C49-3F15-445C-8B58-44401D97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7120B-FCEA-474E-97C6-7A344861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80E58-FC85-4EC5-940C-9D5A177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6DE254-DAE7-49FF-9974-15793634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FE54F-E2AE-4628-B51E-FBA3DFC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F6340-9EEE-42E9-BAC6-26CD157C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98EA2-B4CD-445D-9373-E3464645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C1DEA-7427-4ECE-B1BF-53E88D0A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A8D49-E12D-42B8-8BE1-6B2A12FD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28DB6-6E60-4E7A-80BE-80A7F460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557D9-4DC9-4CD0-A3CD-526FCADE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0364-DD9B-4DB3-BF37-2949C31F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E8D4E-02ED-478D-AE07-D501D8E5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E3F48-32CF-482B-9797-853B9334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6AF49-3845-41C7-9E9D-8B616BAB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EB946-1598-47C4-9CF3-FA86E939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CA706-6257-4BAC-9821-5185CD4E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8912F-7EAA-4F9D-9C48-22627FED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139E7-7B90-47F9-A9EA-F0948E2A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503F31-C396-472E-A0C9-8C5F0AF0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8844C-CCD8-4CA3-B3D4-FFC47DCE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124CB-69A0-4745-B506-4FB8747DC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0B06-1284-4085-9FE9-C683BA5C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BC83E-E45E-4347-9F82-1962963D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0369-20C0-4FA3-BBC5-68AE6805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C5F95-8B5B-4409-901D-949A420B2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9014C-5A0D-408D-9802-35DDABE4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C97EB-14F6-4FD4-B40F-95230F5D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78AF2-FA37-4AD3-B8AF-D7043B81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12FA6-EF9F-4779-A7C0-0472A463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C4012-CE73-46D0-A9C4-3527BD42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7465E-43A0-4C2B-881E-98ABF9A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46D2C-8F9B-4CD5-A259-BC247CF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83FB-2DB5-4E52-A808-4B4EA8AD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90992-11F4-4661-9195-A1B3844E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8D94D-3098-4BCA-A968-C92182CDE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EEF8F-153D-431E-8004-D9997737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17659F-93C9-47E7-BE63-7C1BD55A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9C7E3A-DBCA-4A1C-9210-D0B21BB60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B37AE-B69C-4E77-A3EF-1243746A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FA68E-5125-43C9-84C0-FD9C001C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09422-1913-4B73-A927-1574E5DC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E9CB2-327B-4CD0-A9A3-8580C089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B06CA-615A-4005-804B-E87B6687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4B2B-30F3-4B6E-886D-E6B66389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28E74-DCB3-4D54-84E2-CD8F6A5A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63124-602D-444E-A101-AC27D684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A719D-D014-40C1-BFC7-D7124EC8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2802B-20C1-404D-89C7-C9D7E983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7B0FB-E2B7-4774-AB93-40CD11F6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2AB33-A42B-4636-BE49-99BFE468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E2F7E-446B-4E89-AF53-A2EFD7E9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4CDB6-4F49-4C90-99A5-B72EDB21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90053-8BA1-4A9D-8F06-E7F2FB7F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2476C9-9508-462A-98CB-017D76BA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46B8-6AB3-4D4D-BC24-F430F4DD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16A6BC-4A8B-49D8-A035-BEE5A4C0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43C2E-407F-4B0B-BA09-D401CEA4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1DA10-58E2-4F03-90C6-266F8BFE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73319-6640-4B05-94EE-723541AD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83D16A-30D7-40EE-8F0A-C1343849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058FE0-75FD-4D16-ABA5-3C56C6FF0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47DA80-95AB-4502-843C-7A041984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E4FD0E-291C-4044-9582-2E8C84AF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0AE26-478A-45A0-B666-49EA6505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FB069-C093-47C5-9BAE-9DEC827F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DBE3-3F92-49D6-B598-43668D7E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4BA6D-9B51-4D54-9DFE-CC3D710D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2E68CD-5FDF-4CBB-BF7A-BBA0872D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610A96-BD84-459B-B0CB-D0230057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3C19E-2B3C-4B1D-B60C-C05E4CE3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5DE21-DCEB-49BF-A63E-1003C8B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83238D-228B-418A-BADE-33E9BDBF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74E35-72F5-4D9C-A63D-500B8FBD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121D8A-CF5F-4DEC-A375-CFEDC280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DF81C-FD47-4552-B317-C4603C61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2BB86-325B-4B6D-90EF-3C4BAF21D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EC10-88BC-4E9B-90D0-5128606B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76EF78-0F6E-491A-B7AF-5381DC0B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28019-0EFF-4AAF-B43D-B4C1C144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7E1DEB-5BB5-451C-896A-C49C6D55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BE374-7AD9-4B57-9C89-099CA828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5459B-9A7D-41C9-A501-12221954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EE50DA-28ED-4580-8D83-E9748408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B68AF-39B3-4A16-886D-23A14E5A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6CDEDC-BC14-4F21-A6CE-5F1A7857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E11D7-21D8-42A6-A1F6-5E97FDF0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5A9137-6716-4E46-B015-6BDFD2C2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622-D916-4101-958B-9B9AB13C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CAFD0-7ED4-42FF-AF73-C0157B99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11BBB-0478-419C-BACF-A5B5EF7A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B0E02-D91C-4C25-9F7E-E9B6808D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54D15-414A-4997-B1C9-1396FC9C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398FB7-E055-413C-8473-E2AF6525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277296-DCF6-4ACD-BE27-A4B24AE4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B3402-7D52-4369-A62A-B2DEFB9D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2CF27-BAA4-4AB0-B531-2A759DF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24C8C3-5E1E-41AA-B560-B566145E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A06DB1-E857-4CC3-98D9-C273B67B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9C81-461C-4AFD-B327-CEC965DC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99407-6530-479D-947D-196D0AC0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4819E9-72B9-4DDE-B5F9-410DE6306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C8DE2D-C864-4FEE-8D1E-9EE86963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1730B-A9A6-4908-B2F2-210E2C14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2AAD3-AD72-4F73-8D4D-BB7400E5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5AC12-4723-4759-8D21-D4CD0D2A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D1F20-A7D5-477C-B689-A6F87E52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6CD32-45EB-4A27-8512-E190246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FA7DE-64DA-40F9-B0AB-3F36E140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03B399-50CE-42E4-9BCB-172705E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5819-876B-498B-AD10-5E3DBE51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4C73-7068-4801-9035-EB539761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BF58E-9543-4FFE-AAE1-D8AA6EAF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D0FF63-4E6F-4951-9DB8-3C7BA426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72AA67-AF3D-4644-899C-B6363407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B4F53-5A38-41E3-BD3B-3C55AC246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3F6007-2BC7-40B4-B506-7B65DB87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23D3A-264A-4B09-A3E6-ED826C3F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F5D9B-BA29-4369-A91B-B95652B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FA8ACE-FE6D-4309-A6A7-A1759CFB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EA659-277A-4139-802E-C89E2C84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301A73-F7A3-48EA-9E1B-C8C8AACD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AE82-FAB2-49C7-9CAD-585A95FF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8D888B-890D-4660-9312-94CC8FC1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B2439-9636-4D83-9895-64904754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57F07D-246E-4EA8-8CB2-793ACAD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989C10-235F-40AF-BE18-8AC6E312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E8FC76-5E4B-4D30-B617-E0F1C55B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E43929-8AEF-4796-8E87-DF177CA9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C76D5-C21D-4C02-AB5F-34729F62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796062-7774-4095-83A6-91CCA5A4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9DBE17-2941-4694-9EAD-5CBA4B96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D95F9-3B98-46BB-8774-F3AD30B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3C32-2C97-4D24-A32A-94E1D664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3BB4CC-1DFA-4318-8A92-C7FE473A6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C61DA7-9432-45D0-B683-F4A4703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E4AFE7-1B48-485E-A83B-42C2F2DE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706A7C-30E0-451A-87F8-C6AFA645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539079-A070-430B-97C9-1EC044F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40D0EA-CBAB-4078-BDF6-B1862E3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1A9D1-6C50-4FEE-B6CA-74B2E7DC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095248-BB87-42B4-A3F7-A30B4981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9B3A3-1324-4206-B9E0-515E90D4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E1CDF3-809E-4F19-8CA5-CDA7E022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64FA-F2EB-4F0B-9EEC-EF6F429C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44B01F-25CB-4B1D-9842-B070FCF66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32D87-436B-42B0-9F83-6034C513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3485E8-325D-462E-905A-259CF36C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4AAF4A-C331-4F0A-9999-40816B5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F05156-721A-410B-A122-5626786B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651D7B-347E-4439-A1A7-72CD6B1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8953A-C9AE-4FBD-A29E-AB676B76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4788D9-C2A9-4189-8025-B01A3A8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A4859-5A6D-49F7-89E3-B885779C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5B3E7-32FF-4CDA-B45E-735E069C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A01D-A7A3-4D60-9455-1B7C0BEA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07EBAC-5673-4E26-8D51-DD615447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020E27-FE4E-41B5-A89E-C9C02EAA4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8DCF7-3F04-4F8C-A013-A19897D2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908EE-DE91-4F12-A7EB-73568ED3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15034-D98F-4542-B13D-BB58F984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7479F8-DC2E-400B-B7BC-5BDB688D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0120A4-D1B4-4659-96CA-3F9CA56C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BA5663-7C08-4C89-ADB2-9F845138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40D74B-124C-4B99-91C5-23AA27A7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33158-01AE-4FD2-B83B-A2CE54B2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288DC-3A1F-4C00-AAB2-452DB395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D1B93-8713-4BB5-B6F6-B67DA7B0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FFF82-8D9A-4836-86BA-44466C8D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B50364-565E-4C11-A04A-F2C96169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AA56E0-6280-4BF5-A2F3-BADA8782E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7EA593-10E7-405B-BD19-AEDCD0A1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C441E5-0DEF-4A93-8CB8-370DF531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981BBF-DBA9-4436-BF37-9460A6A5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4986FE-40B2-4485-A41C-5FE8062E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C93D1B-5C9C-4F15-A7EA-2D87744C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787B8A-9B7C-4CFA-B887-58436959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73D7-0DF5-452E-81BF-CCB806D6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1BB42F-184C-4890-B4AE-45CA15E3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E57E95-D5C1-4D0B-88D2-FFE21C51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A74ED5-43BA-4A5A-B8B4-2DF7322E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E20B8-3CA7-4613-9C84-84290F1E3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9A826A-392D-4291-8624-4DA77643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499DB6-6ED1-4B55-832F-EA8F2F928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2F58AB-9365-4502-816E-3D78D2B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294F8B-785A-4925-88E0-97DEFF2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BE786A-4C02-41D4-8ABB-0B6037CD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D9F3F6-BE7A-4D39-B0C6-AB8E9937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5E7C-3070-405A-957A-1185198B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EAB8D6-1296-44AB-9B74-0883CDA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2425D2-D428-4457-89AD-D6CAB1AD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93A4D6-581B-4E1F-949B-FC96D72E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4217D0-E4C4-4373-974D-BC730FC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CA2A70-DEEE-4DAE-8B83-DF9267F7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88EBB0-107D-4761-9593-7C36DBB5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500617-EF98-487D-9C87-CEEC04F6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F2407-09C2-4A8F-830B-89447B45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ADC59-F600-4AFD-B46F-A3277A33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0ECE-38BA-4619-B685-3E0A9961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A49A-93D2-4894-84AA-4453EB0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06D9-2A1F-465B-BF6C-63073D93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B75E1-298B-4BDD-A21D-67F981DD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F0EFA-4401-4A18-88C7-E36CDCDE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1EB2-2FD6-4767-A226-BFFD931A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7C8F2-FE02-4915-BFCF-3BB5048A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24D5-698D-4396-B266-CDD782DF0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5393B-2B25-4DA2-9E0F-434455B1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19774-917A-4D5D-842E-3846521E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B6C2-31B9-49EE-A99A-805CF6FC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927-9719-455A-8787-C05C3105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A1284-FF40-4994-83F3-84711D87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81605-7211-4A6D-81C9-E70CBED6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5B54-84C4-4CF2-99F4-664D725D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67CAB-DB0B-4384-BE0C-C4C05DB6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55777-341F-403B-A0FA-C38E165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A9083-5EF9-4619-89DC-68F387D5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E4F7A-E2D4-4173-B5B0-AAE4D57C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F62E7-0108-4319-87F2-CEE9B57C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C80F3-346D-4EE9-820E-00F37F08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24ED7-249C-4FC0-813C-4E153B86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D51-6928-4676-8CEA-D630F498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69D0D-89EE-4CA7-AB23-B1CA1162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C48D4-44D9-4406-93EA-F90231705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690D3-EDD9-483F-AD1F-E3BBE5B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305BD-C5E5-4243-9CA8-8D20D53A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3E0FD-75DB-4143-AF1B-171A8CF5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0577-6CE2-4FC7-AA21-A5C60E03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E8F8C-7F56-431C-98A9-41C2457D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06073-5D77-43FD-8D03-C3367D4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FB057-69D9-4E40-8933-B361B689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869B9-8736-49E8-8483-5993E250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226F-5A6B-4145-AECB-789E5B9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35640-F76B-40CD-978D-85275C92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5564-E80A-4D56-900B-3001105B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1A504-58EC-45C7-9A79-34CA1F2D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7D66E-7290-403C-A408-A85BF5F1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27186-8D4C-428A-822B-D774EF10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5FC7-1786-4851-8671-9B3E019AE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E898E-5C3C-49D6-A598-93E7A501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733B5-EA35-4130-90B8-708B980F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8A706-D7B6-425D-949A-39D6C026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8D467-9D50-4798-9A07-4CBC5F2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46C-3BE9-4727-8A1D-A4B84C74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4D58B-8680-47C5-A327-BB160A88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2793-1AC2-4D9E-BF2B-B558E5539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1E480-5EC3-43B1-ADD0-5DD745B5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1616C-2BB2-4937-8B4A-6D01C5BD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F6B30-52F6-4416-8DDC-C043CFA2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534E-168C-486C-BBB1-C85A7463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51AB4-C4BB-4B8B-8822-9C93D281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1576-FBFB-46A0-8E0C-74488F12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B1D41-AA4C-458B-8AB7-8291599C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06A93-8258-4D8F-9078-95F117A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570-4810-4515-BDBC-1CEA4F66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BB7A2-5694-4817-BDCC-52F55C4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C5B9B-B7DC-4BA6-A274-4BD56B2A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83508-69BD-49F3-8FC0-D121C3F1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B6994-6072-46D2-B750-6749E7E95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8A841-3DD4-4799-B9B6-7DA89671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DCBB4-5A0B-4444-A843-B95BCE2A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13928-9510-470F-884E-5B84A431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B3106-7349-4AC0-AD3D-CA48417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89204-BE5F-4226-A815-B654C6BD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71F67-F4D7-4F4E-B5ED-95E254E2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F89C-FB44-4B1A-8DC3-7D81991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501B6D-39B3-4546-830F-A80E640E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0589-F174-4668-B397-B7CA41CD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10613-B6A5-4821-AEEC-78D3D35F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509C4-385B-48ED-A83F-885F90FD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2BD2E-0989-4957-81DB-09D0C9A6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F028A-E343-4E89-8B8A-B786B681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07316-93F7-4CF8-A287-91F2989B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9DC72-3300-455C-B324-46E15B5D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8EA5B-C811-4D68-BCB5-8A0C55A7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779B1-7A78-44FB-8A14-9C4C1BA7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E1DD-0510-4A47-A267-B55D78113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3E19-D286-47E9-9B41-A49328FCC6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7F3F-931C-4BC2-A3CB-3A69FFD4D7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DF53-7AC8-4414-8B1D-54FEDB469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C366-ECB2-4B44-8776-9A7C8093BE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3B92-18B9-425B-8D37-17DF3726B2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642F-4CBC-4647-91FA-99D251A0AF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0D5C-3A0C-46D8-978D-5B99B7B0E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7F96-3AF9-4F58-A7EA-D70A4E00A8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A86D-2CA6-4293-B406-34F33C04AC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CC9A-4DDA-4E6E-BC4B-FF206677B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D901-976A-43F8-A5C5-F263684A34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CBEF-5292-4FAF-B81F-5EB82F5234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C457-EA7A-4613-96CF-C838CD00A5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46A0-930B-45F2-87B9-A19D8D6BB1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31C9-7378-4CE8-B2E5-99B75E467A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0ECB-D5A4-4131-AC5E-7F7BBC962B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C397-1B02-445D-BA48-66D3FB54EF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0D72-AB3B-4BCA-BE25-FFF33F4B25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B925-AEBA-4FDB-8CB3-B3C51BD1C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B11F5-36FB-43E3-8AE0-82F03FB572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1ADD-D3C3-4AD4-B44D-595BE9D9910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9487-79D1-4846-BA8E-8DD9811C12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A92A-30B1-4F06-BB42-9B6C2C42F4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BA3-589F-4691-8D1E-02B5AB256C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CFA6-B755-44DE-916F-628E0142FE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2919-A6C1-4060-A2E4-BB30DCF0AC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10DE-B946-4998-B6F1-699A36BD25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B3B-73CC-4C85-A784-93043FA07E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36C8-76C2-4953-9676-72C475AA49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1F4C-720A-4841-8F4E-53A386E8F3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876D-0B7B-4D00-920B-A9F6BE3456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8D08-0818-44E8-BEF6-73E1DC538E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FABD-D682-429B-B00C-FC1A36DF81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5991-B73B-4F76-9E10-B62C135C9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881B-C885-4111-9D29-16DFE40C1E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5956-41DD-49C4-ADF8-8B6C14CBD8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39A9-F226-44AB-9EE6-506E0AFCC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D740-727D-4233-B1A2-02A7A5C9C4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1538-3758-4B56-A0BD-2DEB5F6528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54BB6-096C-4BF6-8DDE-AD9AD39EF5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9CD7-302D-445C-A7A7-5E896A9D40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33520" y="2900520"/>
            <a:ext cx="807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14480" y="219240"/>
            <a:ext cx="8915400" cy="6419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26920" y="38750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55640" y="4552920"/>
            <a:ext cx="4392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7960" y="880920"/>
            <a:ext cx="8668080" cy="5467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00000" y="512928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79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3924360" y="331308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76120" y="1671480"/>
            <a:ext cx="8591760" cy="35150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042920" y="3962520"/>
            <a:ext cx="590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90520" y="800280"/>
            <a:ext cx="8562960" cy="52578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971640" y="391788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403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900000" y="5272200"/>
            <a:ext cx="691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90400" y="733320"/>
            <a:ext cx="7963200" cy="5953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476360" y="4854600"/>
            <a:ext cx="439092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476360" y="5516640"/>
            <a:ext cx="43909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1403280" y="6222960"/>
            <a:ext cx="720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33520" y="165240"/>
            <a:ext cx="8264520" cy="6669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547640" y="373068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692360" y="43657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1619280" y="56894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1619280" y="63817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461880" y="2252520"/>
            <a:ext cx="8220240" cy="2352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116000" y="3701880"/>
            <a:ext cx="62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76040" y="876240"/>
            <a:ext cx="8791920" cy="5105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900000" y="5243400"/>
            <a:ext cx="619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3:2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