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251-C2C3-4C98-91A4-8FA888C8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4A3-7496-4098-9E9D-6A8065C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C1FE-7575-4BD1-AB9F-64F853B9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2DC47-A3AD-4417-95EB-8C17296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FD232-E39D-4507-A1A0-317E8BCB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47E6D-1170-4811-9A32-A71A140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172D7-CB1E-4BB7-8B90-C6F21A4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4002-F6D2-4548-90A9-0267658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5B10F-4848-4637-BEA0-DEC7D84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FDB09-62DD-463F-8C29-BA66181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7DED1-2E66-4173-B838-2F18DF7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4BF7-849C-490E-A01C-516B859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6BB-CAE9-418C-895D-B8651962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43018-DCB5-4653-8150-072A015A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A8487-CAB6-461A-BCE8-7C7E7C4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76090-814B-4E20-AAE4-C510CF3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45D36-304E-492F-BD84-48150BDE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02686-BEBE-4193-98A2-8921947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1C010-C137-42E5-8A84-432A9B6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926ED-25A2-40ED-A14E-38546E9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B2A6A-846A-4DEF-83B7-61D23DA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91B0F-CE43-4251-B77A-2626016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69A06-F12D-4215-AA32-E82112AF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B50-205A-471A-9EAB-FEB2A044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AD052-D0C4-4C97-A7F5-1FBAD3AF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C794D-462B-4999-8DAA-14BBB4D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1A9FE-FCF5-4087-B2C0-FEC28B4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209AE-BCEB-4ECD-8DFD-416E3FC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0FB5-73C9-4B0B-B9E3-5500ABC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D699-14E2-4216-9671-34E2C16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D9387-F074-4FD3-B24A-3E121DF2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34DE5-46FA-4EC6-8062-03E6C8B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C4CE7-E51E-4691-9796-40F9AC1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EB01-AB6D-4A11-A226-7EEF9DB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D843-DC2D-4706-901E-9FBEA50B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189BD-71D5-41FE-9D8A-2FB28B37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097B0-8EFB-45FE-8C4B-306E362C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FEBB4-B376-44EB-B22F-B669D5A4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2B29C-D3DA-4930-825E-ACD0618A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1123E-9408-4F9C-8A86-E27B1970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DC6E0-3475-44B4-8F6E-E6039B1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0A69E-DDD3-4460-8EE9-FCD5DDB2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E67C9-DD62-4D0A-962C-F4AE60FF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481C5-3124-4846-B03E-A8EE6D4E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D0FE6-8A6A-4862-96EB-C6A5447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A6C-40AD-4C9E-BFA6-16D4B9D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1822E-3B8A-49EB-8B59-6B1F28A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257A1-0B65-4810-84C2-6F50253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FC64-8090-486F-8D30-769EF8D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3BF2D-7B53-4E4A-A306-3ED871FE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DA861-837D-405D-A7E1-BDA0E4C3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0DEA4-90C1-4B72-9046-44D91DD4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15AC7-B60A-4978-88F5-1D289E7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73385-A668-43B9-8081-E8B4B917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8FF47-1586-43F9-926E-FAE3D755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08E68-5653-44AE-81CD-D62B6468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25C-AD2E-470A-AD94-CE391BA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B70A5-E60C-4EA4-98D4-68D00C8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14730-4DFA-4A4E-9F2D-E9F4CDC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260F5-8764-4AD4-8857-60EC1D1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6CCC6-1061-4CBE-AAAC-18D303D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CC0EF-0080-4043-8A86-74E5BEF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70B9B-B868-42A0-959D-2BCF5D2D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0586D-546F-4EAC-AC30-05ABFC1A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8F75E-6365-4316-81B2-4E449BA7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DA1B3-CEB4-4117-A51E-DB538CB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BDFDD-DED7-41D8-B727-5CD225D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9B9-D957-46A6-A8EB-756F98D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184EA-EA28-4058-95C6-1BC36A1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90C39-776F-47E3-BDCF-825E189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C15E3-1F37-4697-AC2F-8BC78DB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029AE-0A05-4BC0-A3C2-714CC6C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9A80B-ED91-4AD6-A9AD-AA83F77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4CB5A-DCE2-465B-9D82-95255C5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CDE5A-79BF-4E9E-8BE4-8FA5F57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F6047-9BF6-4F8D-826D-FE2BB31B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4F648-4A0B-4726-B384-94456B22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F2CFD-1FCC-44A8-BE5E-4D788ABA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7AD-D47A-4CC2-B052-37922420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E7B6B-9E36-4004-AB40-666AB11C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04156-85D8-4BA3-AC2D-088963DE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A9401-902E-4BDC-AEF0-D7210214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49F99-26F3-4FF6-AB3B-1569F4C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6D19F-155E-42AA-AE5E-7644A940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34ECA-41A8-4BB9-B4E6-3BD78A5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87EC8-EB56-4143-8546-3767594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3F710-88F9-4721-BDEB-FB5690F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BB38C-61A0-4E7C-AAB5-C43B256C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A0BC1-9339-42DD-B223-3B258962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9B45-6FE3-4307-97FC-651D718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EE103-1AF9-42C7-9E24-26B68F3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73AD3-4375-4B77-B7EB-B54D2CA2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97489-3A4A-4589-A77E-A2D48B0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3C860-D5E4-41B1-BB5E-42148271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BEC3E-31AA-475D-A6DB-343132F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C8CDB-8555-4F68-82D6-5F568E8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30B1A-0480-43D1-B1CB-3FE8A30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17A66-A6D5-4E99-8666-55F312D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C6ABF-3EC3-4C8F-AD2C-F9DB75A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44F65-BB63-475B-A233-AB99D6D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2BAC-9178-47D8-A3C2-23B3982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04724-CA8D-47A5-B9DE-E79C89D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817EB-2E0C-43DF-B71E-5433D848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62609-92D1-4829-8DA8-1B851E32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09B8C-2A17-47D4-81CB-3AADAAD7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A6487-B715-43A0-BAEB-60EECF4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37FE0-50F4-4A82-AA03-320995C2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6BD9D-2B63-4003-8743-F4D6305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1ECE6-A844-4BE1-A908-45C6B3B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3ABAE-387D-4591-B4B5-DCC2CDBC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43202-002E-4E50-8F0F-BDAF7CB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B5D-B9DD-499E-AAE2-AA652D4F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2E6E-7C5F-4629-AF5C-D8E9732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96884-D2BA-42E1-8D4B-ADAC064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D20E7-4037-40B7-A9EA-400F91E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974A-C48A-408D-A706-E8948CA9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D44FD-A817-4B6B-88B8-E026B577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D1208-49F6-4207-98C1-45754210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E8B60-C768-4E77-8E9D-4CFB7204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4C6DC-F52F-49B6-B946-DBB7EDB8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8CAAF-F411-4B42-A308-12C9100A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86F16-0D29-42CD-980C-BD7CF7A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B943E-E2C8-47CD-9877-C59A5D4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D411-0EA2-427E-93AC-3231125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31E76-98E2-40D1-A903-0A1FA599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805F6-A6D6-437E-9F9F-D439165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F2836-619E-4BAB-A0D5-D05DDE27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472ED-E0CD-451E-84C3-ECC4D2E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F7C54-839D-4999-A755-8C7B834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2A811-8DB8-4AA3-9216-BADD424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9333E-24DB-4DF1-A86C-72DF6BA3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1E5F0-14C2-48C9-A644-E6B6C916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24BC1-EC7D-434B-920F-7CD12D89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17AA7-9BBC-4B89-B2B6-D9A93A5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F61-3081-4444-9B26-78A5E0F9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A4D25-B673-46C3-9002-9040E9CE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941F5-9CB7-4191-9D6A-44AD892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02A2C-E452-43BD-81AC-8B4336B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F093E-536A-453D-8AD3-9A66515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E0D89-8F37-4CA5-ADE8-BBFC5B7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5ECA5-5E82-4322-9404-3728405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F6BFA-EAC2-4A90-90BB-D64E76B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DE0F6-6D26-4986-8BD4-857F57C4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8937B-2D8B-4DC1-87F6-F476120C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33BEA-25F0-4C4D-9333-7E788FB6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2BC-8008-4873-B4B6-1DFD539A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6918F-AD34-481A-81A2-50913E88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2F88C-82C4-4DB0-9DC1-1296E9E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ABF37-AFE9-447C-97F7-94DB1E2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4CA7D-C5DB-4988-AE0D-D513C937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5DB9D-EAFB-4E83-87B9-17C4BB4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BB585-6D7C-4565-A6C8-108B01A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A5F60-1786-4F67-B8BA-00AAED7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33FD9-E175-4090-921E-089926E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5DF5F-B495-43A9-B7F0-8D9A23E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B917E-1677-4FC8-AB23-B211C464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17E5-76ED-4F90-82D8-8448EECD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DCD52-3D79-4745-AEB2-5C9D0D0A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A15BD-541D-411C-8C3F-30C36D9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69A4C-73A7-405D-9607-70AF7544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5D5940-2FAA-4F18-A794-120DBD9E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B0F61-5EDF-4470-ABDC-1E13EBFE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08DFB-0BDD-4E71-B10A-0C61B19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6D2B3-C98E-48DF-B4BC-24A7448A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B2FEA-449B-47AC-AE92-5BBF8CF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43E48F-64AE-4A54-9196-E636222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ABA64-A6DA-4C2B-9511-7805D1D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DB46-3057-4AB1-8F91-B40925E1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3F080-813A-4C61-8878-05AAFFF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02228-751E-405F-9A9F-A4AB5D83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7842D-2D7F-4E99-86AE-E813F7C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BDD9-D452-43ED-81DB-127B1E3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42AA-0B08-456B-9B03-616104E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B333-4642-4C3F-A5C2-DA043D2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1729-7B2B-46A5-9F55-CABF093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5A7-5C46-4393-B94A-25F217E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80E7-2157-49AE-99B1-7C44E31F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C5D9-1EED-4F36-9963-A345645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742C-8E10-4364-8D26-2AFD153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6849-3238-49C2-81AA-AAB59EF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3C4F-E9B5-4885-971A-8A0A9AA2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2C5F-8C03-4A35-B92D-88D858CE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3CC1-8915-40BD-88A5-C6E08346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8C22-5DF6-4BBB-9CBF-4F73FD6F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30D2-0A55-4D6F-8930-883A0DA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1FA5-D725-4A8B-9DD9-205D0364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782-B72D-459C-B881-C1143531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3A53-5138-4AD2-B603-655820EF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C66A-C1F8-454A-8F16-AE80715C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3F55-C7E0-4084-B0E6-4A41024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0F95-9075-4EF6-A8AE-76C43DC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2F3D-D2AB-46C4-9060-48DDC0F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6C88-7678-4F13-974E-5532E359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F13E-D055-421E-90CB-DF56584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6BCF-B466-4662-9EA3-38B2BFC6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0B7F-97F6-4186-906E-A11C94A5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F15B-E009-4A25-BCF4-9CD8C78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00D-666D-46F1-BC51-175A628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FE21-AFBB-42CE-A36B-0FACF29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6D35-A772-4ACF-BD56-0DF7ABBF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A0F1-FB06-4B2F-B761-1BCB20B3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D22C-B5A7-4EC0-9CC3-9994595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B1EF-8C43-4ECB-925F-9F030972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66FC-10D6-482F-9E6E-D01B14E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2305-B33A-489C-87F0-B273F4A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2655-5607-4380-9528-932FFFA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DC8C-DB09-44CB-84C1-290091AA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F60E-7F86-409A-8878-718CD42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A53-46AD-4414-8C41-8CC1F51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CEC11-D316-4435-89E2-934C3B5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081E-02ED-444D-B233-53F2D1AC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00FE-D528-4A12-8C2D-DF0F137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6DEEB-8973-43A0-B238-2485E187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B15D-5039-4855-B78F-396B5FA5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D678-405B-4460-ABF5-CC0D1CA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7067-CA19-40F5-97B4-110892B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2B9AA-3700-4B58-923B-0754717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3C1EC-E47D-4598-83EF-8012C0D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82411-F7F8-4C57-9B2E-1F014FC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0C9-BD98-4618-99E8-052EB1F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A6F0-BA36-42BA-8D5F-92418232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BC035-65AB-47C9-ABAE-1BD0F3DA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BEAA-6822-4F10-91A0-E251F38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5208C-A658-4CDF-8188-3D20BA3D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A10F-868E-4AAE-A989-6D52291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A696-C534-445B-ABEA-DA4E9B6D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FD58-BD0F-4D20-B4B5-725652E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ADEA-F5D2-4B52-A1AE-E315248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1C8AC-A71C-4D34-901D-A46AE8FE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7DDFE-A2A7-4B63-AD43-6C495E6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88C-94AF-4CD0-8E17-D520719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739E-7A07-4630-B9EA-FCC0AE9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6038-6E2E-4738-A7CE-3DFF19E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91DB-5097-4A0A-A3D2-0BCAE9AC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0B0D-050C-4434-8F01-2C0C473D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D9315-CF91-47B3-BE97-5C8BB87B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49FC-0670-4CDD-B787-C4725C28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117DD-2BE1-4848-92B6-471074A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40B25-0367-4356-8B24-B01D59C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9647-66A4-414A-8ABD-BCB8649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7E2F-6509-4855-A0C0-E786382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164-44BC-446C-83D3-A296723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BCF31-A688-41A4-8933-AB96E83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2932E-3051-411A-A177-E779743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45E9-D076-463D-9DF1-1716389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4595C-96BD-4D3A-B761-2225A71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7CF9-6983-4747-9E3D-68EEA42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0C78-8F35-4FB5-B701-22F69275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F1F6-7C83-45F5-8EA5-21C60370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AF0F1-2ED3-4046-86E7-038AB71B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49C40-3754-436D-AAE8-BDCA5B2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C4C38-C275-4278-851F-1EE0D410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2DF0-B973-492F-8E62-A6F334C60F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31F-AC8F-4AE5-97CB-277FB4B51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3E2F-2AEA-41E3-85A6-009EB03B8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FCB-ED03-42CF-96B8-19B1FDA7F3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EA6-8E8F-443C-94FF-DD780EA1D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45EA-679D-4FB4-9D6F-72E56B0C6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3A8F-628A-4074-B113-3E1905B419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E1D-EA04-45EF-B843-B8C944BFE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F98-7859-45C1-95F7-727B4AFAF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CBF2-85A8-41FB-A734-69E884CF4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1145-85F8-4144-8AF9-4C4B9F304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AD5-5D88-4CBF-90DE-7268EFA0A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FDA-4CED-43BA-A904-19EE0F1C02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23A-A5B0-44F3-B1EA-18C7901F9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1E6-9755-45C2-9ADF-2339D8F2E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A25-0EB3-4EE6-89BB-C73155CCA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08D8-A4D0-4778-A1A1-96B97022B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30DC-6B0F-4A93-BB99-293A30554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11DC-6AC1-4D08-8996-91AE0A198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9774-4F04-4D62-AC2A-302D6CB3C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8385-723D-4534-8A0E-075A03179F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E60B-B0D2-4E07-A4AA-7E5DFDAEE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8D05-89E6-4B9F-B089-4968D3101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808-648D-4B3F-AC9B-CC046F0E7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20B9-C933-41B2-81CE-A4266359B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B3A7-4627-41AC-B39A-421857CFAA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AF8-3684-4F9A-B8F2-F94344FA1D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CA2-5A9B-44B0-81B5-064B8DA609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5DB-EE72-4E6B-8229-5AD49E0EC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2D5-D2ED-4742-9DC3-C9D868ECC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EE8-C407-4E7A-A8BB-4FB462206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0C7B-BD16-4FC2-96F2-C3376AC5E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A47-3A42-4883-9FA9-16EE393CA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2251-2534-41CA-9B20-51B725853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85F8-3C77-424F-8A6F-F2B753203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DA2-2F6A-49DA-A29F-EACBB8596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413-B693-4BA6-BB95-0B9EDA4E8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D16-EAB2-4CBC-8E1A-6E8243EDC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25DD-4941-45EB-9ADA-939BFF165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6104-EF08-405F-B9A1-3BFD23E06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52680" y="1989000"/>
            <a:ext cx="2438640" cy="771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066680" y="3411360"/>
            <a:ext cx="7010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309600" y="76320"/>
            <a:ext cx="8524800" cy="6705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34574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971640" y="4192560"/>
            <a:ext cx="7488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826920" y="4927680"/>
            <a:ext cx="7488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884160" y="5559480"/>
            <a:ext cx="8064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8609" descr=""/>
          <p:cNvPicPr/>
          <p:nvPr/>
        </p:nvPicPr>
        <p:blipFill>
          <a:blip r:embed="rId1"/>
          <a:stretch/>
        </p:blipFill>
        <p:spPr>
          <a:xfrm>
            <a:off x="890640" y="1125360"/>
            <a:ext cx="7362720" cy="22482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8610" descr=""/>
          <p:cNvPicPr/>
          <p:nvPr/>
        </p:nvPicPr>
        <p:blipFill>
          <a:blip r:embed="rId2"/>
          <a:stretch/>
        </p:blipFill>
        <p:spPr>
          <a:xfrm>
            <a:off x="390600" y="3635280"/>
            <a:ext cx="8362800" cy="2314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500720" y="17305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280280" y="170028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236000" y="2290680"/>
            <a:ext cx="6760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908000" y="42210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215280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514836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8317080" y="4249800"/>
            <a:ext cx="576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101080" y="489744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66760" y="1014480"/>
            <a:ext cx="8610480" cy="4829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451640" y="306864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187280" y="3673440"/>
            <a:ext cx="10098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804000" y="368784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492360" y="48261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23880" y="1719360"/>
            <a:ext cx="7896240" cy="341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140360" y="17575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692360" y="3500280"/>
            <a:ext cx="1942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292720" y="4076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147636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304920" y="1623960"/>
            <a:ext cx="8534160" cy="3610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867280" y="236376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651640" y="299736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3573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403280" y="41054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213600" y="4695840"/>
            <a:ext cx="172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19200" y="981000"/>
            <a:ext cx="7905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981000" y="1747800"/>
            <a:ext cx="7182000" cy="336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5853240" y="19162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132000" y="365904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414360" y="1643040"/>
            <a:ext cx="831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200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604800" y="2057400"/>
            <a:ext cx="7934400" cy="2743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6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