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389-603A-4A82-B3AF-409A1B0A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2C12-21D4-464E-8B49-4972BC2F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C4265-7844-4B5A-A7F7-12B8980D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6B426-78EE-4F66-AACA-B58BEF60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2623A-35F9-4453-97E8-09686340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6B8DC-3734-4489-A18E-2BDB679F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7BC9B-19F1-4936-83BD-E38DC50D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69C1A-479F-4D05-8994-38E35E8E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245AB-1A5F-457A-B297-2E292427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F1AA5-E754-4FE9-A19F-58E2A067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4A355-41EA-4B24-9344-0BE59409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4427D-260E-4EBC-9C29-3F325FD0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211-C16D-4DFE-BB92-88C0DF09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67D77-CEB4-4663-97BB-3930FD38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21F8A-1422-4C83-BED5-90329565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AE5BF-6B5B-42F9-8FAD-A91FB749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29735-B899-4A3A-9E7D-8998D187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E7480-D16C-4C2F-9C7B-013A886F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916B2-1F74-4B38-86F8-36273561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0A5E3-C3B6-41F6-A20F-3F602C56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D57CA-CBAC-4D4F-B57A-2ED945B7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EA43C-A32B-4E76-AB4A-65AE240F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D1CFB-7261-4622-85E2-2A4BBC3B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FF0-FB95-4217-82A9-722A1516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5D9DB-F997-479F-BCBD-61C0F811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0F088-D561-468C-BAFA-F2FF7769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5A520-4ADA-499C-AF93-0CD9F438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1BC47-2EAA-4685-9B96-2E6F2C39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0FF15-CB66-44D8-A5D8-DAC92015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74ADA-F37C-4BC1-BD7F-0E6E98B8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06A81-2518-40ED-BDC3-76A341B0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C810A-C99F-43A2-9BC8-8C574D89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90207-0D2A-47DC-864E-D28873D9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19771-892F-4237-B669-0E6AEE7C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F31A-4B2A-4684-9970-96E2610C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31256-1AC9-4D43-9451-669855FE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F7EA5-12E1-4A13-84D5-66BB1B5A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50C86-4B0D-4C2A-9AAA-5CCEA5D1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7A209-FE92-473B-9F56-4C43A4E9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94323-4110-4ECA-93B9-3A1C5A86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306F9-57D6-4B4D-9725-5B2BD67E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C3D03-6C8C-4404-9F60-7B0A29F8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930D7-8AF5-4861-BE4F-40FC15F7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355A3-0066-43F1-AFD9-D8F0E673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BC12B-617A-4A39-AB35-965C6F5D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EECC-C999-4AAB-B41D-D5921BE3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5AFF4-C675-4870-B478-361ACFC0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877A9-260C-4DB8-99C5-471DF6DE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D9A8F-69D7-463D-9759-943993A5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1A5FD-9571-4068-9673-A170C050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AFE98-2AF5-4338-B972-60115A30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59648-E623-4E84-AD12-6F76C288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1538B-9229-4ADE-BF42-1661F1C1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AE2D9D-6C4B-478F-A619-5786687B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13141-4773-4AEA-864E-13C823AC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7C4F3-B4B6-4707-A2AA-8C113974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8DE8-2C03-40BC-BD89-AA7ACBAE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BF486-20B1-49F5-B93E-5978BEE9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8DFBF-5637-4144-98AC-1D2BD505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DB213-98BB-4529-B83E-30E0DE82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39A8D-77EC-4BCB-AED0-BB7FA2EF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6376D8-C888-407B-A7FF-F40853A0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64BB8-80F5-4F13-BE40-513CC705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F4207-0E05-4C53-84A0-9563783D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3F2351-128D-44EA-91BD-2AA042D9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5355E-5885-4ABE-865B-FE8136F3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149C9-2277-4680-943A-0EBE0A27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2FDB-0420-4FCA-BBE9-DFE612E5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354A16-6B40-4A9A-9227-0F5E5554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09DC36-F483-4FA5-A08D-C0D4075D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9DFFD7-76CC-4758-A12C-0F77F2BD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C131F3-5471-4F29-9996-0ABB89E7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400FF-EA97-4951-B6E8-C115E025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106941-A79C-4856-9E77-78BD2E72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89CFD6-C984-467F-BDC0-167CB657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686CBF-1537-4702-AEA9-5F946240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75D673-D4DE-4CD6-84EC-4A49DD19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FE313E-1B98-45D4-B1A9-AC865030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8030-4D5D-450F-B65C-74320D16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68DBC3-688B-44DD-A1B1-93050C2F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5EDE3D-2459-443C-A5C6-7AA7822A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42E4BA-F68A-499C-85C4-98D3A4B4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17A285-8FC6-408D-97ED-8A1D7163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91D191-FFE3-4BCE-B2F7-D0C3A498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A325DE-957B-47C1-AAC5-5B96EB15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8967E5-138E-478D-AF94-D1C32668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7FDF12-530F-410C-9166-195E985B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37664E-E680-4EE0-9B7B-2BF76B13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C47D70-2D4D-4776-9F43-323EAEA5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9B83-4FB7-456B-8D94-109A324D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C4AD12-11D6-4EDE-A9DA-CB6D0020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31F9A7-D53B-4615-8788-7A3E8A79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ACE467-43EB-45AB-B5E7-302BC860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A7FB4C-C5C5-4F8F-B0FD-20A2E1C2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F7BBD0-9C2F-4F8A-806F-B484BBF4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6EEF5D-9C84-446C-94E6-8E8009F9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EB8B5B-3001-4C6E-B8A4-11053363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D2C272-4456-47E9-8E6E-65613686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45CC18-582E-4972-99A3-93B74C0A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C630D6-6B21-4033-9641-D8668054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6755-1BE3-4CAB-AB52-4B610113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E6785C-4D84-4282-A2D7-15594EAF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ADD338-D2D9-4DDF-89B4-484ACB1D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EBF40C-DE88-442C-9E95-D778FE62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C33E9F-6219-4C6B-BD08-1595E065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22A159-18BA-4FE5-B244-85EC7ECA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2D45F5-2121-4DD1-949C-CA176AB2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DBB49B-9E72-435A-BA19-55D8F8B1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7C58F5-48D0-4324-BF5F-EC7FFEB9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07F122-4D4D-4F17-96DC-B9F70D48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A51EBC-89AC-4F81-95E0-7D49E8FC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ABB-CD48-4591-99F5-57C9D058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0DC1-F048-4FE1-9595-E568FE37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B768C8-3421-45F7-86D6-72921C60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1C535F-FCB8-4DEF-9132-F0BE7677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CCE15C-163D-4F0C-A0C6-0334A3D6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466C63-9F64-4CCE-BCE7-F55DF709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B3760D-C84B-4BB9-9DBA-E4356F9A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CAB708-A6DC-4D42-BBBE-03D2E923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D90D38-262C-49DC-9779-315F6DEC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7F55B3-CD89-4EC0-AA4F-D0B41574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1F434A-309B-40AD-B0DF-33DC930C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5F3A49-B9DD-4847-AF48-B85A7C28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97EF-DE01-45D1-86C9-79CBB05A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834DF2-4659-46E0-9639-90D825CA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6629D1-944E-4C9B-8A37-503AD0AF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380DB6-29B9-48B4-A016-EAD1D1EA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4C5E50-A810-44D7-A6DD-4455A140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2BECB0-6FAB-451B-8831-7D6C1B48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10062D-56D8-4FB7-9FE1-084877D7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CB1901-FE63-4E08-94C3-5DB16E46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3911A9-0EFD-4F62-85C4-62BA4AB3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175A24-228D-47FB-BE46-7C723F72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0335F0-5E79-41EB-B48D-284B709D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EA80-95AB-4D08-A0EC-2CD6A8F7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FBB87B-4C16-4790-A87E-3F3C3262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5A2184-4F0E-40A4-A840-12709751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3DF2F2-838A-4358-93F6-02AE7234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D5BA27-D914-46DA-B026-18CD4DEB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63386E-98E5-47A4-A51C-BB788D6D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A6F565-9C8B-4096-ABA8-E94031D0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D1D93F-BDCD-4667-8130-AB63FDE5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373297-3408-4E81-9B35-AB1CA285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91E4BE-B9AB-446F-83F4-12876E5E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0973A2-26E8-45FC-BEEE-9A6296E0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5561-F88A-419C-8083-299ED94E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DA5CF4-1570-4147-A563-9EE343AA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953F49-716B-47AE-8786-D024EC6C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A42E6D-0160-46BB-9126-AA4985A5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52ED73-0FA0-4873-A544-BDB9B904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1E61F0-6A39-4446-B190-A91BB52E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6FAA4C-B1E6-45C3-97EA-A7258316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E7E37C-2480-4A4A-8935-710E2EF2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7EA642-C922-4143-97C3-8A1714EC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48CDB0-16D8-45C4-A4FE-4504EF73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208A2E-0BF9-49B5-ABFA-39AAF633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6BF4-9528-4814-B622-0FAB3C36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5FBBFE-8D74-41D8-A4C5-1FECC74A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35AC2A-7A96-4E73-9737-8393124B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D8EF76-1009-4FD7-86D3-14A967B5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6798AE-C4A9-4D10-8D23-2FD5F765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5B6CAE-A224-43BD-9810-3DFDD139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FFBA36-D1DA-403F-8237-40D2D03F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297F3D-D49E-40D3-86E4-4745DDD5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CC0A6D-EEA1-490C-8A5C-BA87504C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687A7C-5BC5-469A-9BE4-7E9D0F81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23D4EE-1BA3-42C4-8BA9-BD15C56F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C4113-0621-42D5-91D2-62B483EA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53D0C9-132A-400C-A656-BBB6350E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10DA63-C2CB-4F94-A768-8441A953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8D8C3E-42B8-42F2-8ECC-DB032BC7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5790BC-CAD2-4725-8CEA-7B68FF82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9DFB9B-3499-4F05-AA93-BE17C005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5DBB09-8610-449A-A56F-611422A1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736802-7BE6-4EE6-8460-19DEE802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AEFF50-BFE0-482C-851E-2DA7DE68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429914-EF07-402A-9FB5-CC3405A9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1B0899-244F-466B-B63E-1EC68991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1D2AB-59FD-4AB7-86FD-5FDF5EC5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A0E400-A8A9-4F6C-8ED6-719A672E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A1B42C-14F4-42B9-BC52-063B306D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06D75C-F8B6-481E-A509-D5D5904D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955925-584B-4B4E-A01B-DFD34056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FF746D-9E38-491E-B7C9-B7286B0E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62188C-B4BF-4115-9168-F043F80F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6A3D7F-4830-45C7-B3BA-7AE280E1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0DE224-152F-4562-BFF9-C1AA169F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5B559F-2003-4F47-9848-74E07EFF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355080-7B1B-4BBB-8F70-10EC97E7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51A02-9EDF-4C19-9DA3-23ED0B10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7937FA-8EE4-44DF-94E3-6740BB68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EDDCDB-5370-4245-8D1D-A18B4AAC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599159-C4F8-490B-B02C-5A45CA6A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CFF6DF-90D6-465D-9E9A-D6B6CE74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686844-9126-421B-AFE7-79DCD632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B36514-2C7D-4E1D-98B3-9DAC1106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E5338F-1520-4C39-9773-35896070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62611-D394-4A1A-8EB6-0F10D193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48EAB-EEED-4CE9-88CA-CF0A0DA6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4AFD-D4E4-4334-A570-34AC00D3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2A40A-2537-462E-A579-929E723C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D50D4-630D-4896-BEE5-D5E08DB1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9D9D2-309C-4F50-AB16-BFF1921E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E4A96-8E7A-48C3-9EE5-DE912A7B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59F45-ED7E-4DC1-AB43-50FA5547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185BF-1889-4FF0-BC7C-2C5066D6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A557F-8CB2-407F-A64E-0AA7C9C1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4D0C7-B2A1-4977-9449-69B52B22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36BF2-5515-4424-A8D9-AF040B6B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2CCB3-38BE-433E-8D6B-E059F0DD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050E-FD47-4A6C-A13D-126CB8DB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EAE81-A0A1-4542-8B8D-B8BAAEA5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7EE5D-C7C6-417E-B358-13C037F0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535BA-FE7D-421C-A00D-433E4DCE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511F3-7FAD-4E52-A894-7363F772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0DCB0-1E51-4439-B877-89C57433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EAD6D-CB43-4D55-A3B8-41F315DC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B9ACA-BC57-4E5D-92CF-D57A3C22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E4B27-A4E4-4433-8123-D3F914DB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FF63D-CA1B-486B-B750-752E913B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E8DC3-0CF2-4EA2-97FD-0EB52EA9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D23-572F-4CAB-A1AD-5E7DBA4C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40014-2102-4A69-88F2-6FF7040E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362FA-B09E-416A-9A05-07847790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61BF4-54DF-40C5-BDF0-87138046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B1C41-B1D3-4217-9F74-A822A046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E494C-327F-44FD-86A1-327D7DB3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09BE4-26B5-43A8-A2D6-3E07B944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3B171-05CD-4E52-BCBC-6C4EF238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8AD09-6377-4A84-9214-B9B09BF6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15E35-BFAC-4FBD-9D75-203641CB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5D371-BE86-4961-B635-F62915E1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D21-08D3-40FE-8C67-DC6DDA18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D54DD-8313-48E6-B53C-A9620812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79CA5-95A4-47BE-805E-25C3666F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ED6AD-098A-46C7-8F4C-404DE756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86CCB-3837-4CE2-989B-6033C2B1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D96AE-6CF1-49DC-B0E9-8EA46667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ED628-110D-4BBD-B93F-E05F603C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7CEF1-72B7-45B2-8045-BBBE20B1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02238-0B92-4B1D-A1BE-A348CAE3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E1F0A-9BC0-40C7-922E-C7734644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8A3C4-F96E-447D-B2B9-A1512B9F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EB60-FC80-44FA-A2DC-AE78D2CA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5481B-B4D4-4D90-94D8-4C611D64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2BA17-217D-462B-B351-CF1FDDB5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CDBC6-5A05-48B2-BD18-36CFF6F4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A8CAF-A8F9-40F8-932F-1081938B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A00E5-E152-4CE5-83A9-24520A9E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0A5A1-8AC0-4863-A6B2-0E4E3031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6C92C-EF23-41E4-99B1-DA915F03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6F7C1-B431-4C07-AE6F-DC49D87F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9D9C2-C54E-4E18-B8C8-6603CAAC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FF18D-DFC3-42BC-B750-88C5ECF8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63EE-63D2-493B-BC44-97E575E6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D5CBD-3E72-4255-8B86-E024D255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74578-EB04-4E22-B36B-F8470A23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B38E6-F2ED-4C32-8C3B-F08B35FE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04CBD-F0A3-4453-99DA-4CA2F27B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1E7CB-BCC2-4847-8A74-62396051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649BB-44A5-4623-8A42-E4A3BD2C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16A55-9B8F-42B4-80ED-80BC07F3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C4E20-C85B-4380-80F0-250C23F6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42A51-D2D7-41FC-8176-558D05D7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EDB49-686F-424C-862E-768CE683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E1F-3278-4C87-956F-B58F0FE4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9AF51-B7DA-4068-9AF3-D93F4253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41ABA-DB80-4E15-AEA1-09E554AF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882A2-DFBB-4F42-AF9D-D9D803C7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4A0F7-77F2-40BA-ACA3-D9321B71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7D284-FF8A-4711-9020-BB37A91C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C32AF-49E9-4E78-BE15-A602C43F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F55EF-52ED-416A-BAA9-C56EFD5F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C34C5-2681-4510-A910-859A31FC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A13BD-C068-4D1F-89BD-71E28C9A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240C1-A39B-41DF-A86B-5B6F6564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A79D-1E27-4E1D-B72D-7B56AB6F9D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3FBE-7959-4FA4-A9E6-3270C0C4A1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932B-5AB4-4143-A7A9-91B089BA1D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7255-B7BB-4C68-A470-C6117A44E5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080B-25A3-4E5F-81D8-ED1F342F13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D918-6FA0-40E8-9602-8B2B7EB517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BB81-3C56-4A52-854D-783A98D4AB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CC98-AC87-4780-B24B-94DB472AD0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C0C7-C77B-4794-91C6-D407C8A581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66B5-E266-4D49-8455-E31E38D1A2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1533-3501-408F-A23E-67E20761B9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2A69-7E86-4323-A48C-0957477CFA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B812-E7B4-4569-A625-67B8F2A70B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9864-FB6C-4AFB-B30D-390BADF125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098B-8684-4138-9591-0EDB4D1176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3B6D-39BE-4421-B7A0-19087FA52B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3D1A-BFBE-44BD-96C5-2BE5B14752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7BD2-D96E-4A42-9D44-4CDBC36532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1F9F-23C2-49D2-B696-06B0F71EEB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C491-E870-4D5A-933A-5C8438C694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6907-8943-470D-ACBF-0266C719BA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9C87-6927-418E-ADA4-ED477DF5044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762D-E760-4842-9171-252AC85446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9ADF-E615-463B-8AF4-10FE7E4977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F911-A2DC-4A1E-8D7C-D3BDEDC35D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01FC-06C2-40B1-8CE9-D41F120966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3CC2-772D-42DB-8E08-BD069B3ABD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273D-738A-4151-A823-A62DDB89D8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9435-F220-4114-A841-83999B05F8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6346-03B9-4195-A5D6-82815556D3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ACE6-B551-44B5-83F2-1786AB2EB0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6721-0F38-446B-AB7A-2EBB9473E3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C8AD-89BC-4355-9FB9-A5531AE747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4575-C987-4059-BEBE-C38C54652A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2E08-7455-4BFE-9945-F8244AC591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C21F-A7FA-4AB6-A177-76198EFAC4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3D70-6F73-4448-A24D-7E2E63C9D9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E971-5B01-4E6D-B790-B61C7979DA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F53F-DD35-4B0F-AE4D-360FADB6E3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6519-69B4-4FF4-9EBE-5844B63FA3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1C34-F18A-4D11-8C8B-5EC7E513D1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69BE-D53D-44F4-B2F5-6B6B1FA425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863640" y="1158840"/>
            <a:ext cx="7715160" cy="1647720"/>
          </a:xfrm>
          <a:prstGeom prst="rect">
            <a:avLst/>
          </a:prstGeom>
          <a:ln w="0">
            <a:noFill/>
          </a:ln>
        </p:spPr>
      </p:pic>
      <p:pic>
        <p:nvPicPr>
          <p:cNvPr id="1006" name="图片 2" descr=""/>
          <p:cNvPicPr/>
          <p:nvPr/>
        </p:nvPicPr>
        <p:blipFill>
          <a:blip r:embed="rId2"/>
          <a:stretch/>
        </p:blipFill>
        <p:spPr>
          <a:xfrm>
            <a:off x="649440" y="3370320"/>
            <a:ext cx="81453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66680" y="1467000"/>
            <a:ext cx="8812080" cy="190152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2" descr=""/>
          <p:cNvPicPr/>
          <p:nvPr/>
        </p:nvPicPr>
        <p:blipFill>
          <a:blip r:embed="rId2"/>
          <a:stretch/>
        </p:blipFill>
        <p:spPr>
          <a:xfrm>
            <a:off x="1311120" y="3755880"/>
            <a:ext cx="6962760" cy="23432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2700360" y="191628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3059280" y="2449440"/>
            <a:ext cx="86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5724360" y="198900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5637240" y="249228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7"/>
          <a:stretch/>
        </p:blipFill>
        <p:spPr>
          <a:xfrm>
            <a:off x="8323200" y="1916280"/>
            <a:ext cx="641520" cy="447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8"/>
          <a:stretch/>
        </p:blipFill>
        <p:spPr>
          <a:xfrm>
            <a:off x="8502480" y="2492280"/>
            <a:ext cx="64152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9"/>
          <a:stretch/>
        </p:blipFill>
        <p:spPr>
          <a:xfrm>
            <a:off x="3348000" y="4365720"/>
            <a:ext cx="64152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0"/>
          <a:stretch/>
        </p:blipFill>
        <p:spPr>
          <a:xfrm>
            <a:off x="3492360" y="5013360"/>
            <a:ext cx="64152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11"/>
          <a:stretch/>
        </p:blipFill>
        <p:spPr>
          <a:xfrm>
            <a:off x="6084720" y="4365720"/>
            <a:ext cx="64152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12"/>
          <a:stretch/>
        </p:blipFill>
        <p:spPr>
          <a:xfrm>
            <a:off x="6588000" y="5013360"/>
            <a:ext cx="100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176040" y="1085760"/>
            <a:ext cx="87919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590400" y="971640"/>
            <a:ext cx="7963200" cy="53719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2"/>
          <a:stretch/>
        </p:blipFill>
        <p:spPr>
          <a:xfrm>
            <a:off x="7020000" y="1197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4"/>
          <a:stretch/>
        </p:blipFill>
        <p:spPr>
          <a:xfrm>
            <a:off x="2916360" y="2924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5"/>
          <a:stretch/>
        </p:blipFill>
        <p:spPr>
          <a:xfrm>
            <a:off x="4140360" y="3860640"/>
            <a:ext cx="86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6"/>
          <a:stretch/>
        </p:blipFill>
        <p:spPr>
          <a:xfrm>
            <a:off x="2268360" y="4724280"/>
            <a:ext cx="129564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7"/>
          <a:stretch/>
        </p:blipFill>
        <p:spPr>
          <a:xfrm>
            <a:off x="3564000" y="5157720"/>
            <a:ext cx="129528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8"/>
          <a:stretch/>
        </p:blipFill>
        <p:spPr>
          <a:xfrm>
            <a:off x="3851280" y="560376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2" descr=""/>
          <p:cNvPicPr/>
          <p:nvPr/>
        </p:nvPicPr>
        <p:blipFill>
          <a:blip r:embed="rId1"/>
          <a:stretch/>
        </p:blipFill>
        <p:spPr>
          <a:xfrm>
            <a:off x="947880" y="1581120"/>
            <a:ext cx="7248240" cy="36957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4211640" y="3616200"/>
            <a:ext cx="381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757080" y="731880"/>
            <a:ext cx="7629840" cy="601020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3419640" y="2205000"/>
            <a:ext cx="388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4572000" y="5373720"/>
            <a:ext cx="3889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204840" y="1400040"/>
            <a:ext cx="8734320" cy="40579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3419640" y="472428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4788000" y="472428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6012000" y="472428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5"/>
          <a:stretch/>
        </p:blipFill>
        <p:spPr>
          <a:xfrm>
            <a:off x="7496280" y="4724280"/>
            <a:ext cx="93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128520" y="849240"/>
            <a:ext cx="8886960" cy="5705640"/>
          </a:xfrm>
          <a:prstGeom prst="rect">
            <a:avLst/>
          </a:prstGeom>
          <a:ln w="0">
            <a:noFill/>
          </a:ln>
        </p:spPr>
      </p:pic>
      <p:pic>
        <p:nvPicPr>
          <p:cNvPr id="1027" name="图片 11266" descr=""/>
          <p:cNvPicPr/>
          <p:nvPr/>
        </p:nvPicPr>
        <p:blipFill>
          <a:blip r:embed="rId2"/>
          <a:stretch/>
        </p:blipFill>
        <p:spPr>
          <a:xfrm>
            <a:off x="965160" y="2133720"/>
            <a:ext cx="7639200" cy="199044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1268" descr=""/>
          <p:cNvPicPr/>
          <p:nvPr/>
        </p:nvPicPr>
        <p:blipFill>
          <a:blip r:embed="rId3"/>
          <a:stretch/>
        </p:blipFill>
        <p:spPr>
          <a:xfrm>
            <a:off x="874800" y="4348080"/>
            <a:ext cx="780084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166680" y="1747800"/>
            <a:ext cx="8810640" cy="33624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900000" y="3774960"/>
            <a:ext cx="604836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604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204840" y="725400"/>
            <a:ext cx="8734320" cy="59342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900000" y="5068800"/>
            <a:ext cx="619308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900000" y="5618160"/>
            <a:ext cx="61930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900000" y="6194520"/>
            <a:ext cx="6193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22:4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