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937-E3AF-40AC-9D0D-2F218DB8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3D5-C998-47E6-937E-8C0BDC9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D4FC-970A-4996-997D-C3946C43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28E08-874E-4EA4-9E34-42C4D54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AA97-5521-490E-A236-B9C923D9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821C-DCCC-414B-B6D5-42334F2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624E-8B88-4EE8-871E-E0F6E60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C6AAB-9DAF-49DA-8DAC-18477F6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939C4-E517-495C-ABF3-DE3421D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74EA4-132D-474D-A59E-8CB5D16E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6E71-C37A-4B04-92F8-DF716C8C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752D4-36FB-4D01-964E-CA0DF383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F63-C921-4BCC-908A-75696EE3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C541D-EC95-4DBA-B771-ADA9CCE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68878-A4D4-448D-BF40-72FB803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3CCAF-DBFB-4271-A734-5F8300A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A1C94-A4FF-4B0C-A214-7D415003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804FA-F966-41A4-AE03-CB659DE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4048A-BB49-4033-81BE-4D35D83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14E7-3A02-43F6-ADA2-261FBDD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7BC0C-F9A1-4E38-9074-03964E5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EE933-71D6-46A9-AB64-3A1243B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19083-7296-4D9C-B29F-CC5F24BC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98D-A711-4EE3-809F-9690848E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7D993-4C45-4FBD-B5BF-E63E77F8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53AC-E4CD-4D48-8120-7312CB62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4492-0D3D-435E-953D-80C7F403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60D78-E31E-41FB-95A8-6DB996C7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8947E-9D1A-4BB3-AB32-96E70B37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E2AA-6FB2-41CA-AB80-B7AA2A25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6725B-54A4-4195-92AF-37E451B6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EA213-009E-4F49-AF7C-5259149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6A874-21C4-4C24-8DC9-DF99B30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8C4D-D33A-44EF-941E-6A7C6FE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DDE-1FE3-4777-B896-0200B8C5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AF36F-6B8A-4DA7-9689-3151716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B77BB-4C07-4011-85EE-AFB2E7E7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556BD-B6B7-4A52-91D4-8AB92180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1005F-D9ED-4A97-99A0-67C987F2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82275-49FB-432D-B6AB-8F7AC56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99F19-E5FD-4E33-A8AB-7CC29BBC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98AB5-CD88-44A5-8708-770C373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5AD2F-0342-41C0-9B34-B3000FA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C64FC-D8DE-4833-8608-51D329A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4AE0B-514D-4828-AC65-86222D6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A5A-06A1-4278-8F59-1723D56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3B65C-C52A-4C28-9301-1C1E61B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EBF4C-990C-4ACE-BA20-8A54C81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CBF97-FE53-4E62-8DEC-E0950F28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267D4-75F7-4253-AFFB-0F428206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69A1F-4E5D-4C85-A8CD-E8C7E22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29FE3-2AB4-42E3-B6B4-9A21D9AA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CBA58-074E-49BF-B0BA-4CD5793A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F9F31-1456-4412-926A-F82840D1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84C02-44A2-423F-A2E5-EE0B85D8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0EC08-0E8E-464A-B52F-9891A16D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A01A-3054-4B9E-B349-49CA0CC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4FB22-DE1C-424B-83CC-1CB57647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63359-8D96-4717-83DB-8A302AD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33E73-D373-4B0B-845A-F0FBE11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BD873-531D-4093-831B-F916D92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2BF88-CD31-4063-A4BF-8FC34FB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1F138-02D3-4232-97D2-4C24F9A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D18B7-5921-4A10-8B0E-28497755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031CB-1C6B-4C93-9046-2D4D86B4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08617-AC10-405A-A9BD-32FA042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2B273-0DE0-4C45-A483-7F7182F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7214-7E45-499A-AE1D-DABC04E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B3810-18D4-4DCF-A06D-4132C494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A994D-E63C-425A-A04D-B534E005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1FD9D-3B79-4487-8AFE-227FDFBD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12AEA-6EE3-486E-90A0-20CAE6C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79A91-3D54-4941-BF4B-0C6C4AD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0ACA1-9270-4EFE-ADCC-38C20A4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9E210-2D5E-45F5-AF6D-14A3178C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1B236-304F-4E6C-AF02-0B52652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9C7B9-4115-4DCA-98FE-EA070F77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5254F-A469-4981-B6D5-512F4BD2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831C-D1E6-450F-9E20-357C0D7F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65515-FE31-4C0F-9C7F-A0E6AAD4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0A3FD-B71B-4CD5-ABB7-942D1C0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93ECC-0834-4FB7-9A73-3FE4339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80E09-B9C0-4C16-80C5-A4F97B5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2576B-6E56-40FD-9DBD-7ED3D7C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AEAF8-2E9C-4F36-80B2-88E45D7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2B7A6-8EED-44A0-9C55-43A6D16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E424D-F527-4BF7-A600-C5A1C65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759FA-0B91-4036-B762-35BCA65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ACFB3-AD53-45F7-9B02-1E5B4B0E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A44-359F-47E0-B065-3FB63007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162A4-8F22-4DAE-9BFB-A8750412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E2ACE-FCFE-4BCE-98C1-346C1F08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D2EB6-541B-41A9-B2CE-47111E1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14E45-9E83-4F59-977A-F452390C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BE8B3-B30E-45A2-9291-5B603D04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39353-912E-49E8-983B-D150776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4629A-C9F8-4DA3-B5B9-229B4C48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F6546-0453-4522-B35D-988C837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BE1A3-CB40-41D4-8AE4-009B4F2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DE828-BCF1-4002-AA1B-E8998A6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4B1E-2595-4ECD-9CB8-2D0C84B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10E82-5809-4F6D-82F5-7C738036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AC447-ECD7-41B4-8E1F-4DF424B4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5ACF8-D6E9-43A1-BA93-E59DFBEF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044F9-4F65-4733-9E8C-2BB53ADF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82F7B-9AAE-453D-BFF0-1D2594D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6AA4B-8E9E-427D-B85B-5960DD0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1856E-BE9D-4EAE-ACD7-B17F290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7EC04-0656-4723-9B4F-70DFA5B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58DE1-08FB-4159-A52B-BD178D1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6904E-C2BE-4259-81D6-8AD1689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936-32A5-4FCB-B0B7-5DDF4A4D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808-4285-41EE-806D-503C049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0EA43-C123-4283-954D-17BC385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406B5-BA4A-4ED5-9146-3FB6B91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76021-A492-4CEB-A972-A4CCD58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864A9-09F6-4D2D-969C-828A89F2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11A36-9148-47A9-845A-32AC793D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A0FDA-396B-4AC9-B561-0DD61FB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CD2FB-F642-485C-8E52-93230263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F05FE-B691-47D1-B6F6-676BABB3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24C7B-4A60-44A2-9A1D-3E42BF5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C1CF4-7310-4482-BF7A-D454A6EA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F8D0-1430-4A96-BE65-79F5278D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2238B-CC09-4FE1-A745-E89FF3A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A7015-65F9-4F9E-9CD3-25329F9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9C8A2-97FE-44ED-AFCA-071681DB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127A5-E1C1-40C9-8698-2A7F129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32657-25CA-4A40-8840-74F58A9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3C967-2797-4F08-8BDA-2F5AD40E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AB669-5BAC-47A2-A1E0-C5648D8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95406-AB19-4C81-BB19-B437310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C8308-44F9-412E-B2D5-A6ACC93B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642CE-EF43-45A7-9416-0A69413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AA2A-ABC0-4925-9083-1E981D46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5E6C4-A066-4B61-8187-22C6C4B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6C5AE-E143-4390-BA39-5730DB79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CDB36-0E63-4264-99DB-18D166A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6CB9D-415E-4E32-86A4-95C1E79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261B9-EF13-46A8-B09A-E9DC060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832E9-9A8D-4114-9572-ED77E3A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33F94-BF24-4DCA-A081-9D58B74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7E70E-FF4D-49CE-BAD0-021FE7EB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A633C-B734-49E5-A6C4-780CADAA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1A864B-A803-4F0D-9953-8FA78A4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8B63-86AE-4AFF-AD02-53B372FB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C9C1E-19A4-4316-8F42-53F81648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3B7A1-08BD-4DA8-A35F-EAEAB681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941D6-6ECF-472E-801A-F06506FD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0295A-E58C-45E8-9DEE-3D47EC9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594F6-0855-48FC-AF3D-885C30DC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415DB-4F78-4CA1-A458-6679ED1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940F60-1362-47EF-AB4F-61F0407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8DE8B-79D2-46E3-8B44-AA43F0F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398AF-14D1-45AE-BBD7-919BFCF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B0809-EB94-44F5-8305-68973698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C52-B671-4CCB-9027-07E7134E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0C6A5-184C-4220-B3B5-660B36A9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C79B9-B8B0-4239-9836-FB489E72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0C13C-C138-4F2B-8063-DF23484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E10F58-AE2A-4429-BB87-A3217E0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B3843-65AE-4199-B772-E57EBD5E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F507F-F314-4114-94E7-9CF0517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95901-E478-4122-B291-FCFB67C2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7FD84-A5F8-4446-B91A-4646B24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43885-595F-452B-956E-ED33AB6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A7297-3A9B-44DD-83E2-4F3AA87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8428-F5CD-4D1D-8DA4-35F12F50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DF405-0E55-449E-B574-9FEA92F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A1344-3735-42CF-B46D-686E80CC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CB0F0-E5B9-43C1-86A2-A1753155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B825-19A1-432A-A379-D521BC15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2351-42A7-4D11-BEFB-935B2A60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CF88-9622-4294-A22C-55C2A2BB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17F7-FF2D-4D88-B6BC-A4B747D7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99A-EF19-4EF4-8028-ED850AF1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E3AF-D89D-4057-A14E-495F125D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B2FE-181D-4AD0-8054-7E3C90B7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5D98-F946-4E28-894E-41AFD61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09D6-8D28-463D-99E6-BB62F50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D629-04AE-4355-810B-710D5AA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DD80-AB61-4FD4-A83F-0F0051D1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BE03-7D0D-4DAE-97E2-EA60728A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A860-A0B9-48D9-8AAF-04A306FE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00C0-8E4A-4650-AB3E-62FE6B88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6499-15E2-441F-81E5-0A8E5D4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A8A-2204-4067-8E59-6247C9E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2C3D-053D-461F-BA6E-1A0D4BFE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C57C-2373-4C45-BC94-7C36A64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86C0-3F37-4DD6-AFFC-5E2595C8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132A-1BB0-44B5-A503-C962F0A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A299-09B1-4C4D-9AF0-58C4581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2CC61-C0F6-4104-93E8-E8BD6EB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59C0-28CB-4782-97D7-B193FBC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D31E-6E7E-4CAE-B177-513835FF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7560-F4B0-4F6B-9CB7-634D4BA4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F0C4-FDAB-4FE1-B1A3-1EB2B1B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33-719C-412E-9CD9-657EF8F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35A8A-29B8-42D9-BCA3-59A9399C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5298-BFDD-44C6-88EB-2FB829A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D735-8867-4534-B7C3-6D213DE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7E60-E6D1-4EE5-B4F0-B1DA05C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6D02B-DA3A-4453-9584-756844A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B98E-09FC-4C11-88A7-D9174AB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9942-D04B-44F8-BB72-2397587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18EE3-2E2E-4A0F-B17C-E4C5FD2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7B7E-E354-4823-9C20-89DF7B5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095F-BED8-4ECA-B70F-68F35D21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8EA-FDF2-4A63-AF11-FEBD5C80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8699-51E3-4DB0-A274-ECCBEE5F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C086-A64A-4FC8-A665-74B1A3BF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15A6-0144-4E26-AF3A-8FD826F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C12B-4292-4280-BCCD-14CC40B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7B43-D59F-40AF-ACF0-A74FF0B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5E8A-6A36-48A7-944E-02B0471C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BB39-41A3-4769-A3EF-0BA8F6EC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9F82-CF11-411B-9801-33BF26A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24B3-97C3-42FB-93EE-69DCBF2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8E0F-0E4B-4205-8E32-A2D387D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8C3-7780-4795-9CAA-E74101B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6982-33DC-46AF-A8F5-7685B210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C233-FA2F-4AB6-9C11-8EC5F773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462F1-C5A3-4D21-8B4A-E2FB784C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AF36-4215-4AA1-9E72-A227FA46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EDDA-A227-4545-A985-D396AF64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CBC3C-D2CA-4DBA-980F-03BF44E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CD4B-DEB5-46B1-B67B-5FA10EDE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E7596-9590-4E6D-A787-45ABEE3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D8119-A0EC-4586-AE88-364B83BE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3B36-524B-4536-B1C6-634C864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4DC-E217-4AF3-BCB9-B27B1C6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AAD1-E6E9-42FE-B35B-0C30345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87A3-2D67-4C11-8F51-880A73D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C8B8-6533-458D-90E9-593F2B0A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818ED-3E3C-439F-B92B-EEF7B0CD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EB27-7662-472B-BE77-06F95606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3E71B-317B-4E6E-A590-A126B25C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1C36-AC50-4310-9D3D-D4E81F58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77EA6-2B88-4084-8050-CAC61EA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9E6B-D9F9-4EB7-AC70-FF17C4FD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1188-D03C-479D-9522-E5C6681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92B-B0B5-4715-A53D-A346A05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78F6-311E-4DD3-8399-6B171E2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554B-A183-4236-96BA-8321937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89ED-3F63-43AF-9FB8-4C49305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A1B65-EEAD-4B60-989F-81F2234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05CB0-7E29-4AE5-B296-DD121A76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CA477-399E-4029-968D-3393A4D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38B6B-43C0-46E8-9D42-C2F30B4C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82190-E196-4EAF-AAB1-E48B06B5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6A65D-EF9F-4CA1-839E-3FA4901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88EEE-21BA-4280-B1F8-8E66CD50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BD36-6439-498C-A294-421579F3CF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912-2679-4B7E-B541-337692016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0BCE-9B09-41FE-9060-A0DC57700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177-8FB2-4248-9A80-BF17056E5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749C-EB68-4007-ADD2-05D698BB6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845-B9DA-4418-A342-182955588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8FA-94C7-4FC0-AD0E-075798ACD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8BF-1CD3-4ED8-816E-11E1AD6C9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064-894B-4B65-B2A6-C418F8D07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824-FCFA-4ED5-B1A4-F4CC79428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57A9-71EC-418F-A58C-39308B7D9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324-51D9-474C-A5BA-1F00F86B4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ACC-FFBF-48C5-9277-629012FBC2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7A9-EA36-4E01-9A49-E2A4E2DA9F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00EB-720B-48B6-BE33-84EB6A9F8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C58-98A7-44F9-A74E-EF872090D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72E-4692-473D-9C26-A317F90FD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2FA-0266-45CA-82C9-2CDA9EB30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047-74F7-4257-A58A-D38F8BD6B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D32-26C0-4642-BABA-87ED8C63E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040E-E58D-4195-A34F-346C62159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3AFC-3F2E-4DFF-BAE1-73EA16145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A8CA-B272-418F-8505-B9FD1661A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41F2-B4B7-4ED6-8BE7-FFA5ABBB4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EF5-BDCB-491C-B402-DE78E2C3D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6F0B-1901-43D0-B656-AC8A854AE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D14-2110-4694-AF89-1EE4B0A9E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671-35C5-4AC3-8FC9-063568AFD3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5F5E-161C-44DE-B384-86DE89854A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0486-A201-44EA-95A7-10B23BCD3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8738-C287-4ADD-AB3D-A896C2734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305-2918-4C90-B36B-3097F6A63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6AC2-6215-4549-8AAA-EFED791CC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074-1FE0-4F5E-972B-DAA448D87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060-56EA-4011-841F-8524214B1E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165-2C86-4F1C-BD88-8041129FB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14E2-5807-4F92-8066-A48604943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7409-9D8C-45BF-A41E-4E54268AD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2E13-8502-48B0-8C43-5D2708449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78D-2C9F-499F-8C38-116C20481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4360" cy="132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819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47640" y="853920"/>
            <a:ext cx="784872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563400"/>
            <a:ext cx="7896240" cy="610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7236000" y="62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1476360" y="1211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796000" y="1197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4859280" y="180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307280" y="1873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1476360" y="2435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796000" y="2449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85928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7307280" y="31114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1476360" y="36734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3"/>
          <a:stretch/>
        </p:blipFill>
        <p:spPr>
          <a:xfrm>
            <a:off x="5651640" y="37306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4"/>
          <a:stretch/>
        </p:blipFill>
        <p:spPr>
          <a:xfrm>
            <a:off x="4788000" y="4336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5"/>
          <a:stretch/>
        </p:blipFill>
        <p:spPr>
          <a:xfrm>
            <a:off x="7236000" y="4408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6"/>
          <a:stretch/>
        </p:blipFill>
        <p:spPr>
          <a:xfrm>
            <a:off x="1405080" y="497052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7"/>
          <a:stretch/>
        </p:blipFill>
        <p:spPr>
          <a:xfrm>
            <a:off x="5724360" y="4984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8"/>
          <a:stretch/>
        </p:blipFill>
        <p:spPr>
          <a:xfrm>
            <a:off x="4427640" y="55897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9"/>
          <a:stretch/>
        </p:blipFill>
        <p:spPr>
          <a:xfrm>
            <a:off x="2050920" y="62373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500040" y="552600"/>
            <a:ext cx="81439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633240" y="271440"/>
            <a:ext cx="7877520" cy="6315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92436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451640" y="1052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643280" y="1773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37800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86728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74232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454356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4859280" y="39625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7164360" y="3933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176364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651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4716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7164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1835280" y="6165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6443640" y="6165720"/>
            <a:ext cx="72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6325" descr=""/>
          <p:cNvPicPr/>
          <p:nvPr/>
        </p:nvPicPr>
        <p:blipFill>
          <a:blip r:embed="rId1"/>
          <a:stretch/>
        </p:blipFill>
        <p:spPr>
          <a:xfrm>
            <a:off x="309600" y="923760"/>
            <a:ext cx="85248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5300" descr=""/>
          <p:cNvPicPr/>
          <p:nvPr/>
        </p:nvPicPr>
        <p:blipFill>
          <a:blip r:embed="rId1"/>
          <a:stretch/>
        </p:blipFill>
        <p:spPr>
          <a:xfrm>
            <a:off x="557280" y="857160"/>
            <a:ext cx="8029440" cy="566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38036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176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44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14836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7308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154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622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14836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730872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1547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3"/>
          <a:stretch/>
        </p:blipFill>
        <p:spPr>
          <a:xfrm>
            <a:off x="6443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4"/>
          <a:stretch/>
        </p:blipFill>
        <p:spPr>
          <a:xfrm>
            <a:off x="516420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5"/>
          <a:stretch/>
        </p:blipFill>
        <p:spPr>
          <a:xfrm>
            <a:off x="732456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6"/>
          <a:stretch/>
        </p:blipFill>
        <p:spPr>
          <a:xfrm>
            <a:off x="1563840" y="59785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7"/>
          <a:stretch/>
        </p:blipFill>
        <p:spPr>
          <a:xfrm>
            <a:off x="6156360" y="59785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54276" descr=""/>
          <p:cNvPicPr/>
          <p:nvPr/>
        </p:nvPicPr>
        <p:blipFill>
          <a:blip r:embed="rId1"/>
          <a:stretch/>
        </p:blipFill>
        <p:spPr>
          <a:xfrm>
            <a:off x="390600" y="3579840"/>
            <a:ext cx="8362800" cy="200988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5427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715080" cy="2000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284720" y="138420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4284720" y="23050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7294680" y="137016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624800" y="23353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83528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1979640" y="47242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493236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5148360" y="46674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101080" y="37609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101080" y="469584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2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