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5D35-EF5F-4756-9571-880AF9A5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09A3-2B4C-4FC3-BA5B-6D1AC5C4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C948A-8FCC-43B1-A2B2-0C3A5FAC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17E07-B30A-453D-9058-F935CC72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A8D96-8169-4ADC-BCD3-63CDEB8A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EC1BF-1D02-43D3-83F1-5F2240E3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EC6CA-FEC6-4E19-9143-4572C131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AC859-486D-46A4-94E3-800EEC52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CD8AC-9B94-44E7-B8F5-542B70B9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BD867-E174-46D3-BF48-8EC89A31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42F8F-FADB-47F3-AE96-A6B30F2E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2A23F-5B7A-46A9-A6DB-3454B7C8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56BF-EB76-48AE-921A-F69495F0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B0FC4-D88A-4325-8559-BD111CBF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23118-6B02-41E1-81E6-44F16F01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4CEB2-A1A4-43C6-8CA0-B23A9986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494DC-AE68-4318-8E92-CA3A831D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410B8-BC8D-4723-93EB-2BE635CB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4DA79-6931-43A3-A62A-7F79AED0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694C6-44BF-4B9A-B829-76A0E722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138CC-934E-48C2-A4D0-28C7BD4E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7C056-63E8-4AF7-A644-9AFF0C56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A7295-E753-4E18-902D-D6DAA995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0C62-A401-452E-83E2-4BF5A628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C993C-B015-4B4C-8BEF-F600C7BC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A5CCA-925A-4B67-841C-ECE72B6C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22552-4731-4BC0-8DA3-C53B5B75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0CECE-9C71-4FE0-BBAE-5037EF38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D4187-E037-475B-BAD8-5AEB6888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6B029-799B-4C28-9132-945DA14D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C4DA2-2386-4531-9DF8-DCB8A18E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25455-5DF5-4C7C-9EB3-9FEA4B1A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FAF03-8AA6-42C6-9918-C6C0D60A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5990C-0C36-40AC-A59F-D8D6B85D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0CEA-57C9-4588-960F-670A543E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15F50-B088-40F2-B728-FF34CA65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C331A-576C-4425-8045-B89A95A0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541F5-DE12-4BA3-BE4A-F1137024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D084B-BC85-45C2-BA19-E530C3A6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B1AE7-4A27-4EF7-96AF-6C7BC216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683F0-518D-4F7C-B205-4BBCC60A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28CE1-32AA-46E9-A5B4-BA50B490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4BDE8-EE03-4916-9584-E77753E7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2BFDF-BDAF-4525-9A4F-959B6DE7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A6601-39B8-4F8F-84BB-F432D144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C8F5-2294-4692-AC83-AFDDA389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AC65C-8EBB-4091-9382-A76A69F4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E2D9F-EC61-4D6E-9012-761F3AB2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9BB75-338F-4F59-BB2B-366985D7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5DB3D-2789-4A07-8487-54779CD2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68CAE-F29B-46FB-9850-C9F0B2DF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F7DFB2-2AF7-478B-9E24-333C59E3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875DD6-FEE9-43EF-9A40-CAA5ED33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CF00F-9866-4E33-A503-4A5A7B30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AB18D5-0A83-4B51-8BFB-1A94201A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3B76A7-F4C6-4AE7-86F9-E6AAB12B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DC09-34D1-4A25-9E20-436CCFFA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18B792-703C-47EA-9C35-E943BEE0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5D68D5-90CB-408A-8BCC-0133CF4F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FA40F8-4672-4444-B005-D9BBE890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29654-ED8E-4CD4-9B23-553AEE99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24F284-30F3-437A-AAE4-9BAA8A05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CA5E7A-3F5B-4301-B61F-DB73D69A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12FFCD-4EBF-4013-8320-F9C83A97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ABFC01-4530-4DDE-804B-296B7C52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CBABA1-0DBF-473F-BE7A-8084A1A8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2BBD29-00AC-42EF-A44B-CB567938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33EB-A44D-4241-AAE7-89FF35EB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EC60D6-E442-479C-96C1-FE6C9764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473F1C-3EBC-43BE-B39E-FE47874F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4650F9-2E12-4C61-AEF3-B1270F2E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6A0B63-A750-4973-9BFC-324B5795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E26525-5A0E-4E2C-A941-1F7E1B1F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B02999-A9FA-4091-825F-64AC0C0F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4FFAF5-17BB-465D-A89F-440799FE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E73176-D967-4EBA-A570-631A2CB7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A6C8CA-B324-41B6-8F42-355743A7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F2B6D2-C5D2-4B83-9CC1-17551F68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0568-A13F-4261-B03D-EE71C85D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6ACEB4-3F9C-465D-AE5D-5562CF0A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E2CFA1-FBB0-4E40-97C1-5A8E5CD3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033EFD-FB51-4DBE-9612-A567F229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10EAF0-7411-492E-8801-BEC8C595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BE6FD-E2AF-4A7D-B55C-5BCEA8BE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1F6988-EFEA-4085-82C7-609B1115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4688FE-452A-4407-BB27-4E9D698A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6E44E3-F27E-4F93-A032-71D9FE0D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BADA10-F3E9-4FFB-A350-588402AD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076118-4627-4A85-96AD-E50108D5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5900-A4B9-403C-A723-CC4F6FBD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5E732E-DB24-42D5-90DE-1352ED00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C03BAF-692C-45E3-9306-DF65B4D4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A79708-453E-4131-A09B-DB1F8DF7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643D32-58B3-4A87-8407-EC9BE224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09FE88-E861-488E-B2F5-4A3F5C94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7A40D0-97F2-4D52-8650-E4BD089F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C948B4-5247-41E0-AA89-1944A743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49F6B8-1832-451C-BDB6-6C50886F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A2C4F2-34B6-41FB-84B4-6E2C85BD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FBE19E-1D93-4D65-9808-C5F2B918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5D30-19E5-4B5E-8368-20BB0CFA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53DB11-E133-4144-904D-0128F0A8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602B7E-5FDF-4DBC-97EF-B21079A5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E3AFB7-0209-4753-A4E7-4ED67C92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28FC6C-ADFB-4B71-B2F3-58F6601A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DD0EE2-EF58-4AAA-AB08-33C5D57A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130CCF-54A3-4FEF-B4CF-C6DF2602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4F6619-F096-4407-9CCB-EF46F566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E8C8B2-B5D0-43E3-9A1C-CA9D1A37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D6F2CA-E0C4-4197-A653-517C65C5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6403B6-6A0B-4188-B51E-68BB2E7C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D66E-E37A-495D-9F18-A37C3B16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D578-655F-4D9F-8282-9F48424A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E6BB4B-3E5A-46AB-97F5-9401A9E4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762D95-1181-4C69-B8A4-4A40C9CB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179109-444C-4B5B-B503-D169799F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923E8E-2B83-44B3-94FC-9779A6EA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92625E-0D7E-4891-BE36-9DE5D0B7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079C63-971F-423B-82B1-C6C52C1F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DD7CA9-66F6-477B-9AF1-42B9663B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411F9B-D09C-4D15-A869-97C463D6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5BF9CA-DEBE-4A86-9377-8F1EFAF0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9B2E45-A4F6-4055-8536-F02AF245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71BE-96DD-49EB-AE5D-646DFE9B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00992E-1A76-4183-BFC2-A43B5A0C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725658-BF3E-4CEA-80F7-03022071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064098-6343-4C11-8B64-592AF783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19EC61-9DD7-4020-BA3E-69996C85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8D4846-7BBB-422A-B589-4DDAF4BA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4FE670-04D8-488F-AE68-D72EDB08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4C9314-884C-48D3-9159-CA5B2F6E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AB8931-0370-4339-995C-F3461BFC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F73190-BF5D-46D0-BE96-F9FE53F0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C30216-386A-4CF1-8B0D-35D350C5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F044-310A-4F01-AE28-E8444890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933878-C35D-4A01-A47B-0DCBA9D1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AF3705-F37C-4E24-8B1A-BC8B55A0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556B72-67A7-49AA-BAAB-B6EE4178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6534AC-7A6A-4D9A-A80A-8BF43DC7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8CC896-0CB3-4173-A81E-B9FC482A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9C475E-EA98-4664-8AC8-8FF0DE94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2C5A1D-53D0-4650-9529-6A3CFC02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D8FB7D-29BA-4B88-A4F5-B37A39C5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8091CA-1BCE-4214-B928-845B53CD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EF3702-AD4B-44CA-A904-79DE75B7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8012-6047-4D68-BD72-1074FC78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78F10C-046C-4B45-84BB-A9043BD3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5C0250-909C-45BE-ABED-6CCDB14B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0ACFBE-C210-4080-BB01-24A98A06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CDC748-4449-4040-8CDC-A5D62DE6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BAEF4B-9704-4521-A994-306CCFB6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5E3C88-538B-4489-921E-9E432366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4E5BDF-475F-4899-AAF9-A234FB84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850860-3D54-4C47-A7E9-1FAAD27E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7D0D85-F9D0-446C-880F-B85A9949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D6C2ED-130E-4B11-9BCE-808C6938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D832-EB49-436E-9710-60CA43AC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E48FC2-ED57-44C7-8CDC-3A9CC4F6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ACAE8E-DD88-4003-BD1E-2FB64365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7F0F54-7378-4704-8E5A-9FEBC017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6B880B-0F6F-4D14-AE64-4F1E12B8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5F8A4F-CB09-40A1-BF72-6DBCD96F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18F213-EEB0-49C6-8666-2C63B833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EB663E-E835-4565-BB8B-0FCE328E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6FCD97-33B2-4DB7-BD37-D4ADD2F8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73E925-FEBB-449D-9126-5B353961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AD9588-00A2-4B9A-9784-70E6DA99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B8BA4-CB9C-4222-932E-596660BD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E7D224-D8C3-46F2-AD3D-218AC591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F48796-7D1B-4DB4-95D3-D20F8527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51B65F-BA2D-4EBB-A563-C9C3A951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221F5-AED8-4E79-9858-DC391AE0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7BF3E-4A34-4172-B815-588F32D2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EA1A6-784B-4172-85E5-8C8EEBBF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F9D43-D3DD-4FD1-9621-8CE08D0D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C07-8B25-4A86-BF30-FB568605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844C8-88B3-4233-9D80-AAB431B7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BD311-3B60-4885-A502-779D8B4E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6F67F-76AF-4AD3-9E8C-EFAA3326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99CEA-3EC1-41BB-BA3B-BAD87D3E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DD258-8F51-43CB-A060-FBD0C523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B2D61-34D0-4BEF-939D-1AD0EDF9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A8C58-CF17-4609-B2AC-06767E62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157DD-8305-4498-8DA6-2FEBF674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D5535-9000-4C05-AFB6-0C443023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B6441-C5EB-446D-A429-DC27E983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CCE8-4544-4779-BC1B-87A6B39C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58C71-2007-4AC0-8023-84DEA133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F9A6A-A517-44A1-B723-B31E802E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D0F0F-F480-4285-B5CF-8525CB25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73959-8416-451D-B084-9D3C5CCB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47C19-133F-4A26-8046-7F9BF813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50A92-9FA9-4BF6-8301-D45EECF8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BB462-ACA6-40B2-B8C3-93259BBE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83175-98AF-45FF-AE01-9F9D249F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ED287-FE03-41A0-A923-DE968037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9948E-12CF-408C-BA1E-33E1996B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74F-948A-412A-86FA-629586BF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8053B-8B59-4232-BBF7-2337871F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C66D8-3486-47CB-855D-63617AEA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7D50C-C24E-4AFC-8B31-C9EBF16B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250AB-4BC3-49F9-BCEB-0850CC95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C5578-8668-4D1A-BA90-A8EB1828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64066-49A4-4B79-9F1A-93F363A6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099B7-EAB4-4779-8A60-8149B6E3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A6619-E17E-4BC0-9E4F-0157DD05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521C6-AD56-4E69-B71C-D69FE30E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C747A-267D-4187-A089-41C5B697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F1B3-5734-44CE-A526-4AA5FED0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C2889-974C-40AA-B8C0-1A3D9B7B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82E6E-6594-4103-8883-32808027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C0BC6-7CBD-40FC-88C8-9971A247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0F516-7319-4D74-B91D-B8BA5A8D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525FC-9E5B-4774-8620-D40DC65D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B08D9-0E0D-4A2D-9E65-F980DBCC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0FAFE-6087-40BD-A348-D351423D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D70AD-384F-4E70-8C2D-E37A5A91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B7E84-A110-47FD-985E-77DC9CB4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31D5D-80E6-493A-BC81-2A069FBA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A72-AE16-4669-B5C4-E092A5F6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CD64D-0B18-4498-BBD2-37143C13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26B0D-AA22-4DC3-ABA5-EE0409B9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DA5CB-0478-4A78-8967-12293D95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1AD2D-D985-41E7-9E4F-86613802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804FE-F6FE-4CA6-AEA2-0BABBF51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64DCD-BCFA-4987-89E9-812C6FCD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8C3CA-BD87-4D20-8330-21014A15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0ED7D-1A43-4AE2-B555-E1345C5D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1989F-6335-4EC0-A848-7839AD65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1B3BC-7BBA-48AF-AE59-CD0D43CB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D85A-B880-48E2-BA14-CD0CDF5F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DD38A-AFA1-4517-B026-82C9E235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2E42C-E375-4C92-A0FD-9A36AFA0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6F4B8-BD94-41F5-9521-D54A22B5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12E94-F68D-45DA-A6C8-DF27194B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C527B-AD14-47D4-89AB-5C3C7BAF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E0A72-F37A-45DB-BBEF-88D35CA5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BCE6B-3EEF-4975-9341-5C13EB29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FB615-C80A-40E9-B2F3-54CE8C9E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267E6-2256-44E8-B2B9-FC6B4379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B2E6A-C60E-491B-A113-54BE58C1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B706-6A30-4418-9F01-3D99E5B1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09594-12E2-4736-80E3-4C13DFA8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48C83-9898-4AAE-93BE-218EDCCB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4DF88-8914-4427-8C7C-B2AB7D07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21D8A-27BC-4F76-B41F-4AB61677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FA55B-FAA7-4AC3-A0E3-A190CB8A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FEACB-5161-416E-B25D-203B4B0B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B9276-230E-4024-A26E-1F3FA9A9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EF927-BF11-4117-A557-C5E1DDD5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4F9B2-E811-4247-B380-F3987C57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4FBA3-D877-4DBC-A57C-0B28B984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C323-5A1C-4A3F-847C-C71E3C2FB3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DE52-5F78-4B25-924D-6B3624D7CC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A337-3F4D-40F5-B3AD-340F8589B1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8660-5834-4E90-B854-4619188EC7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908B-00CE-4F95-9872-9755AA6140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894F-3F9A-4DAE-B1DE-629290D496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5CFD-DB99-4CD4-9BE6-1877FED343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6322-89BF-41CF-807E-555EEC4640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5F16-32E8-4CEF-B5DD-6B49360CF0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BC38-C819-43AD-B5B6-F950D570DE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9BA7-BD0B-41B2-AB32-06377BDE4F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A9F0-57B6-45EF-A656-0A2426B9DB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0B55-363C-4ECA-81A3-74A811F576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6F5F-CA48-4BA1-AF31-C28BDA31F1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7E47-CDB2-4078-A514-3C0C48B712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4D17-8E37-4EDD-8AFE-110D1490D5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BC77-CAD1-469B-85E4-E0CCBC57CC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8FDD-9556-4629-AAB3-5B9E3D7599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8B90-B3AA-497F-938B-9A28F54356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275F-D8CB-4B2A-8271-E9255208AB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ECD0-FC66-4773-AC6D-AC020688C4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14BC-E20C-4E8F-806F-CAE9D30DAF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9A3A-91A1-4A90-8C1F-79286F7528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C43A-FA58-4E4A-828E-754F8D05CD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7ECD-FB75-40FB-BAB3-6608DCBF3C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462F-D4B3-4938-B877-6D1176C859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2FE5-A53C-4F4A-B85C-143EED223A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42DF-E543-4659-86D5-754B088224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860C-1698-4921-8B13-FC441BED00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8D51-2DE6-4F32-9DEA-69BB6256CB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252F-8F05-4A7C-A797-FE2BD4526E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6BB3-3325-4ADF-A14D-87A901D300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02F1-835D-4AF3-91CB-ABC3B3BED4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5747-01ED-4ADF-9978-5E0CCEC7B4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1493-40B4-40A4-91E6-E95FF4A0B4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341A-1989-4E02-92B8-AFF3FDBC17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52E2-13A1-4FDB-A0E1-B7E909E963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1193-3442-4ECB-9C2B-EC2E272546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C40C-CDF9-40AF-A6BB-C8BDA51D34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BA54-C228-412B-B76D-9628FE5764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166760" y="2952720"/>
            <a:ext cx="68104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69633" descr=""/>
          <p:cNvPicPr/>
          <p:nvPr/>
        </p:nvPicPr>
        <p:blipFill>
          <a:blip r:embed="rId1"/>
          <a:stretch/>
        </p:blipFill>
        <p:spPr>
          <a:xfrm>
            <a:off x="324000" y="658800"/>
            <a:ext cx="8496000" cy="601020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69635" descr=""/>
          <p:cNvPicPr/>
          <p:nvPr/>
        </p:nvPicPr>
        <p:blipFill>
          <a:blip r:embed="rId2"/>
          <a:stretch/>
        </p:blipFill>
        <p:spPr>
          <a:xfrm>
            <a:off x="2160720" y="3865680"/>
            <a:ext cx="5867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129440" cy="6464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012000" y="2685960"/>
            <a:ext cx="1066680" cy="3841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792440" y="6280200"/>
            <a:ext cx="1066680" cy="3841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249880" y="5819760"/>
            <a:ext cx="106668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619200" y="1614600"/>
            <a:ext cx="790560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8373" descr=""/>
          <p:cNvPicPr/>
          <p:nvPr/>
        </p:nvPicPr>
        <p:blipFill>
          <a:blip r:embed="rId1"/>
          <a:stretch/>
        </p:blipFill>
        <p:spPr>
          <a:xfrm>
            <a:off x="266760" y="992160"/>
            <a:ext cx="861048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7352" descr=""/>
          <p:cNvPicPr/>
          <p:nvPr/>
        </p:nvPicPr>
        <p:blipFill>
          <a:blip r:embed="rId1"/>
          <a:stretch/>
        </p:blipFill>
        <p:spPr>
          <a:xfrm>
            <a:off x="933480" y="819000"/>
            <a:ext cx="7277040" cy="5220000"/>
          </a:xfrm>
          <a:prstGeom prst="rect">
            <a:avLst/>
          </a:prstGeom>
          <a:ln w="0">
            <a:noFill/>
          </a:ln>
        </p:spPr>
      </p:pic>
      <p:pic>
        <p:nvPicPr>
          <p:cNvPr id="929" name="图片 57353" descr=""/>
          <p:cNvPicPr/>
          <p:nvPr/>
        </p:nvPicPr>
        <p:blipFill>
          <a:blip r:embed="rId2"/>
          <a:stretch/>
        </p:blipFill>
        <p:spPr>
          <a:xfrm>
            <a:off x="900000" y="723960"/>
            <a:ext cx="679140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6324" descr=""/>
          <p:cNvPicPr/>
          <p:nvPr/>
        </p:nvPicPr>
        <p:blipFill>
          <a:blip r:embed="rId1"/>
          <a:stretch/>
        </p:blipFill>
        <p:spPr>
          <a:xfrm>
            <a:off x="290520" y="1538280"/>
            <a:ext cx="8562960" cy="37814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1332000" y="299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2195640" y="299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2584440" y="3616200"/>
            <a:ext cx="36036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3276720" y="36162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6"/>
          <a:stretch/>
        </p:blipFill>
        <p:spPr>
          <a:xfrm>
            <a:off x="3506760" y="4221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7"/>
          <a:stretch/>
        </p:blipFill>
        <p:spPr>
          <a:xfrm>
            <a:off x="4370400" y="4221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8"/>
          <a:stretch/>
        </p:blipFill>
        <p:spPr>
          <a:xfrm>
            <a:off x="4427640" y="48974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9"/>
          <a:stretch/>
        </p:blipFill>
        <p:spPr>
          <a:xfrm>
            <a:off x="5291280" y="4897440"/>
            <a:ext cx="502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5300" descr=""/>
          <p:cNvPicPr/>
          <p:nvPr/>
        </p:nvPicPr>
        <p:blipFill>
          <a:blip r:embed="rId1"/>
          <a:stretch/>
        </p:blipFill>
        <p:spPr>
          <a:xfrm>
            <a:off x="1724040" y="995400"/>
            <a:ext cx="569592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4276" descr=""/>
          <p:cNvPicPr/>
          <p:nvPr/>
        </p:nvPicPr>
        <p:blipFill>
          <a:blip r:embed="rId1"/>
          <a:stretch/>
        </p:blipFill>
        <p:spPr>
          <a:xfrm>
            <a:off x="299880" y="223920"/>
            <a:ext cx="8544240" cy="641016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54278" descr=""/>
          <p:cNvPicPr/>
          <p:nvPr/>
        </p:nvPicPr>
        <p:blipFill>
          <a:blip r:embed="rId2"/>
          <a:stretch/>
        </p:blipFill>
        <p:spPr>
          <a:xfrm>
            <a:off x="1476360" y="1474920"/>
            <a:ext cx="68864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2231" descr=""/>
          <p:cNvPicPr/>
          <p:nvPr/>
        </p:nvPicPr>
        <p:blipFill>
          <a:blip r:embed="rId1"/>
          <a:stretch/>
        </p:blipFill>
        <p:spPr>
          <a:xfrm>
            <a:off x="585720" y="976320"/>
            <a:ext cx="79725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0:43:0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